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Arial"/>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F2CE2-B513-4143-A47F-460C0F1F50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F4B49-C6FC-4314-9FAA-7ADC5F642890}"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D2EE9-11A9-41F5-89D4-0A905983943A}"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monstrate reflections, you could have students use chalk or charcoal from the art department to draw a polygon in one quadrant of a coordinate grid and then have them fold along the indicated axis.  If they rub the back of the paper while it is folded, they will get the reflection in the opposite quadrant.  Have students name the ordered pairs in this figure as well as the reflections.  Ask them what they notice about the coordinates.  Hopefully they will recognize that when crossing the x-axis the y coordinates changed signed, and when crossing the y-axis the x coordinates changed signs. Be sure they understand that a reflection places the figure in the mirror image on the opposite side of the line of reflection.  Be sure to get student ideas about alternatives to counting before moving to the next slid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18EF2-FB40-43E5-B61C-FD59EBB3F3F8}"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ight want to pass out papers with preprinted coordinate grids so that students can focus more on the placement of the coordinates than on the construction of a coordinate gri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1407D-A019-46BD-A459-EFFE9AE88F7C}"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uld be done as classwork instead of the game if you pref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AB6AD0-A411-4B8E-B7CA-0C66292EC6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54EE99-2F6E-4135-AB50-3AD415B6F4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1EFDEB-4CD4-4E55-9306-1C97684227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957EA6-01BC-45E6-B2B4-29453EA0A6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33A2C8-CAF9-48AF-80F4-6EF3F4E138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BBD69D-FF13-4737-B37C-5CA40857EE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93F1D1-7D60-49B8-B1F0-8C95C780F8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E3A0D6-6A40-4276-81D3-8CA3F7FA3D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6BCF41-8E23-4AB6-AB88-ED8E8EC753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9904C0-A6A7-464C-B541-DEA1815CA8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E49304-D9FA-4769-9E0E-DA8AC33045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117B10-AD94-4843-AEC9-41F90B55FC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866A13-F757-492F-BFEC-43ADC53FED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F36473-EE02-49BB-BE1B-5B7E15FF93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7B280C-2182-49BE-B17A-8F368FD748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72FC77-63EF-4381-BB41-58A46DFA4E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C612E7-0F0A-40A4-AE40-FCE8D206A6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C571BB-CFEB-4C1B-9F05-D7902F8D02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241AAE-77C1-48E3-89AC-B796FCABF2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57C32B-DDED-4FA5-BD2F-60EC1A12EF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EF0A46-383B-422A-8EA9-6620C9478C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C15B3-B145-4C3A-A561-6ACC8F13AF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C5B50-DA7D-481C-B116-2CA2F95FFA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0A1A8-465D-4367-8701-E71F2AE149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2560" cy="6856560"/>
            <a:chOff x="0" y="0"/>
            <a:chExt cx="9142560" cy="6856560"/>
          </a:xfrm>
        </p:grpSpPr>
        <p:sp>
          <p:nvSpPr>
            <p:cNvPr id="1" name="Freeform 3"/>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2" name="Group 4"/>
            <p:cNvGrpSpPr/>
            <p:nvPr/>
          </p:nvGrpSpPr>
          <p:grpSpPr>
            <a:xfrm>
              <a:off x="0" y="0"/>
              <a:ext cx="9142560" cy="6856560"/>
              <a:chOff x="0" y="0"/>
              <a:chExt cx="9142560" cy="6856560"/>
            </a:xfrm>
          </p:grpSpPr>
          <p:sp>
            <p:nvSpPr>
              <p:cNvPr id="3" name="Freeform 5"/>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4" name="Freeform 6"/>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5" name="Freeform 7"/>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6" name="Freeform 8"/>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7" name="Freeform 9"/>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8" name="Freeform 10"/>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9" name="Freeform 11"/>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0" name="Freeform 12"/>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 name="Freeform 13"/>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 name="Freeform 14"/>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 name="Freeform 15"/>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4" name="Freeform 16"/>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5" name="Freeform 17"/>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6" name="Freeform 18"/>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7" name="Freeform 19"/>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8" name="Freeform 20"/>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9" name="Freeform 21"/>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20" name="Freeform 22"/>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21" name="Freeform 23"/>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2" name="Freeform 24"/>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23" name="Freeform 25"/>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4" name="Freeform 26"/>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5" name="Freeform 27"/>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6" name="Freeform 28"/>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7" name="Freeform 29"/>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28" name="Group 30"/>
              <p:cNvGrpSpPr/>
              <p:nvPr/>
            </p:nvGrpSpPr>
            <p:grpSpPr>
              <a:xfrm>
                <a:off x="0" y="0"/>
                <a:ext cx="9140760" cy="1658880"/>
                <a:chOff x="0" y="0"/>
                <a:chExt cx="9140760" cy="1658880"/>
              </a:xfrm>
            </p:grpSpPr>
            <p:sp>
              <p:nvSpPr>
                <p:cNvPr id="29" name="Freeform 31"/>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 name="Freeform 32"/>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1" name="Freeform 33"/>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 name="Freeform 34"/>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 name="Freeform 35"/>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4" name="Freeform 36"/>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5" name="Freeform 37"/>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6" name="Freeform 38"/>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 name="Freeform 39"/>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8" name="Freeform 40"/>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 name="Freeform 41"/>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0" name="Freeform 42"/>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 name="Freeform 43"/>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 name="Freeform 44"/>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3" name="Freeform 45"/>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4" name="Group 46"/>
              <p:cNvGrpSpPr/>
              <p:nvPr/>
            </p:nvGrpSpPr>
            <p:grpSpPr>
              <a:xfrm>
                <a:off x="0" y="885960"/>
                <a:ext cx="9140760" cy="772920"/>
                <a:chOff x="0" y="885960"/>
                <a:chExt cx="9140760" cy="772920"/>
              </a:xfrm>
            </p:grpSpPr>
            <p:sp>
              <p:nvSpPr>
                <p:cNvPr id="45" name="Freeform 47"/>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6" name="Freeform 48"/>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7" name="Group 49"/>
              <p:cNvGrpSpPr/>
              <p:nvPr/>
            </p:nvGrpSpPr>
            <p:grpSpPr>
              <a:xfrm>
                <a:off x="419040" y="1649520"/>
                <a:ext cx="8255160" cy="5207040"/>
                <a:chOff x="419040" y="1649520"/>
                <a:chExt cx="8255160" cy="5207040"/>
              </a:xfrm>
            </p:grpSpPr>
            <p:sp>
              <p:nvSpPr>
                <p:cNvPr id="48" name="Freeform 50"/>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9" name="Freeform 51"/>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 name="Freeform 52"/>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 name="Freeform 53"/>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2" name="Freeform 54"/>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3" name="Freeform 55"/>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4" name="Freeform 56"/>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5" name="Freeform 57"/>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 name="Freeform 58"/>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57" name="Freeform 59"/>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8" name="Freeform 60"/>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Freeform 61"/>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0" name="Freeform 62"/>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1" name="Freeform 63"/>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Freeform 64"/>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Freeform 65"/>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Freeform 66"/>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7755C-78F2-49C6-83F7-96006381867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106" name="Group 2"/>
          <p:cNvGrpSpPr/>
          <p:nvPr/>
        </p:nvGrpSpPr>
        <p:grpSpPr>
          <a:xfrm>
            <a:off x="0" y="0"/>
            <a:ext cx="9142560" cy="6856560"/>
            <a:chOff x="0" y="0"/>
            <a:chExt cx="9142560" cy="6856560"/>
          </a:xfrm>
        </p:grpSpPr>
        <p:sp>
          <p:nvSpPr>
            <p:cNvPr id="107" name="Freeform 3"/>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08" name="Group 4"/>
            <p:cNvGrpSpPr/>
            <p:nvPr/>
          </p:nvGrpSpPr>
          <p:grpSpPr>
            <a:xfrm>
              <a:off x="0" y="0"/>
              <a:ext cx="9142560" cy="6856560"/>
              <a:chOff x="0" y="0"/>
              <a:chExt cx="9142560" cy="6856560"/>
            </a:xfrm>
          </p:grpSpPr>
          <p:sp>
            <p:nvSpPr>
              <p:cNvPr id="109" name="Freeform 5"/>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10" name="Freeform 6"/>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111" name="Freeform 7"/>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12" name="Freeform 8"/>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3" name="Freeform 9"/>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114" name="Freeform 10"/>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5" name="Freeform 11"/>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6" name="Freeform 12"/>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7" name="Freeform 13"/>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18" name="Freeform 14"/>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19" name="Freeform 15"/>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0" name="Freeform 16"/>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1" name="Freeform 17"/>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2" name="Freeform 18"/>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3" name="Freeform 19"/>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4" name="Freeform 20"/>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5" name="Freeform 21"/>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6" name="Freeform 22"/>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27" name="Freeform 23"/>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8" name="Freeform 24"/>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9" name="Freeform 25"/>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0" name="Freeform 26"/>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1" name="Freeform 27"/>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2" name="Freeform 28"/>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3" name="Freeform 29"/>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134" name="Group 30"/>
              <p:cNvGrpSpPr/>
              <p:nvPr/>
            </p:nvGrpSpPr>
            <p:grpSpPr>
              <a:xfrm>
                <a:off x="0" y="0"/>
                <a:ext cx="9140760" cy="1658880"/>
                <a:chOff x="0" y="0"/>
                <a:chExt cx="9140760" cy="1658880"/>
              </a:xfrm>
            </p:grpSpPr>
            <p:sp>
              <p:nvSpPr>
                <p:cNvPr id="135" name="Freeform 31"/>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6" name="Freeform 32"/>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7" name="Freeform 33"/>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8" name="Freeform 34"/>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9" name="Freeform 35"/>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0" name="Freeform 36"/>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1" name="Freeform 37"/>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2" name="Freeform 38"/>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3" name="Freeform 39"/>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4" name="Freeform 40"/>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5" name="Freeform 41"/>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6" name="Freeform 42"/>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7" name="Freeform 43"/>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8" name="Freeform 44"/>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9" name="Freeform 45"/>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0" name="Group 46"/>
              <p:cNvGrpSpPr/>
              <p:nvPr/>
            </p:nvGrpSpPr>
            <p:grpSpPr>
              <a:xfrm>
                <a:off x="0" y="885960"/>
                <a:ext cx="9140760" cy="772920"/>
                <a:chOff x="0" y="885960"/>
                <a:chExt cx="9140760" cy="772920"/>
              </a:xfrm>
            </p:grpSpPr>
            <p:sp>
              <p:nvSpPr>
                <p:cNvPr id="151" name="Freeform 47"/>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2" name="Freeform 48"/>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3" name="Group 49"/>
              <p:cNvGrpSpPr/>
              <p:nvPr/>
            </p:nvGrpSpPr>
            <p:grpSpPr>
              <a:xfrm>
                <a:off x="419040" y="1649520"/>
                <a:ext cx="8255160" cy="5207040"/>
                <a:chOff x="419040" y="1649520"/>
                <a:chExt cx="8255160" cy="5207040"/>
              </a:xfrm>
            </p:grpSpPr>
            <p:sp>
              <p:nvSpPr>
                <p:cNvPr id="154" name="Freeform 50"/>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5" name="Freeform 51"/>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6" name="Freeform 52"/>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7" name="Freeform 53"/>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8" name="Freeform 54"/>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9" name="Freeform 55"/>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 name="Freeform 56"/>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1" name="Freeform 57"/>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2" name="Freeform 58"/>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3" name="Freeform 59"/>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4" name="Freeform 60"/>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5" name="Freeform 61"/>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6" name="Freeform 62"/>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7" name="Freeform 63"/>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8" name="Freeform 64"/>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9" name="Freeform 65"/>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0" name="Freeform 66"/>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17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2" name="PlaceHolder 2"/>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73" name="PlaceHolder 3"/>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4" name="PlaceHolder 4"/>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5" name="PlaceHolder 5"/>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E581D-5AE7-4639-A07B-90D5BCA79BB9}" type="slidenum">
              <a:rPr b="0" lang="en-US" sz="1000" spc="-1" strike="noStrike">
                <a:solidFill>
                  <a:srgbClr val="eaeaea"/>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219" name="Text Box 3"/>
          <p:cNvSpPr/>
          <p:nvPr/>
        </p:nvSpPr>
        <p:spPr>
          <a:xfrm>
            <a:off x="228600" y="1066680"/>
            <a:ext cx="8534520" cy="3567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eaeaea"/>
                </a:solidFill>
                <a:uFillTx/>
                <a:latin typeface="Arial"/>
              </a:rPr>
              <a:t>Warm-up</a:t>
            </a:r>
            <a:r>
              <a:rPr b="1" lang="en-US" sz="3200" spc="-1" strike="noStrike">
                <a:solidFill>
                  <a:srgbClr val="eaeaea"/>
                </a:solidFill>
                <a:latin typeface="Arial"/>
              </a:rPr>
              <a:t>:  Find the length of each side</a:t>
            </a:r>
            <a:endParaRPr b="0" lang="en-US" sz="3200" spc="-1" strike="noStrike">
              <a:solidFill>
                <a:srgbClr val="eaeaea"/>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buClr>
                <a:srgbClr val="eaeae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 </a:t>
            </a:r>
            <a:r>
              <a:rPr b="1" lang="en-US" sz="3200" spc="-1" strike="noStrike">
                <a:solidFill>
                  <a:srgbClr val="eaeaea"/>
                </a:solidFill>
                <a:latin typeface="Arial"/>
              </a:rPr>
              <a:t>Side 1 has coordinates (0, 5) and (0, -3)</a:t>
            </a:r>
            <a:endParaRPr b="0" lang="en-US" sz="3200" spc="-1" strike="noStrike">
              <a:solidFill>
                <a:srgbClr val="eaeaea"/>
              </a:solidFill>
              <a:latin typeface="Arial"/>
            </a:endParaRPr>
          </a:p>
          <a:p>
            <a:pPr marL="343080" indent="-343080">
              <a:buClr>
                <a:srgbClr val="eaeae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buClr>
                <a:srgbClr val="eaeae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 </a:t>
            </a:r>
            <a:r>
              <a:rPr b="1" lang="en-US" sz="3200" spc="-1" strike="noStrike">
                <a:solidFill>
                  <a:srgbClr val="eaeaea"/>
                </a:solidFill>
                <a:latin typeface="Arial"/>
              </a:rPr>
              <a:t>Side 2 has coordinates (8, 4) and (2, 4)</a:t>
            </a:r>
            <a:endParaRPr b="0" lang="en-US" sz="3200" spc="-1" strike="noStrike">
              <a:solidFill>
                <a:srgbClr val="eaeaea"/>
              </a:solidFill>
              <a:latin typeface="Arial"/>
            </a:endParaRPr>
          </a:p>
          <a:p>
            <a:pPr marL="343080" indent="-343080">
              <a:buClr>
                <a:srgbClr val="eaeae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buClr>
                <a:srgbClr val="eaeae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 </a:t>
            </a:r>
            <a:r>
              <a:rPr b="1" lang="en-US" sz="3200" spc="-1" strike="noStrike">
                <a:solidFill>
                  <a:srgbClr val="eaeaea"/>
                </a:solidFill>
                <a:latin typeface="Arial"/>
              </a:rPr>
              <a:t>Side 3 has coordinates (-7, 3) and (-18, 3)</a:t>
            </a:r>
            <a:endParaRPr b="0" lang="en-US" sz="3200" spc="-1" strike="noStrike">
              <a:solidFill>
                <a:srgbClr val="eaeaea"/>
              </a:solidFill>
              <a:latin typeface="Arial"/>
            </a:endParaRPr>
          </a:p>
        </p:txBody>
      </p:sp>
      <p:sp>
        <p:nvSpPr>
          <p:cNvPr id="220" name=""/>
          <p:cNvSpPr/>
          <p:nvPr/>
        </p:nvSpPr>
        <p:spPr>
          <a:xfrm>
            <a:off x="5776920" y="1857240"/>
            <a:ext cx="339840" cy="849600"/>
          </a:xfrm>
          <a:custGeom>
            <a:avLst/>
            <a:gdLst/>
            <a:ahLst/>
            <a:rect l="l" t="t" r="r" b="b"/>
            <a:pathLst>
              <a:path w="943" h="2358">
                <a:moveTo>
                  <a:pt x="16793" y="5159"/>
                </a:moveTo>
                <a:cubicBezTo>
                  <a:pt x="16708" y="5159"/>
                  <a:pt x="16634" y="5182"/>
                  <a:pt x="16545" y="5184"/>
                </a:cubicBezTo>
                <a:cubicBezTo>
                  <a:pt x="16425" y="5187"/>
                  <a:pt x="16363" y="5145"/>
                  <a:pt x="16346" y="5283"/>
                </a:cubicBezTo>
                <a:cubicBezTo>
                  <a:pt x="16340" y="5330"/>
                  <a:pt x="16346" y="5384"/>
                  <a:pt x="16346" y="5432"/>
                </a:cubicBezTo>
                <a:cubicBezTo>
                  <a:pt x="16444" y="5412"/>
                  <a:pt x="16488" y="5342"/>
                  <a:pt x="16594" y="5383"/>
                </a:cubicBezTo>
                <a:cubicBezTo>
                  <a:pt x="16824" y="5473"/>
                  <a:pt x="16528" y="5682"/>
                  <a:pt x="16421" y="5705"/>
                </a:cubicBezTo>
                <a:cubicBezTo>
                  <a:pt x="16315" y="5705"/>
                  <a:pt x="16286" y="5692"/>
                  <a:pt x="16247" y="5755"/>
                </a:cubicBezTo>
              </a:path>
              <a:path w="943" h="2358">
                <a:moveTo>
                  <a:pt x="16123" y="6325"/>
                </a:moveTo>
                <a:cubicBezTo>
                  <a:pt x="16123" y="6549"/>
                  <a:pt x="16096" y="6773"/>
                  <a:pt x="16073" y="6995"/>
                </a:cubicBezTo>
                <a:cubicBezTo>
                  <a:pt x="16060" y="7120"/>
                  <a:pt x="16026" y="7195"/>
                  <a:pt x="16073" y="7293"/>
                </a:cubicBezTo>
              </a:path>
              <a:path w="943" h="2358">
                <a:moveTo>
                  <a:pt x="16991" y="6226"/>
                </a:moveTo>
                <a:cubicBezTo>
                  <a:pt x="16991" y="6085"/>
                  <a:pt x="16998" y="6458"/>
                  <a:pt x="16991" y="6598"/>
                </a:cubicBezTo>
                <a:cubicBezTo>
                  <a:pt x="16976" y="6879"/>
                  <a:pt x="16833" y="7238"/>
                  <a:pt x="16892" y="7516"/>
                </a:cubicBezTo>
                <a:cubicBezTo>
                  <a:pt x="16900" y="7508"/>
                  <a:pt x="16909" y="7499"/>
                  <a:pt x="16917" y="7491"/>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21" name=""/>
          <p:cNvSpPr/>
          <p:nvPr/>
        </p:nvSpPr>
        <p:spPr>
          <a:xfrm>
            <a:off x="5322960" y="3714840"/>
            <a:ext cx="490320" cy="965160"/>
          </a:xfrm>
          <a:custGeom>
            <a:avLst/>
            <a:gdLst/>
            <a:ahLst/>
            <a:rect l="l" t="t" r="r" b="b"/>
            <a:pathLst>
              <a:path w="1365" h="2680">
                <a:moveTo>
                  <a:pt x="14982" y="11708"/>
                </a:moveTo>
                <a:cubicBezTo>
                  <a:pt x="14982" y="12098"/>
                  <a:pt x="14922" y="12469"/>
                  <a:pt x="14833" y="12849"/>
                </a:cubicBezTo>
                <a:cubicBezTo>
                  <a:pt x="14797" y="12959"/>
                  <a:pt x="14752" y="13038"/>
                  <a:pt x="14808" y="12973"/>
                </a:cubicBezTo>
              </a:path>
              <a:path w="1365" h="2680">
                <a:moveTo>
                  <a:pt x="16098" y="11509"/>
                </a:moveTo>
                <a:cubicBezTo>
                  <a:pt x="16052" y="11876"/>
                  <a:pt x="15991" y="12237"/>
                  <a:pt x="15925" y="12601"/>
                </a:cubicBezTo>
                <a:cubicBezTo>
                  <a:pt x="15910" y="12683"/>
                  <a:pt x="15900" y="12833"/>
                  <a:pt x="15900" y="12750"/>
                </a:cubicBezTo>
              </a:path>
              <a:path w="1365" h="2680">
                <a:moveTo>
                  <a:pt x="15429" y="10393"/>
                </a:moveTo>
                <a:cubicBezTo>
                  <a:pt x="15590" y="10491"/>
                  <a:pt x="15860" y="10334"/>
                  <a:pt x="16049" y="10319"/>
                </a:cubicBezTo>
                <a:cubicBezTo>
                  <a:pt x="16082" y="10327"/>
                  <a:pt x="16115" y="10336"/>
                  <a:pt x="16148" y="10344"/>
                </a:cubicBezTo>
                <a:cubicBezTo>
                  <a:pt x="16083" y="10593"/>
                  <a:pt x="16002" y="10834"/>
                  <a:pt x="15949" y="11088"/>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22" name=""/>
          <p:cNvSpPr/>
          <p:nvPr/>
        </p:nvSpPr>
        <p:spPr>
          <a:xfrm>
            <a:off x="8474040" y="2768760"/>
            <a:ext cx="509760" cy="536400"/>
          </a:xfrm>
          <a:custGeom>
            <a:avLst/>
            <a:gdLst/>
            <a:ahLst/>
            <a:rect l="l" t="t" r="r" b="b"/>
            <a:pathLst>
              <a:path w="1415" h="1490">
                <a:moveTo>
                  <a:pt x="24135" y="8136"/>
                </a:moveTo>
                <a:cubicBezTo>
                  <a:pt x="24135" y="8048"/>
                  <a:pt x="24091" y="8251"/>
                  <a:pt x="24061" y="8334"/>
                </a:cubicBezTo>
                <a:cubicBezTo>
                  <a:pt x="24018" y="8454"/>
                  <a:pt x="23899" y="8835"/>
                  <a:pt x="24185" y="8806"/>
                </a:cubicBezTo>
                <a:cubicBezTo>
                  <a:pt x="24408" y="8784"/>
                  <a:pt x="24467" y="8626"/>
                  <a:pt x="24408" y="8458"/>
                </a:cubicBezTo>
                <a:cubicBezTo>
                  <a:pt x="24239" y="8497"/>
                  <a:pt x="24165" y="8584"/>
                  <a:pt x="24110" y="8756"/>
                </a:cubicBezTo>
                <a:cubicBezTo>
                  <a:pt x="24110" y="8789"/>
                  <a:pt x="24118" y="8798"/>
                  <a:pt x="24160" y="8781"/>
                </a:cubicBezTo>
              </a:path>
              <a:path w="1415" h="1490">
                <a:moveTo>
                  <a:pt x="23763" y="9079"/>
                </a:moveTo>
                <a:cubicBezTo>
                  <a:pt x="23950" y="9177"/>
                  <a:pt x="24140" y="9218"/>
                  <a:pt x="24358" y="9153"/>
                </a:cubicBezTo>
                <a:cubicBezTo>
                  <a:pt x="24629" y="9072"/>
                  <a:pt x="24799" y="8808"/>
                  <a:pt x="24904" y="8558"/>
                </a:cubicBezTo>
                <a:cubicBezTo>
                  <a:pt x="24999" y="8330"/>
                  <a:pt x="24946" y="8028"/>
                  <a:pt x="24755" y="7863"/>
                </a:cubicBezTo>
                <a:cubicBezTo>
                  <a:pt x="24570" y="7704"/>
                  <a:pt x="24269" y="7634"/>
                  <a:pt x="24036" y="7714"/>
                </a:cubicBezTo>
                <a:cubicBezTo>
                  <a:pt x="23779" y="7802"/>
                  <a:pt x="23656" y="8095"/>
                  <a:pt x="23589" y="8334"/>
                </a:cubicBezTo>
                <a:cubicBezTo>
                  <a:pt x="23505" y="8634"/>
                  <a:pt x="23539" y="8974"/>
                  <a:pt x="23862" y="9103"/>
                </a:cubicBezTo>
                <a:cubicBezTo>
                  <a:pt x="24012" y="9163"/>
                  <a:pt x="24100" y="9102"/>
                  <a:pt x="24234" y="9054"/>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23" name=""/>
          <p:cNvSpPr/>
          <p:nvPr/>
        </p:nvSpPr>
        <p:spPr>
          <a:xfrm>
            <a:off x="7385040" y="3732120"/>
            <a:ext cx="687240" cy="974880"/>
          </a:xfrm>
          <a:custGeom>
            <a:avLst/>
            <a:gdLst/>
            <a:ahLst/>
            <a:rect l="l" t="t" r="r" b="b"/>
            <a:pathLst>
              <a:path w="1911" h="2705">
                <a:moveTo>
                  <a:pt x="20737" y="11658"/>
                </a:moveTo>
                <a:cubicBezTo>
                  <a:pt x="20687" y="12058"/>
                  <a:pt x="20605" y="12452"/>
                  <a:pt x="20538" y="12849"/>
                </a:cubicBezTo>
                <a:cubicBezTo>
                  <a:pt x="20490" y="13136"/>
                  <a:pt x="20476" y="13099"/>
                  <a:pt x="20662" y="12923"/>
                </a:cubicBezTo>
              </a:path>
              <a:path w="1911" h="2705">
                <a:moveTo>
                  <a:pt x="22423" y="11460"/>
                </a:moveTo>
                <a:cubicBezTo>
                  <a:pt x="22355" y="11801"/>
                  <a:pt x="22245" y="12147"/>
                  <a:pt x="22126" y="12477"/>
                </a:cubicBezTo>
                <a:cubicBezTo>
                  <a:pt x="22083" y="12595"/>
                  <a:pt x="22027" y="12715"/>
                  <a:pt x="21977" y="12824"/>
                </a:cubicBezTo>
              </a:path>
              <a:path w="1911" h="2705">
                <a:moveTo>
                  <a:pt x="21158" y="10368"/>
                </a:moveTo>
                <a:cubicBezTo>
                  <a:pt x="21110" y="10638"/>
                  <a:pt x="21055" y="10904"/>
                  <a:pt x="20960" y="11162"/>
                </a:cubicBezTo>
                <a:cubicBezTo>
                  <a:pt x="20968" y="11137"/>
                  <a:pt x="20977" y="11113"/>
                  <a:pt x="20985" y="11088"/>
                </a:cubicBezTo>
              </a:path>
              <a:path w="1911" h="2705">
                <a:moveTo>
                  <a:pt x="21605" y="10468"/>
                </a:moveTo>
                <a:cubicBezTo>
                  <a:pt x="21459" y="10645"/>
                  <a:pt x="21418" y="10633"/>
                  <a:pt x="21580" y="10790"/>
                </a:cubicBezTo>
                <a:cubicBezTo>
                  <a:pt x="21682" y="10892"/>
                  <a:pt x="21715" y="10928"/>
                  <a:pt x="21704" y="11038"/>
                </a:cubicBezTo>
                <a:cubicBezTo>
                  <a:pt x="21612" y="11154"/>
                  <a:pt x="21589" y="11193"/>
                  <a:pt x="21481" y="11187"/>
                </a:cubicBezTo>
                <a:cubicBezTo>
                  <a:pt x="21493" y="10895"/>
                  <a:pt x="21656" y="10714"/>
                  <a:pt x="21779" y="10443"/>
                </a:cubicBezTo>
                <a:cubicBezTo>
                  <a:pt x="21800" y="10397"/>
                  <a:pt x="21717" y="10459"/>
                  <a:pt x="21679" y="10492"/>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24" name=""/>
          <p:cNvSpPr/>
          <p:nvPr/>
        </p:nvSpPr>
        <p:spPr>
          <a:xfrm>
            <a:off x="6180120" y="4741920"/>
            <a:ext cx="303120" cy="357120"/>
          </a:xfrm>
          <a:custGeom>
            <a:avLst/>
            <a:gdLst/>
            <a:ahLst/>
            <a:rect l="l" t="t" r="r" b="b"/>
            <a:pathLst>
              <a:path w="844" h="993">
                <a:moveTo>
                  <a:pt x="17314" y="13295"/>
                </a:moveTo>
                <a:cubicBezTo>
                  <a:pt x="17293" y="13564"/>
                  <a:pt x="17253" y="13827"/>
                  <a:pt x="17190" y="14089"/>
                </a:cubicBezTo>
                <a:cubicBezTo>
                  <a:pt x="17153" y="14198"/>
                  <a:pt x="17159" y="14189"/>
                  <a:pt x="17239" y="13990"/>
                </a:cubicBezTo>
              </a:path>
              <a:path w="844" h="993">
                <a:moveTo>
                  <a:pt x="17959" y="13171"/>
                </a:moveTo>
                <a:cubicBezTo>
                  <a:pt x="17842" y="13324"/>
                  <a:pt x="17664" y="13450"/>
                  <a:pt x="17810" y="13618"/>
                </a:cubicBezTo>
                <a:cubicBezTo>
                  <a:pt x="18007" y="13845"/>
                  <a:pt x="18066" y="13909"/>
                  <a:pt x="17835" y="14114"/>
                </a:cubicBezTo>
                <a:cubicBezTo>
                  <a:pt x="17746" y="13830"/>
                  <a:pt x="17944" y="13629"/>
                  <a:pt x="18008" y="13345"/>
                </a:cubicBezTo>
                <a:cubicBezTo>
                  <a:pt x="18092" y="12970"/>
                  <a:pt x="17832" y="13364"/>
                  <a:pt x="17810" y="13395"/>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25" name=""/>
          <p:cNvSpPr/>
          <p:nvPr/>
        </p:nvSpPr>
        <p:spPr>
          <a:xfrm>
            <a:off x="5973840" y="5232240"/>
            <a:ext cx="152280" cy="54000"/>
          </a:xfrm>
          <a:custGeom>
            <a:avLst/>
            <a:gdLst/>
            <a:ahLst/>
            <a:rect l="l" t="t" r="r" b="b"/>
            <a:pathLst>
              <a:path w="423" h="149">
                <a:moveTo>
                  <a:pt x="16594" y="14684"/>
                </a:moveTo>
                <a:cubicBezTo>
                  <a:pt x="16806" y="14591"/>
                  <a:pt x="16867" y="14561"/>
                  <a:pt x="17016" y="14536"/>
                </a:cubicBezTo>
              </a:path>
            </a:pathLst>
          </a:custGeom>
          <a:noFill/>
          <a:ln cap="rnd" w="34920">
            <a:solidFill>
              <a:srgbClr val="eaeaea"/>
            </a:solidFill>
            <a:round/>
          </a:ln>
        </p:spPr>
        <p:style>
          <a:lnRef idx="0"/>
          <a:fillRef idx="0"/>
          <a:effectRef idx="0"/>
          <a:fontRef idx="minor"/>
        </p:style>
        <p:txBody>
          <a:bodyPr lIns="90000" rIns="90000" tIns="7200" bIns="7200" anchor="t">
            <a:noAutofit/>
          </a:bodyPr>
          <a:p>
            <a:endParaRPr b="0" lang="en-US" sz="1800" spc="-1" strike="noStrike">
              <a:solidFill>
                <a:srgbClr val="eaeaea"/>
              </a:solidFill>
              <a:latin typeface="Arial"/>
            </a:endParaRPr>
          </a:p>
        </p:txBody>
      </p:sp>
      <p:sp>
        <p:nvSpPr>
          <p:cNvPr id="226" name=""/>
          <p:cNvSpPr/>
          <p:nvPr/>
        </p:nvSpPr>
        <p:spPr>
          <a:xfrm>
            <a:off x="8178840" y="1866960"/>
            <a:ext cx="179280" cy="106200"/>
          </a:xfrm>
          <a:custGeom>
            <a:avLst/>
            <a:gdLst/>
            <a:ahLst/>
            <a:rect l="l" t="t" r="r" b="b"/>
            <a:pathLst>
              <a:path w="497" h="299">
                <a:moveTo>
                  <a:pt x="22721" y="5234"/>
                </a:moveTo>
                <a:cubicBezTo>
                  <a:pt x="22846" y="5213"/>
                  <a:pt x="22967" y="5192"/>
                  <a:pt x="23093" y="5184"/>
                </a:cubicBezTo>
              </a:path>
              <a:path w="497" h="299">
                <a:moveTo>
                  <a:pt x="22721" y="5482"/>
                </a:moveTo>
                <a:cubicBezTo>
                  <a:pt x="22889" y="5428"/>
                  <a:pt x="23044" y="5389"/>
                  <a:pt x="23217" y="5358"/>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27" name=""/>
          <p:cNvSpPr/>
          <p:nvPr/>
        </p:nvSpPr>
        <p:spPr>
          <a:xfrm>
            <a:off x="6607080" y="3017880"/>
            <a:ext cx="196920" cy="27000"/>
          </a:xfrm>
          <a:custGeom>
            <a:avLst/>
            <a:gdLst/>
            <a:ahLst/>
            <a:rect l="l" t="t" r="r" b="b"/>
            <a:pathLst>
              <a:path w="547" h="75">
                <a:moveTo>
                  <a:pt x="18355" y="8458"/>
                </a:moveTo>
                <a:cubicBezTo>
                  <a:pt x="18488" y="8439"/>
                  <a:pt x="18764" y="8353"/>
                  <a:pt x="18876" y="8409"/>
                </a:cubicBezTo>
                <a:cubicBezTo>
                  <a:pt x="18884" y="8417"/>
                  <a:pt x="18893" y="8426"/>
                  <a:pt x="18901" y="8434"/>
                </a:cubicBezTo>
              </a:path>
            </a:pathLst>
          </a:custGeom>
          <a:noFill/>
          <a:ln cap="rnd" w="34920">
            <a:solidFill>
              <a:srgbClr val="eaeaea"/>
            </a:solidFill>
            <a:round/>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228" name=""/>
          <p:cNvSpPr/>
          <p:nvPr/>
        </p:nvSpPr>
        <p:spPr>
          <a:xfrm>
            <a:off x="7323120" y="2955960"/>
            <a:ext cx="177840" cy="196920"/>
          </a:xfrm>
          <a:custGeom>
            <a:avLst/>
            <a:gdLst/>
            <a:ahLst/>
            <a:rect l="l" t="t" r="r" b="b"/>
            <a:pathLst>
              <a:path w="497" h="547">
                <a:moveTo>
                  <a:pt x="20365" y="8260"/>
                </a:moveTo>
                <a:cubicBezTo>
                  <a:pt x="20487" y="8211"/>
                  <a:pt x="20526" y="8194"/>
                  <a:pt x="20613" y="8235"/>
                </a:cubicBezTo>
                <a:cubicBezTo>
                  <a:pt x="20639" y="8447"/>
                  <a:pt x="20486" y="8571"/>
                  <a:pt x="20340" y="8756"/>
                </a:cubicBezTo>
                <a:cubicBezTo>
                  <a:pt x="20513" y="8717"/>
                  <a:pt x="20688" y="8634"/>
                  <a:pt x="20836" y="8533"/>
                </a:cubicBezTo>
                <a:cubicBezTo>
                  <a:pt x="20828" y="8533"/>
                  <a:pt x="20819" y="8533"/>
                  <a:pt x="20811" y="8533"/>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29" name=""/>
          <p:cNvSpPr/>
          <p:nvPr/>
        </p:nvSpPr>
        <p:spPr>
          <a:xfrm>
            <a:off x="7759800" y="1751040"/>
            <a:ext cx="393480" cy="946080"/>
          </a:xfrm>
          <a:custGeom>
            <a:avLst/>
            <a:gdLst/>
            <a:ahLst/>
            <a:rect l="l" t="t" r="r" b="b"/>
            <a:pathLst>
              <a:path w="1093" h="2630">
                <a:moveTo>
                  <a:pt x="21580" y="6300"/>
                </a:moveTo>
                <a:cubicBezTo>
                  <a:pt x="21580" y="6633"/>
                  <a:pt x="21568" y="6961"/>
                  <a:pt x="21555" y="7293"/>
                </a:cubicBezTo>
                <a:cubicBezTo>
                  <a:pt x="21555" y="7408"/>
                  <a:pt x="21555" y="7425"/>
                  <a:pt x="21555" y="7491"/>
                </a:cubicBezTo>
              </a:path>
              <a:path w="1093" h="2630">
                <a:moveTo>
                  <a:pt x="22647" y="6201"/>
                </a:moveTo>
                <a:cubicBezTo>
                  <a:pt x="22609" y="6454"/>
                  <a:pt x="22623" y="6713"/>
                  <a:pt x="22597" y="6970"/>
                </a:cubicBezTo>
                <a:cubicBezTo>
                  <a:pt x="22580" y="7138"/>
                  <a:pt x="22572" y="7297"/>
                  <a:pt x="22572" y="7466"/>
                </a:cubicBezTo>
                <a:cubicBezTo>
                  <a:pt x="22572" y="7420"/>
                  <a:pt x="22560" y="7394"/>
                  <a:pt x="22523" y="7367"/>
                </a:cubicBezTo>
              </a:path>
              <a:path w="1093" h="2630">
                <a:moveTo>
                  <a:pt x="21630" y="5011"/>
                </a:moveTo>
                <a:cubicBezTo>
                  <a:pt x="21676" y="4893"/>
                  <a:pt x="21766" y="4883"/>
                  <a:pt x="21878" y="4862"/>
                </a:cubicBezTo>
                <a:cubicBezTo>
                  <a:pt x="21888" y="5001"/>
                  <a:pt x="21853" y="5160"/>
                  <a:pt x="21704" y="5234"/>
                </a:cubicBezTo>
                <a:cubicBezTo>
                  <a:pt x="21704" y="5226"/>
                  <a:pt x="21704" y="5217"/>
                  <a:pt x="21704" y="5209"/>
                </a:cubicBezTo>
                <a:cubicBezTo>
                  <a:pt x="21812" y="5134"/>
                  <a:pt x="22039" y="5089"/>
                  <a:pt x="21952" y="5333"/>
                </a:cubicBezTo>
                <a:cubicBezTo>
                  <a:pt x="21887" y="5515"/>
                  <a:pt x="21708" y="5507"/>
                  <a:pt x="21555" y="5507"/>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0" name=""/>
          <p:cNvSpPr/>
          <p:nvPr/>
        </p:nvSpPr>
        <p:spPr>
          <a:xfrm>
            <a:off x="8393040" y="1589040"/>
            <a:ext cx="546120" cy="608040"/>
          </a:xfrm>
          <a:custGeom>
            <a:avLst/>
            <a:gdLst/>
            <a:ahLst/>
            <a:rect l="l" t="t" r="r" b="b"/>
            <a:pathLst>
              <a:path w="1514" h="1688">
                <a:moveTo>
                  <a:pt x="24135" y="4837"/>
                </a:moveTo>
                <a:cubicBezTo>
                  <a:pt x="24012" y="4865"/>
                  <a:pt x="23807" y="4909"/>
                  <a:pt x="23738" y="5035"/>
                </a:cubicBezTo>
                <a:cubicBezTo>
                  <a:pt x="23738" y="5060"/>
                  <a:pt x="23738" y="5085"/>
                  <a:pt x="23738" y="5110"/>
                </a:cubicBezTo>
                <a:cubicBezTo>
                  <a:pt x="23885" y="5243"/>
                  <a:pt x="24259" y="5435"/>
                  <a:pt x="24085" y="5680"/>
                </a:cubicBezTo>
                <a:cubicBezTo>
                  <a:pt x="24036" y="5713"/>
                  <a:pt x="23986" y="5746"/>
                  <a:pt x="23937" y="5779"/>
                </a:cubicBezTo>
                <a:cubicBezTo>
                  <a:pt x="23742" y="5570"/>
                  <a:pt x="23901" y="5363"/>
                  <a:pt x="24036" y="5110"/>
                </a:cubicBezTo>
                <a:cubicBezTo>
                  <a:pt x="24130" y="4935"/>
                  <a:pt x="24200" y="4936"/>
                  <a:pt x="24110" y="4936"/>
                </a:cubicBezTo>
              </a:path>
              <a:path w="1514" h="1688">
                <a:moveTo>
                  <a:pt x="23589" y="5779"/>
                </a:moveTo>
                <a:cubicBezTo>
                  <a:pt x="23696" y="5964"/>
                  <a:pt x="23838" y="6117"/>
                  <a:pt x="24085" y="6102"/>
                </a:cubicBezTo>
                <a:cubicBezTo>
                  <a:pt x="24377" y="6084"/>
                  <a:pt x="24563" y="5900"/>
                  <a:pt x="24681" y="5655"/>
                </a:cubicBezTo>
                <a:cubicBezTo>
                  <a:pt x="24799" y="5409"/>
                  <a:pt x="24906" y="5112"/>
                  <a:pt x="24730" y="4862"/>
                </a:cubicBezTo>
                <a:cubicBezTo>
                  <a:pt x="24592" y="4667"/>
                  <a:pt x="24270" y="4463"/>
                  <a:pt x="24036" y="4415"/>
                </a:cubicBezTo>
                <a:cubicBezTo>
                  <a:pt x="23783" y="4363"/>
                  <a:pt x="23545" y="4542"/>
                  <a:pt x="23440" y="4762"/>
                </a:cubicBezTo>
                <a:cubicBezTo>
                  <a:pt x="23268" y="5124"/>
                  <a:pt x="23253" y="5583"/>
                  <a:pt x="23564" y="5879"/>
                </a:cubicBezTo>
                <a:cubicBezTo>
                  <a:pt x="23720" y="6027"/>
                  <a:pt x="23924" y="6010"/>
                  <a:pt x="24110" y="6003"/>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1" name=""/>
          <p:cNvSpPr/>
          <p:nvPr/>
        </p:nvSpPr>
        <p:spPr>
          <a:xfrm>
            <a:off x="6680160" y="1830240"/>
            <a:ext cx="196920" cy="169920"/>
          </a:xfrm>
          <a:custGeom>
            <a:avLst/>
            <a:gdLst/>
            <a:ahLst/>
            <a:rect l="l" t="t" r="r" b="b"/>
            <a:pathLst>
              <a:path w="547" h="472">
                <a:moveTo>
                  <a:pt x="18876" y="5085"/>
                </a:moveTo>
                <a:cubicBezTo>
                  <a:pt x="18876" y="5212"/>
                  <a:pt x="18861" y="5331"/>
                  <a:pt x="18852" y="5457"/>
                </a:cubicBezTo>
                <a:cubicBezTo>
                  <a:pt x="18847" y="5527"/>
                  <a:pt x="18874" y="5540"/>
                  <a:pt x="18827" y="5556"/>
                </a:cubicBezTo>
              </a:path>
              <a:path w="547" h="472">
                <a:moveTo>
                  <a:pt x="18554" y="5333"/>
                </a:moveTo>
                <a:cubicBezTo>
                  <a:pt x="18722" y="5333"/>
                  <a:pt x="18883" y="5314"/>
                  <a:pt x="19050" y="5308"/>
                </a:cubicBezTo>
                <a:cubicBezTo>
                  <a:pt x="19075" y="5308"/>
                  <a:pt x="19083" y="5308"/>
                  <a:pt x="19100" y="5308"/>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2" name=""/>
          <p:cNvSpPr/>
          <p:nvPr/>
        </p:nvSpPr>
        <p:spPr>
          <a:xfrm>
            <a:off x="5545080" y="2867040"/>
            <a:ext cx="125640" cy="204840"/>
          </a:xfrm>
          <a:custGeom>
            <a:avLst/>
            <a:gdLst/>
            <a:ahLst/>
            <a:rect l="l" t="t" r="r" b="b"/>
            <a:pathLst>
              <a:path w="348" h="572">
                <a:moveTo>
                  <a:pt x="15701" y="7987"/>
                </a:moveTo>
                <a:cubicBezTo>
                  <a:pt x="15729" y="7987"/>
                  <a:pt x="15500" y="8106"/>
                  <a:pt x="15453" y="8136"/>
                </a:cubicBezTo>
                <a:cubicBezTo>
                  <a:pt x="15413" y="8156"/>
                  <a:pt x="15397" y="8155"/>
                  <a:pt x="15404" y="8186"/>
                </a:cubicBezTo>
                <a:cubicBezTo>
                  <a:pt x="15477" y="8217"/>
                  <a:pt x="15876" y="8333"/>
                  <a:pt x="15726" y="8483"/>
                </a:cubicBezTo>
                <a:cubicBezTo>
                  <a:pt x="15613" y="8529"/>
                  <a:pt x="15583" y="8545"/>
                  <a:pt x="15503" y="8533"/>
                </a:cubicBezTo>
                <a:cubicBezTo>
                  <a:pt x="15503" y="8331"/>
                  <a:pt x="15557" y="8205"/>
                  <a:pt x="15677" y="8037"/>
                </a:cubicBezTo>
                <a:cubicBezTo>
                  <a:pt x="15750" y="7934"/>
                  <a:pt x="15710" y="7970"/>
                  <a:pt x="15602" y="8012"/>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3" name=""/>
          <p:cNvSpPr/>
          <p:nvPr/>
        </p:nvSpPr>
        <p:spPr>
          <a:xfrm>
            <a:off x="8242200" y="2973240"/>
            <a:ext cx="169920" cy="90720"/>
          </a:xfrm>
          <a:custGeom>
            <a:avLst/>
            <a:gdLst/>
            <a:ahLst/>
            <a:rect l="l" t="t" r="r" b="b"/>
            <a:pathLst>
              <a:path w="472" h="249">
                <a:moveTo>
                  <a:pt x="22895" y="8334"/>
                </a:moveTo>
                <a:cubicBezTo>
                  <a:pt x="22962" y="8297"/>
                  <a:pt x="23255" y="8193"/>
                  <a:pt x="23316" y="8260"/>
                </a:cubicBezTo>
                <a:cubicBezTo>
                  <a:pt x="23308" y="8293"/>
                  <a:pt x="23300" y="8326"/>
                  <a:pt x="23292" y="8359"/>
                </a:cubicBezTo>
              </a:path>
              <a:path w="472" h="249">
                <a:moveTo>
                  <a:pt x="23068" y="8508"/>
                </a:moveTo>
                <a:cubicBezTo>
                  <a:pt x="23224" y="8463"/>
                  <a:pt x="23265" y="8450"/>
                  <a:pt x="23366" y="8434"/>
                </a:cubicBezTo>
              </a:path>
            </a:pathLst>
          </a:custGeom>
          <a:noFill/>
          <a:ln cap="rnd" w="34920">
            <a:solidFill>
              <a:srgbClr val="eaeaea"/>
            </a:solidFill>
            <a:round/>
          </a:ln>
        </p:spPr>
        <p:style>
          <a:lnRef idx="0"/>
          <a:fillRef idx="0"/>
          <a:effectRef idx="0"/>
          <a:fontRef idx="minor"/>
        </p:style>
        <p:txBody>
          <a:bodyPr lIns="90000" rIns="90000" tIns="43920" bIns="43920" anchor="t">
            <a:noAutofit/>
          </a:bodyPr>
          <a:p>
            <a:endParaRPr b="0" lang="en-US" sz="1800" spc="-1" strike="noStrike">
              <a:solidFill>
                <a:srgbClr val="eaeaea"/>
              </a:solidFill>
              <a:latin typeface="Arial"/>
            </a:endParaRPr>
          </a:p>
        </p:txBody>
      </p:sp>
      <p:sp>
        <p:nvSpPr>
          <p:cNvPr id="234" name=""/>
          <p:cNvSpPr/>
          <p:nvPr/>
        </p:nvSpPr>
        <p:spPr>
          <a:xfrm>
            <a:off x="5956200" y="5170320"/>
            <a:ext cx="982800" cy="1170000"/>
          </a:xfrm>
          <a:custGeom>
            <a:avLst/>
            <a:gdLst/>
            <a:ahLst/>
            <a:rect l="l" t="t" r="r" b="b"/>
            <a:pathLst>
              <a:path w="2729" h="3250">
                <a:moveTo>
                  <a:pt x="17711" y="14560"/>
                </a:moveTo>
                <a:cubicBezTo>
                  <a:pt x="17869" y="14481"/>
                  <a:pt x="18015" y="14413"/>
                  <a:pt x="18182" y="14362"/>
                </a:cubicBezTo>
                <a:cubicBezTo>
                  <a:pt x="18195" y="14622"/>
                  <a:pt x="18086" y="14865"/>
                  <a:pt x="18058" y="15131"/>
                </a:cubicBezTo>
                <a:cubicBezTo>
                  <a:pt x="18058" y="15216"/>
                  <a:pt x="18064" y="15261"/>
                  <a:pt x="18033" y="15180"/>
                </a:cubicBezTo>
              </a:path>
              <a:path w="2729" h="3250">
                <a:moveTo>
                  <a:pt x="16619" y="15925"/>
                </a:moveTo>
                <a:cubicBezTo>
                  <a:pt x="17306" y="15706"/>
                  <a:pt x="17963" y="15548"/>
                  <a:pt x="18678" y="15453"/>
                </a:cubicBezTo>
                <a:cubicBezTo>
                  <a:pt x="19050" y="15404"/>
                  <a:pt x="18847" y="15399"/>
                  <a:pt x="18777" y="15528"/>
                </a:cubicBezTo>
              </a:path>
              <a:path w="2729" h="3250">
                <a:moveTo>
                  <a:pt x="17537" y="16073"/>
                </a:moveTo>
                <a:cubicBezTo>
                  <a:pt x="17509" y="16314"/>
                  <a:pt x="17314" y="17001"/>
                  <a:pt x="17438" y="16793"/>
                </a:cubicBezTo>
                <a:cubicBezTo>
                  <a:pt x="17454" y="16752"/>
                  <a:pt x="17471" y="16710"/>
                  <a:pt x="17487" y="16669"/>
                </a:cubicBezTo>
              </a:path>
              <a:path w="2729" h="3250">
                <a:moveTo>
                  <a:pt x="18157" y="16049"/>
                </a:moveTo>
                <a:cubicBezTo>
                  <a:pt x="18180" y="16256"/>
                  <a:pt x="18202" y="16463"/>
                  <a:pt x="18231" y="16669"/>
                </a:cubicBezTo>
              </a:path>
              <a:path w="2729" h="3250">
                <a:moveTo>
                  <a:pt x="16991" y="17388"/>
                </a:moveTo>
                <a:cubicBezTo>
                  <a:pt x="17491" y="17582"/>
                  <a:pt x="17826" y="17536"/>
                  <a:pt x="18331" y="17314"/>
                </a:cubicBezTo>
                <a:cubicBezTo>
                  <a:pt x="18702" y="17151"/>
                  <a:pt x="19396" y="16801"/>
                  <a:pt x="19273" y="16272"/>
                </a:cubicBezTo>
                <a:cubicBezTo>
                  <a:pt x="19132" y="15665"/>
                  <a:pt x="18065" y="15730"/>
                  <a:pt x="17611" y="15776"/>
                </a:cubicBezTo>
                <a:cubicBezTo>
                  <a:pt x="16996" y="15838"/>
                  <a:pt x="16498" y="16190"/>
                  <a:pt x="16545" y="16867"/>
                </a:cubicBezTo>
                <a:cubicBezTo>
                  <a:pt x="16603" y="17714"/>
                  <a:pt x="17204" y="17575"/>
                  <a:pt x="17760" y="17413"/>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5" name=""/>
          <p:cNvSpPr/>
          <p:nvPr/>
        </p:nvSpPr>
        <p:spPr>
          <a:xfrm>
            <a:off x="366840" y="5446800"/>
            <a:ext cx="2098440" cy="403200"/>
          </a:xfrm>
          <a:custGeom>
            <a:avLst/>
            <a:gdLst/>
            <a:ahLst/>
            <a:rect l="l" t="t" r="r" b="b"/>
            <a:pathLst>
              <a:path w="5830" h="1117">
                <a:moveTo>
                  <a:pt x="6846" y="15999"/>
                </a:moveTo>
                <a:cubicBezTo>
                  <a:pt x="6806" y="16015"/>
                  <a:pt x="6789" y="16038"/>
                  <a:pt x="6747" y="16049"/>
                </a:cubicBezTo>
                <a:cubicBezTo>
                  <a:pt x="6657" y="16073"/>
                  <a:pt x="6566" y="16089"/>
                  <a:pt x="6474" y="16098"/>
                </a:cubicBezTo>
                <a:cubicBezTo>
                  <a:pt x="6391" y="16106"/>
                  <a:pt x="6308" y="16107"/>
                  <a:pt x="6226" y="16123"/>
                </a:cubicBezTo>
                <a:cubicBezTo>
                  <a:pt x="6095" y="16148"/>
                  <a:pt x="5962" y="16165"/>
                  <a:pt x="5829" y="16173"/>
                </a:cubicBezTo>
                <a:cubicBezTo>
                  <a:pt x="5714" y="16180"/>
                  <a:pt x="5597" y="16182"/>
                  <a:pt x="5482" y="16197"/>
                </a:cubicBezTo>
                <a:cubicBezTo>
                  <a:pt x="5347" y="16215"/>
                  <a:pt x="5223" y="16222"/>
                  <a:pt x="5085" y="16222"/>
                </a:cubicBezTo>
                <a:cubicBezTo>
                  <a:pt x="4925" y="16222"/>
                  <a:pt x="4777" y="16226"/>
                  <a:pt x="4614" y="16222"/>
                </a:cubicBezTo>
                <a:cubicBezTo>
                  <a:pt x="4422" y="16218"/>
                  <a:pt x="4234" y="16183"/>
                  <a:pt x="4043" y="16173"/>
                </a:cubicBezTo>
                <a:cubicBezTo>
                  <a:pt x="3837" y="16162"/>
                  <a:pt x="3630" y="16162"/>
                  <a:pt x="3423" y="16148"/>
                </a:cubicBezTo>
                <a:cubicBezTo>
                  <a:pt x="3122" y="16128"/>
                  <a:pt x="2831" y="16124"/>
                  <a:pt x="2530" y="16148"/>
                </a:cubicBezTo>
                <a:cubicBezTo>
                  <a:pt x="2258" y="16170"/>
                  <a:pt x="1985" y="16206"/>
                  <a:pt x="1712" y="16222"/>
                </a:cubicBezTo>
                <a:cubicBezTo>
                  <a:pt x="1545" y="16232"/>
                  <a:pt x="1373" y="16207"/>
                  <a:pt x="1215" y="16197"/>
                </a:cubicBezTo>
                <a:cubicBezTo>
                  <a:pt x="1171" y="16194"/>
                  <a:pt x="1122" y="16176"/>
                  <a:pt x="1091" y="16173"/>
                </a:cubicBezTo>
                <a:cubicBezTo>
                  <a:pt x="1067" y="16170"/>
                  <a:pt x="1041" y="16177"/>
                  <a:pt x="1017" y="16173"/>
                </a:cubicBezTo>
              </a:path>
              <a:path w="5830" h="1117">
                <a:moveTo>
                  <a:pt x="1662" y="15280"/>
                </a:moveTo>
                <a:cubicBezTo>
                  <a:pt x="1767" y="15280"/>
                  <a:pt x="1721" y="15278"/>
                  <a:pt x="1662" y="15230"/>
                </a:cubicBezTo>
                <a:cubicBezTo>
                  <a:pt x="1662" y="15245"/>
                  <a:pt x="1675" y="15538"/>
                  <a:pt x="1761" y="15453"/>
                </a:cubicBezTo>
                <a:cubicBezTo>
                  <a:pt x="1818" y="15396"/>
                  <a:pt x="1766" y="15131"/>
                  <a:pt x="1687" y="15205"/>
                </a:cubicBezTo>
                <a:cubicBezTo>
                  <a:pt x="1586" y="15300"/>
                  <a:pt x="1699" y="15553"/>
                  <a:pt x="1761" y="15453"/>
                </a:cubicBezTo>
                <a:cubicBezTo>
                  <a:pt x="1769" y="15420"/>
                  <a:pt x="1778" y="15387"/>
                  <a:pt x="1786" y="15354"/>
                </a:cubicBezTo>
                <a:cubicBezTo>
                  <a:pt x="1726" y="15220"/>
                  <a:pt x="1719" y="15306"/>
                  <a:pt x="1712" y="15404"/>
                </a:cubicBezTo>
                <a:cubicBezTo>
                  <a:pt x="1712" y="15432"/>
                  <a:pt x="1714" y="15438"/>
                  <a:pt x="1736" y="15404"/>
                </a:cubicBezTo>
              </a:path>
              <a:path w="5830" h="1117">
                <a:moveTo>
                  <a:pt x="1984" y="15404"/>
                </a:moveTo>
                <a:cubicBezTo>
                  <a:pt x="1976" y="15396"/>
                  <a:pt x="1968" y="15387"/>
                  <a:pt x="1960" y="15379"/>
                </a:cubicBezTo>
                <a:cubicBezTo>
                  <a:pt x="2061" y="15370"/>
                  <a:pt x="2111" y="15337"/>
                  <a:pt x="2208" y="15304"/>
                </a:cubicBezTo>
                <a:cubicBezTo>
                  <a:pt x="2375" y="15248"/>
                  <a:pt x="2599" y="15111"/>
                  <a:pt x="2778" y="15131"/>
                </a:cubicBezTo>
                <a:cubicBezTo>
                  <a:pt x="2843" y="15138"/>
                  <a:pt x="2865" y="15167"/>
                  <a:pt x="2952" y="15180"/>
                </a:cubicBezTo>
                <a:cubicBezTo>
                  <a:pt x="3107" y="15203"/>
                  <a:pt x="3297" y="15195"/>
                  <a:pt x="3448" y="15205"/>
                </a:cubicBezTo>
                <a:cubicBezTo>
                  <a:pt x="3720" y="15224"/>
                  <a:pt x="3996" y="15210"/>
                  <a:pt x="4266" y="15230"/>
                </a:cubicBezTo>
                <a:cubicBezTo>
                  <a:pt x="4407" y="15240"/>
                  <a:pt x="4548" y="15250"/>
                  <a:pt x="4688" y="15255"/>
                </a:cubicBezTo>
                <a:cubicBezTo>
                  <a:pt x="4831" y="15260"/>
                  <a:pt x="4971" y="15267"/>
                  <a:pt x="5110" y="15280"/>
                </a:cubicBezTo>
                <a:cubicBezTo>
                  <a:pt x="5380" y="15305"/>
                  <a:pt x="5664" y="15281"/>
                  <a:pt x="5928" y="15304"/>
                </a:cubicBezTo>
                <a:cubicBezTo>
                  <a:pt x="5991" y="15309"/>
                  <a:pt x="6044" y="15321"/>
                  <a:pt x="6102" y="15329"/>
                </a:cubicBezTo>
                <a:cubicBezTo>
                  <a:pt x="6127" y="15329"/>
                  <a:pt x="6135" y="15329"/>
                  <a:pt x="6152" y="15329"/>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6" name=""/>
          <p:cNvSpPr/>
          <p:nvPr/>
        </p:nvSpPr>
        <p:spPr>
          <a:xfrm>
            <a:off x="3062160" y="4813200"/>
            <a:ext cx="152640" cy="1990800"/>
          </a:xfrm>
          <a:custGeom>
            <a:avLst/>
            <a:gdLst/>
            <a:ahLst/>
            <a:rect l="l" t="t" r="r" b="b"/>
            <a:pathLst>
              <a:path w="423" h="5532">
                <a:moveTo>
                  <a:pt x="8905" y="13395"/>
                </a:moveTo>
                <a:cubicBezTo>
                  <a:pt x="8915" y="13561"/>
                  <a:pt x="8915" y="13675"/>
                  <a:pt x="8905" y="13841"/>
                </a:cubicBezTo>
                <a:cubicBezTo>
                  <a:pt x="8864" y="14544"/>
                  <a:pt x="8819" y="15246"/>
                  <a:pt x="8781" y="15949"/>
                </a:cubicBezTo>
                <a:cubicBezTo>
                  <a:pt x="8748" y="16553"/>
                  <a:pt x="8761" y="17162"/>
                  <a:pt x="8682" y="17760"/>
                </a:cubicBezTo>
                <a:cubicBezTo>
                  <a:pt x="8648" y="18013"/>
                  <a:pt x="8552" y="18275"/>
                  <a:pt x="8533" y="18529"/>
                </a:cubicBezTo>
                <a:cubicBezTo>
                  <a:pt x="8524" y="18646"/>
                  <a:pt x="8520" y="18760"/>
                  <a:pt x="8508" y="18876"/>
                </a:cubicBezTo>
                <a:cubicBezTo>
                  <a:pt x="8508" y="18884"/>
                  <a:pt x="8508" y="18893"/>
                  <a:pt x="8508" y="18901"/>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7" name=""/>
          <p:cNvSpPr/>
          <p:nvPr/>
        </p:nvSpPr>
        <p:spPr>
          <a:xfrm>
            <a:off x="2062080" y="5769000"/>
            <a:ext cx="2438640" cy="196920"/>
          </a:xfrm>
          <a:custGeom>
            <a:avLst/>
            <a:gdLst/>
            <a:ahLst/>
            <a:rect l="l" t="t" r="r" b="b"/>
            <a:pathLst>
              <a:path w="6773" h="547">
                <a:moveTo>
                  <a:pt x="5755" y="16148"/>
                </a:moveTo>
                <a:cubicBezTo>
                  <a:pt x="5829" y="16145"/>
                  <a:pt x="5854" y="16156"/>
                  <a:pt x="5928" y="16148"/>
                </a:cubicBezTo>
                <a:cubicBezTo>
                  <a:pt x="6143" y="16125"/>
                  <a:pt x="6359" y="16101"/>
                  <a:pt x="6573" y="16073"/>
                </a:cubicBezTo>
                <a:cubicBezTo>
                  <a:pt x="6722" y="16053"/>
                  <a:pt x="6871" y="16031"/>
                  <a:pt x="7020" y="16024"/>
                </a:cubicBezTo>
                <a:cubicBezTo>
                  <a:pt x="7252" y="16012"/>
                  <a:pt x="7487" y="16024"/>
                  <a:pt x="7714" y="16049"/>
                </a:cubicBezTo>
                <a:cubicBezTo>
                  <a:pt x="7823" y="16061"/>
                  <a:pt x="7925" y="16071"/>
                  <a:pt x="8037" y="16073"/>
                </a:cubicBezTo>
                <a:cubicBezTo>
                  <a:pt x="8244" y="16076"/>
                  <a:pt x="8452" y="16071"/>
                  <a:pt x="8657" y="16098"/>
                </a:cubicBezTo>
                <a:cubicBezTo>
                  <a:pt x="8839" y="16122"/>
                  <a:pt x="9021" y="16138"/>
                  <a:pt x="9203" y="16148"/>
                </a:cubicBezTo>
                <a:cubicBezTo>
                  <a:pt x="9392" y="16159"/>
                  <a:pt x="9584" y="16158"/>
                  <a:pt x="9773" y="16173"/>
                </a:cubicBezTo>
                <a:cubicBezTo>
                  <a:pt x="10052" y="16195"/>
                  <a:pt x="10340" y="16234"/>
                  <a:pt x="10616" y="16272"/>
                </a:cubicBezTo>
                <a:cubicBezTo>
                  <a:pt x="10899" y="16311"/>
                  <a:pt x="11178" y="16335"/>
                  <a:pt x="11460" y="16371"/>
                </a:cubicBezTo>
                <a:cubicBezTo>
                  <a:pt x="11688" y="16400"/>
                  <a:pt x="11904" y="16454"/>
                  <a:pt x="12129" y="16495"/>
                </a:cubicBezTo>
                <a:cubicBezTo>
                  <a:pt x="12246" y="16516"/>
                  <a:pt x="12362" y="16547"/>
                  <a:pt x="12477" y="16570"/>
                </a:cubicBezTo>
                <a:cubicBezTo>
                  <a:pt x="12485" y="16570"/>
                  <a:pt x="12494" y="16570"/>
                  <a:pt x="12502" y="16570"/>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8" name=""/>
          <p:cNvSpPr/>
          <p:nvPr/>
        </p:nvSpPr>
        <p:spPr>
          <a:xfrm>
            <a:off x="2232000" y="5500800"/>
            <a:ext cx="46080" cy="71280"/>
          </a:xfrm>
          <a:custGeom>
            <a:avLst/>
            <a:gdLst/>
            <a:ahLst/>
            <a:rect l="l" t="t" r="r" b="b"/>
            <a:pathLst>
              <a:path w="125" h="199">
                <a:moveTo>
                  <a:pt x="6276" y="15404"/>
                </a:moveTo>
                <a:cubicBezTo>
                  <a:pt x="6276" y="15351"/>
                  <a:pt x="6264" y="15342"/>
                  <a:pt x="6226" y="15304"/>
                </a:cubicBezTo>
                <a:cubicBezTo>
                  <a:pt x="6196" y="15324"/>
                  <a:pt x="6177" y="15467"/>
                  <a:pt x="6251" y="15478"/>
                </a:cubicBezTo>
                <a:cubicBezTo>
                  <a:pt x="6356" y="15493"/>
                  <a:pt x="6331" y="15301"/>
                  <a:pt x="6251" y="15280"/>
                </a:cubicBezTo>
                <a:cubicBezTo>
                  <a:pt x="6196" y="15266"/>
                  <a:pt x="6172" y="15486"/>
                  <a:pt x="6251" y="15453"/>
                </a:cubicBezTo>
                <a:cubicBezTo>
                  <a:pt x="6276" y="15437"/>
                  <a:pt x="6300" y="15420"/>
                  <a:pt x="6325" y="15404"/>
                </a:cubicBezTo>
                <a:cubicBezTo>
                  <a:pt x="6273" y="15324"/>
                  <a:pt x="6240" y="15330"/>
                  <a:pt x="6226" y="15429"/>
                </a:cubicBezTo>
                <a:cubicBezTo>
                  <a:pt x="6226" y="15453"/>
                  <a:pt x="6226" y="15461"/>
                  <a:pt x="6251" y="15453"/>
                </a:cubicBezTo>
              </a:path>
            </a:pathLst>
          </a:custGeom>
          <a:noFill/>
          <a:ln cap="rnd" w="34920">
            <a:solidFill>
              <a:srgbClr val="eaeaea"/>
            </a:solidFill>
            <a:round/>
          </a:ln>
        </p:spPr>
        <p:style>
          <a:lnRef idx="0"/>
          <a:fillRef idx="0"/>
          <a:effectRef idx="0"/>
          <a:fontRef idx="minor"/>
        </p:style>
        <p:txBody>
          <a:bodyPr lIns="90000" rIns="90000" tIns="24480" bIns="24480" anchor="t">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Unit 9:  Integers &amp; Reflections</a:t>
            </a:r>
            <a:endParaRPr b="0" lang="en-US" sz="4400" spc="-1" strike="noStrike">
              <a:solidFill>
                <a:srgbClr val="ccecff"/>
              </a:solidFill>
              <a:latin typeface="Arial"/>
            </a:endParaRPr>
          </a:p>
        </p:txBody>
      </p:sp>
      <p:sp>
        <p:nvSpPr>
          <p:cNvPr id="240" name="PlaceHolder 2"/>
          <p:cNvSpPr>
            <a:spLocks noGrp="1"/>
          </p:cNvSpPr>
          <p:nvPr>
            <p:ph/>
          </p:nvPr>
        </p:nvSpPr>
        <p:spPr>
          <a:xfrm>
            <a:off x="456840" y="3733920"/>
            <a:ext cx="8077320" cy="1828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Objective:  Students will explore reflections on a coordinate plane including positive and negative fractions and decimals.</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Arial"/>
              </a:rPr>
              <a:t>Objective:  Students will explore reflections on a coordinate plane including positive and negative fractions and decimals.</a:t>
            </a:r>
            <a:endParaRPr b="0" lang="en-US" sz="2000" spc="-1" strike="noStrike">
              <a:solidFill>
                <a:srgbClr val="ccecff"/>
              </a:solidFill>
              <a:latin typeface="Arial"/>
            </a:endParaRPr>
          </a:p>
        </p:txBody>
      </p:sp>
      <p:sp>
        <p:nvSpPr>
          <p:cNvPr id="242" name="PlaceHolder 2"/>
          <p:cNvSpPr>
            <a:spLocks noGrp="1"/>
          </p:cNvSpPr>
          <p:nvPr>
            <p:ph/>
          </p:nvPr>
        </p:nvSpPr>
        <p:spPr>
          <a:xfrm>
            <a:off x="455760" y="1598760"/>
            <a:ext cx="4037040" cy="44971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hat is a reflection?</a:t>
            </a:r>
            <a:endParaRPr b="0" lang="en-US" sz="2800" spc="-1" strike="noStrike">
              <a:solidFill>
                <a:srgbClr val="eaeaea"/>
              </a:solidFill>
              <a:latin typeface="Arial"/>
            </a:endParaRPr>
          </a:p>
        </p:txBody>
      </p:sp>
      <p:sp>
        <p:nvSpPr>
          <p:cNvPr id="243" name="Text Box 4"/>
          <p:cNvSpPr/>
          <p:nvPr/>
        </p:nvSpPr>
        <p:spPr>
          <a:xfrm>
            <a:off x="457200" y="304812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eaeaea"/>
              </a:solidFill>
              <a:latin typeface="Arial"/>
            </a:endParaRPr>
          </a:p>
        </p:txBody>
      </p:sp>
      <p:sp>
        <p:nvSpPr>
          <p:cNvPr id="244" name="Text Box 5"/>
          <p:cNvSpPr/>
          <p:nvPr/>
        </p:nvSpPr>
        <p:spPr>
          <a:xfrm>
            <a:off x="614520" y="2438280"/>
            <a:ext cx="4150800" cy="283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aeaea"/>
                </a:solidFill>
                <a:latin typeface="Arial"/>
              </a:rPr>
              <a:t>If we have a square on a coordinate</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aeaea"/>
                </a:solidFill>
                <a:latin typeface="Arial"/>
              </a:rPr>
              <a:t>plane, it’s reflection would be on the</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aeaea"/>
                </a:solidFill>
                <a:latin typeface="Arial"/>
              </a:rPr>
              <a:t>other side of the axis and an equal</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aeaea"/>
                </a:solidFill>
                <a:latin typeface="Arial"/>
              </a:rPr>
              <a:t>distance from the axis.</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A reflection over the y-axis would be in </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Quadrant 1.</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A reflection over the x-axis would be in</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Quadrant 3.</a:t>
            </a:r>
            <a:endParaRPr b="0" lang="en-US" sz="1800" spc="-1" strike="noStrike">
              <a:solidFill>
                <a:srgbClr val="eaeaea"/>
              </a:solidFill>
              <a:latin typeface="Arial"/>
            </a:endParaRPr>
          </a:p>
        </p:txBody>
      </p:sp>
      <p:sp>
        <p:nvSpPr>
          <p:cNvPr id="245" name="Text Box 6"/>
          <p:cNvSpPr/>
          <p:nvPr/>
        </p:nvSpPr>
        <p:spPr>
          <a:xfrm>
            <a:off x="5622840" y="31608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eaeaea"/>
              </a:solidFill>
              <a:latin typeface="Arial"/>
            </a:endParaRPr>
          </a:p>
        </p:txBody>
      </p:sp>
      <p:graphicFrame>
        <p:nvGraphicFramePr>
          <p:cNvPr id="246" name=""/>
          <p:cNvGraphicFramePr/>
          <p:nvPr/>
        </p:nvGraphicFramePr>
        <p:xfrm>
          <a:off x="5257800" y="2590920"/>
          <a:ext cx="2484360" cy="3108240"/>
        </p:xfrm>
        <a:graphic>
          <a:graphicData uri="http://schemas.openxmlformats.org/drawingml/2006/table">
            <a:tbl>
              <a:tblPr/>
              <a:tblGrid>
                <a:gridCol w="414360"/>
                <a:gridCol w="414360"/>
                <a:gridCol w="414360"/>
                <a:gridCol w="412560"/>
                <a:gridCol w="414360"/>
                <a:gridCol w="41436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247" name="Line 82"/>
          <p:cNvSpPr/>
          <p:nvPr/>
        </p:nvSpPr>
        <p:spPr>
          <a:xfrm>
            <a:off x="5257800" y="4114800"/>
            <a:ext cx="25146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48" name="Line 84"/>
          <p:cNvSpPr/>
          <p:nvPr/>
        </p:nvSpPr>
        <p:spPr>
          <a:xfrm>
            <a:off x="6477120" y="2590920"/>
            <a:ext cx="0" cy="31240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49" name="Rectangle 85"/>
          <p:cNvSpPr/>
          <p:nvPr/>
        </p:nvSpPr>
        <p:spPr>
          <a:xfrm>
            <a:off x="5257800" y="2590920"/>
            <a:ext cx="838080" cy="1066680"/>
          </a:xfrm>
          <a:prstGeom prst="rect">
            <a:avLst/>
          </a:pr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50" name="Text Box 87"/>
          <p:cNvSpPr/>
          <p:nvPr/>
        </p:nvSpPr>
        <p:spPr>
          <a:xfrm>
            <a:off x="239040" y="5715000"/>
            <a:ext cx="8600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Instead of counting spaces, how could you use multiplication to find the coordinates</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of the reflection?</a:t>
            </a:r>
            <a:endParaRPr b="0" lang="en-US" sz="1800" spc="-1" strike="noStrike">
              <a:solidFill>
                <a:srgbClr val="eaeaea"/>
              </a:solidFill>
              <a:latin typeface="Arial"/>
            </a:endParaRPr>
          </a:p>
        </p:txBody>
      </p:sp>
      <p:sp>
        <p:nvSpPr>
          <p:cNvPr id="251" name=""/>
          <p:cNvSpPr/>
          <p:nvPr/>
        </p:nvSpPr>
        <p:spPr>
          <a:xfrm>
            <a:off x="5295960" y="1009800"/>
            <a:ext cx="3821040" cy="3732120"/>
          </a:xfrm>
          <a:custGeom>
            <a:avLst/>
            <a:gdLst/>
            <a:ahLst/>
            <a:rect l="l" t="t" r="r" b="b"/>
            <a:pathLst>
              <a:path w="10618" h="10369">
                <a:moveTo>
                  <a:pt x="14709" y="5655"/>
                </a:moveTo>
                <a:cubicBezTo>
                  <a:pt x="14904" y="5667"/>
                  <a:pt x="15117" y="5687"/>
                  <a:pt x="15230" y="5879"/>
                </a:cubicBezTo>
                <a:cubicBezTo>
                  <a:pt x="15313" y="6020"/>
                  <a:pt x="15269" y="6115"/>
                  <a:pt x="15230" y="6251"/>
                </a:cubicBezTo>
              </a:path>
              <a:path w="10618" h="10369">
                <a:moveTo>
                  <a:pt x="22051" y="10120"/>
                </a:moveTo>
                <a:cubicBezTo>
                  <a:pt x="22240" y="10163"/>
                  <a:pt x="22497" y="10179"/>
                  <a:pt x="22572" y="10393"/>
                </a:cubicBezTo>
                <a:cubicBezTo>
                  <a:pt x="22614" y="10513"/>
                  <a:pt x="22509" y="10665"/>
                  <a:pt x="22423" y="10716"/>
                </a:cubicBezTo>
              </a:path>
              <a:path w="10618" h="10369">
                <a:moveTo>
                  <a:pt x="24507" y="2803"/>
                </a:moveTo>
                <a:cubicBezTo>
                  <a:pt x="24748" y="2930"/>
                  <a:pt x="24970" y="3091"/>
                  <a:pt x="24978" y="3398"/>
                </a:cubicBezTo>
                <a:cubicBezTo>
                  <a:pt x="24984" y="3630"/>
                  <a:pt x="24845" y="3680"/>
                  <a:pt x="24681" y="3770"/>
                </a:cubicBezTo>
              </a:path>
              <a:path w="10618" h="10369">
                <a:moveTo>
                  <a:pt x="22399" y="12427"/>
                </a:moveTo>
                <a:cubicBezTo>
                  <a:pt x="22243" y="12531"/>
                  <a:pt x="22158" y="12686"/>
                  <a:pt x="22126" y="12874"/>
                </a:cubicBezTo>
                <a:cubicBezTo>
                  <a:pt x="22123" y="12890"/>
                  <a:pt x="22109" y="13182"/>
                  <a:pt x="22200" y="13171"/>
                </a:cubicBezTo>
                <a:cubicBezTo>
                  <a:pt x="22208" y="13163"/>
                  <a:pt x="22217" y="13154"/>
                  <a:pt x="22225" y="13146"/>
                </a:cubicBezTo>
              </a:path>
              <a:path w="10618" h="10369">
                <a:moveTo>
                  <a:pt x="23664" y="12874"/>
                </a:moveTo>
                <a:cubicBezTo>
                  <a:pt x="23738" y="12851"/>
                  <a:pt x="23815" y="12820"/>
                  <a:pt x="23887" y="12799"/>
                </a:cubicBezTo>
              </a:path>
              <a:path w="10618" h="10369">
                <a:moveTo>
                  <a:pt x="24110" y="12353"/>
                </a:moveTo>
                <a:cubicBezTo>
                  <a:pt x="24103" y="12426"/>
                  <a:pt x="24099" y="12422"/>
                  <a:pt x="24085" y="12477"/>
                </a:cubicBezTo>
              </a:path>
              <a:path w="10618" h="10369">
                <a:moveTo>
                  <a:pt x="25251" y="12204"/>
                </a:moveTo>
                <a:cubicBezTo>
                  <a:pt x="25302" y="12712"/>
                  <a:pt x="25495" y="12792"/>
                  <a:pt x="25301" y="12973"/>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52" name=""/>
          <p:cNvSpPr/>
          <p:nvPr/>
        </p:nvSpPr>
        <p:spPr>
          <a:xfrm>
            <a:off x="5867280" y="5402160"/>
            <a:ext cx="241560" cy="304920"/>
          </a:xfrm>
          <a:custGeom>
            <a:avLst/>
            <a:gdLst/>
            <a:ahLst/>
            <a:rect l="l" t="t" r="r" b="b"/>
            <a:pathLst>
              <a:path w="670" h="844">
                <a:moveTo>
                  <a:pt x="16966" y="15850"/>
                </a:moveTo>
                <a:cubicBezTo>
                  <a:pt x="16953" y="15785"/>
                  <a:pt x="16938" y="15758"/>
                  <a:pt x="16867" y="15751"/>
                </a:cubicBezTo>
                <a:cubicBezTo>
                  <a:pt x="16832" y="15751"/>
                  <a:pt x="16819" y="15760"/>
                  <a:pt x="16818" y="15801"/>
                </a:cubicBezTo>
                <a:cubicBezTo>
                  <a:pt x="16852" y="15798"/>
                  <a:pt x="17063" y="15725"/>
                  <a:pt x="16917" y="15677"/>
                </a:cubicBezTo>
                <a:cubicBezTo>
                  <a:pt x="16806" y="15641"/>
                  <a:pt x="16758" y="15709"/>
                  <a:pt x="16743" y="15801"/>
                </a:cubicBezTo>
                <a:cubicBezTo>
                  <a:pt x="16835" y="15776"/>
                  <a:pt x="17012" y="15600"/>
                  <a:pt x="16842" y="15677"/>
                </a:cubicBezTo>
                <a:cubicBezTo>
                  <a:pt x="16783" y="15716"/>
                  <a:pt x="16771" y="15720"/>
                  <a:pt x="16743" y="15751"/>
                </a:cubicBezTo>
              </a:path>
              <a:path w="670" h="844">
                <a:moveTo>
                  <a:pt x="16470" y="15304"/>
                </a:moveTo>
                <a:cubicBezTo>
                  <a:pt x="16486" y="15385"/>
                  <a:pt x="16506" y="15469"/>
                  <a:pt x="16520" y="15553"/>
                </a:cubicBezTo>
                <a:cubicBezTo>
                  <a:pt x="16520" y="15545"/>
                  <a:pt x="16520" y="15536"/>
                  <a:pt x="16520" y="15528"/>
                </a:cubicBezTo>
              </a:path>
              <a:path w="670" h="844">
                <a:moveTo>
                  <a:pt x="16297" y="15255"/>
                </a:moveTo>
                <a:cubicBezTo>
                  <a:pt x="16444" y="15234"/>
                  <a:pt x="16756" y="15166"/>
                  <a:pt x="16694" y="15429"/>
                </a:cubicBezTo>
                <a:cubicBezTo>
                  <a:pt x="16673" y="15518"/>
                  <a:pt x="16516" y="15714"/>
                  <a:pt x="16470" y="15577"/>
                </a:cubicBezTo>
              </a:path>
              <a:path w="670" h="844">
                <a:moveTo>
                  <a:pt x="16867" y="15007"/>
                </a:moveTo>
                <a:cubicBezTo>
                  <a:pt x="16896" y="15057"/>
                  <a:pt x="16922" y="15066"/>
                  <a:pt x="16892" y="15081"/>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53" name=""/>
          <p:cNvSpPr/>
          <p:nvPr/>
        </p:nvSpPr>
        <p:spPr>
          <a:xfrm>
            <a:off x="5929200" y="4795920"/>
            <a:ext cx="142920" cy="187200"/>
          </a:xfrm>
          <a:custGeom>
            <a:avLst/>
            <a:gdLst/>
            <a:ahLst/>
            <a:rect l="l" t="t" r="r" b="b"/>
            <a:pathLst>
              <a:path w="398" h="522">
                <a:moveTo>
                  <a:pt x="16470" y="13469"/>
                </a:moveTo>
                <a:cubicBezTo>
                  <a:pt x="16490" y="13585"/>
                  <a:pt x="16538" y="13701"/>
                  <a:pt x="16570" y="13816"/>
                </a:cubicBezTo>
                <a:cubicBezTo>
                  <a:pt x="16527" y="13859"/>
                  <a:pt x="16521" y="13598"/>
                  <a:pt x="16520" y="13543"/>
                </a:cubicBezTo>
                <a:cubicBezTo>
                  <a:pt x="16518" y="13437"/>
                  <a:pt x="16516" y="13401"/>
                  <a:pt x="16570" y="13320"/>
                </a:cubicBezTo>
                <a:cubicBezTo>
                  <a:pt x="16740" y="13405"/>
                  <a:pt x="16746" y="13519"/>
                  <a:pt x="16818" y="13692"/>
                </a:cubicBezTo>
                <a:cubicBezTo>
                  <a:pt x="16839" y="13736"/>
                  <a:pt x="16842" y="13748"/>
                  <a:pt x="16867" y="13767"/>
                </a:cubicBezTo>
              </a:path>
              <a:path w="398" h="522">
                <a:moveTo>
                  <a:pt x="16520" y="13667"/>
                </a:moveTo>
                <a:cubicBezTo>
                  <a:pt x="16600" y="13667"/>
                  <a:pt x="16687" y="13625"/>
                  <a:pt x="16743" y="13568"/>
                </a:cubicBezTo>
                <a:cubicBezTo>
                  <a:pt x="16743" y="13560"/>
                  <a:pt x="16743" y="13551"/>
                  <a:pt x="16743" y="13543"/>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54" name=""/>
          <p:cNvSpPr/>
          <p:nvPr/>
        </p:nvSpPr>
        <p:spPr>
          <a:xfrm>
            <a:off x="5411880" y="1963800"/>
            <a:ext cx="2874960" cy="3484440"/>
          </a:xfrm>
          <a:custGeom>
            <a:avLst/>
            <a:gdLst/>
            <a:ahLst/>
            <a:rect l="l" t="t" r="r" b="b"/>
            <a:pathLst>
              <a:path w="7988" h="9675">
                <a:moveTo>
                  <a:pt x="17859" y="7193"/>
                </a:moveTo>
                <a:cubicBezTo>
                  <a:pt x="17884" y="7193"/>
                  <a:pt x="17892" y="7193"/>
                  <a:pt x="17884" y="7169"/>
                </a:cubicBezTo>
                <a:cubicBezTo>
                  <a:pt x="17869" y="7241"/>
                  <a:pt x="17821" y="7301"/>
                  <a:pt x="17785" y="7367"/>
                </a:cubicBezTo>
                <a:cubicBezTo>
                  <a:pt x="17755" y="7367"/>
                  <a:pt x="17823" y="7291"/>
                  <a:pt x="17859" y="7243"/>
                </a:cubicBezTo>
                <a:cubicBezTo>
                  <a:pt x="17884" y="7218"/>
                  <a:pt x="17892" y="7210"/>
                  <a:pt x="17909" y="7193"/>
                </a:cubicBezTo>
                <a:cubicBezTo>
                  <a:pt x="17975" y="7246"/>
                  <a:pt x="18060" y="7293"/>
                  <a:pt x="18107" y="7367"/>
                </a:cubicBezTo>
                <a:cubicBezTo>
                  <a:pt x="18107" y="7375"/>
                  <a:pt x="18107" y="7384"/>
                  <a:pt x="18107" y="7392"/>
                </a:cubicBezTo>
              </a:path>
              <a:path w="7988" h="9675">
                <a:moveTo>
                  <a:pt x="17711" y="6499"/>
                </a:moveTo>
                <a:cubicBezTo>
                  <a:pt x="17668" y="6555"/>
                  <a:pt x="17695" y="6589"/>
                  <a:pt x="17711" y="6648"/>
                </a:cubicBezTo>
                <a:cubicBezTo>
                  <a:pt x="17711" y="6656"/>
                  <a:pt x="17711" y="6664"/>
                  <a:pt x="17711" y="6672"/>
                </a:cubicBezTo>
                <a:cubicBezTo>
                  <a:pt x="17858" y="6656"/>
                  <a:pt x="17855" y="6628"/>
                  <a:pt x="17909" y="6499"/>
                </a:cubicBezTo>
                <a:cubicBezTo>
                  <a:pt x="17917" y="6482"/>
                  <a:pt x="17926" y="6466"/>
                  <a:pt x="17934" y="6449"/>
                </a:cubicBezTo>
                <a:cubicBezTo>
                  <a:pt x="17934" y="6407"/>
                  <a:pt x="17979" y="6707"/>
                  <a:pt x="17983" y="6747"/>
                </a:cubicBezTo>
                <a:cubicBezTo>
                  <a:pt x="17990" y="6824"/>
                  <a:pt x="17952" y="7011"/>
                  <a:pt x="17859" y="7045"/>
                </a:cubicBezTo>
                <a:cubicBezTo>
                  <a:pt x="17834" y="7045"/>
                  <a:pt x="17810" y="7045"/>
                  <a:pt x="17785" y="7045"/>
                </a:cubicBezTo>
              </a:path>
              <a:path w="7988" h="9675">
                <a:moveTo>
                  <a:pt x="18256" y="9922"/>
                </a:moveTo>
                <a:cubicBezTo>
                  <a:pt x="18256" y="9847"/>
                  <a:pt x="18267" y="10022"/>
                  <a:pt x="18281" y="10096"/>
                </a:cubicBezTo>
                <a:cubicBezTo>
                  <a:pt x="18303" y="10203"/>
                  <a:pt x="18311" y="10227"/>
                  <a:pt x="18306" y="10294"/>
                </a:cubicBezTo>
              </a:path>
              <a:path w="7988" h="9675">
                <a:moveTo>
                  <a:pt x="18231" y="8533"/>
                </a:moveTo>
                <a:cubicBezTo>
                  <a:pt x="18254" y="8510"/>
                  <a:pt x="18258" y="8502"/>
                  <a:pt x="18281" y="8508"/>
                </a:cubicBezTo>
                <a:cubicBezTo>
                  <a:pt x="18274" y="8604"/>
                  <a:pt x="18249" y="8691"/>
                  <a:pt x="18231" y="8781"/>
                </a:cubicBezTo>
                <a:cubicBezTo>
                  <a:pt x="18329" y="8739"/>
                  <a:pt x="18414" y="8690"/>
                  <a:pt x="18504" y="8632"/>
                </a:cubicBezTo>
              </a:path>
              <a:path w="7988" h="9675">
                <a:moveTo>
                  <a:pt x="18256" y="7069"/>
                </a:moveTo>
                <a:cubicBezTo>
                  <a:pt x="18256" y="7003"/>
                  <a:pt x="18289" y="6971"/>
                  <a:pt x="18331" y="6921"/>
                </a:cubicBezTo>
                <a:cubicBezTo>
                  <a:pt x="18425" y="6969"/>
                  <a:pt x="18373" y="7048"/>
                  <a:pt x="18331" y="7119"/>
                </a:cubicBezTo>
                <a:cubicBezTo>
                  <a:pt x="18367" y="7110"/>
                  <a:pt x="18455" y="7048"/>
                  <a:pt x="18455" y="7144"/>
                </a:cubicBezTo>
                <a:cubicBezTo>
                  <a:pt x="18455" y="7262"/>
                  <a:pt x="18413" y="7324"/>
                  <a:pt x="18306" y="7342"/>
                </a:cubicBezTo>
              </a:path>
              <a:path w="7988" h="9675">
                <a:moveTo>
                  <a:pt x="18231" y="8533"/>
                </a:moveTo>
                <a:cubicBezTo>
                  <a:pt x="18158" y="8533"/>
                  <a:pt x="18129" y="8541"/>
                  <a:pt x="18083" y="8607"/>
                </a:cubicBezTo>
                <a:cubicBezTo>
                  <a:pt x="18063" y="8648"/>
                  <a:pt x="18044" y="8664"/>
                  <a:pt x="18083" y="8657"/>
                </a:cubicBezTo>
              </a:path>
              <a:path w="7988" h="9675">
                <a:moveTo>
                  <a:pt x="15032" y="10294"/>
                </a:moveTo>
                <a:cubicBezTo>
                  <a:pt x="15216" y="10349"/>
                  <a:pt x="15403" y="10423"/>
                  <a:pt x="15453" y="10641"/>
                </a:cubicBezTo>
                <a:cubicBezTo>
                  <a:pt x="15486" y="10785"/>
                  <a:pt x="15441" y="10873"/>
                  <a:pt x="15379" y="10988"/>
                </a:cubicBezTo>
              </a:path>
              <a:path w="7988" h="9675">
                <a:moveTo>
                  <a:pt x="16991" y="5482"/>
                </a:moveTo>
                <a:cubicBezTo>
                  <a:pt x="17239" y="5493"/>
                  <a:pt x="17436" y="5507"/>
                  <a:pt x="17562" y="5755"/>
                </a:cubicBezTo>
                <a:cubicBezTo>
                  <a:pt x="17647" y="5921"/>
                  <a:pt x="17614" y="6084"/>
                  <a:pt x="17512" y="6226"/>
                </a:cubicBezTo>
              </a:path>
              <a:path w="7988" h="9675">
                <a:moveTo>
                  <a:pt x="19298" y="7193"/>
                </a:moveTo>
                <a:cubicBezTo>
                  <a:pt x="19285" y="7262"/>
                  <a:pt x="19263" y="7416"/>
                  <a:pt x="19248" y="7516"/>
                </a:cubicBezTo>
                <a:cubicBezTo>
                  <a:pt x="19224" y="7678"/>
                  <a:pt x="19240" y="7803"/>
                  <a:pt x="19248" y="7962"/>
                </a:cubicBezTo>
                <a:cubicBezTo>
                  <a:pt x="19254" y="8088"/>
                  <a:pt x="19270" y="8209"/>
                  <a:pt x="19273" y="8334"/>
                </a:cubicBezTo>
                <a:cubicBezTo>
                  <a:pt x="19276" y="8444"/>
                  <a:pt x="19291" y="8551"/>
                  <a:pt x="19298" y="8657"/>
                </a:cubicBezTo>
                <a:cubicBezTo>
                  <a:pt x="19306" y="8775"/>
                  <a:pt x="19354" y="8913"/>
                  <a:pt x="19348" y="9029"/>
                </a:cubicBezTo>
                <a:cubicBezTo>
                  <a:pt x="19343" y="9129"/>
                  <a:pt x="19325" y="9224"/>
                  <a:pt x="19323" y="9327"/>
                </a:cubicBezTo>
                <a:cubicBezTo>
                  <a:pt x="19320" y="9446"/>
                  <a:pt x="19327" y="9557"/>
                  <a:pt x="19323" y="9674"/>
                </a:cubicBezTo>
                <a:cubicBezTo>
                  <a:pt x="19317" y="9850"/>
                  <a:pt x="19317" y="10026"/>
                  <a:pt x="19298" y="10195"/>
                </a:cubicBezTo>
                <a:cubicBezTo>
                  <a:pt x="19298" y="10211"/>
                  <a:pt x="19298" y="10228"/>
                  <a:pt x="19298" y="10244"/>
                </a:cubicBezTo>
                <a:cubicBezTo>
                  <a:pt x="19360" y="10222"/>
                  <a:pt x="19431" y="10190"/>
                  <a:pt x="19496" y="10170"/>
                </a:cubicBezTo>
                <a:cubicBezTo>
                  <a:pt x="19580" y="10144"/>
                  <a:pt x="19655" y="10126"/>
                  <a:pt x="19745" y="10120"/>
                </a:cubicBezTo>
                <a:cubicBezTo>
                  <a:pt x="19934" y="10107"/>
                  <a:pt x="20130" y="10108"/>
                  <a:pt x="20315" y="10096"/>
                </a:cubicBezTo>
                <a:cubicBezTo>
                  <a:pt x="20461" y="10087"/>
                  <a:pt x="20598" y="10111"/>
                  <a:pt x="20737" y="10120"/>
                </a:cubicBezTo>
                <a:cubicBezTo>
                  <a:pt x="20849" y="10127"/>
                  <a:pt x="20952" y="10104"/>
                  <a:pt x="21059" y="10096"/>
                </a:cubicBezTo>
                <a:cubicBezTo>
                  <a:pt x="21127" y="10091"/>
                  <a:pt x="21251" y="10074"/>
                  <a:pt x="21282" y="10071"/>
                </a:cubicBezTo>
                <a:cubicBezTo>
                  <a:pt x="21345" y="10065"/>
                  <a:pt x="21402" y="10087"/>
                  <a:pt x="21431" y="10046"/>
                </a:cubicBezTo>
                <a:cubicBezTo>
                  <a:pt x="21455" y="10012"/>
                  <a:pt x="21452" y="9917"/>
                  <a:pt x="21456" y="9872"/>
                </a:cubicBezTo>
                <a:cubicBezTo>
                  <a:pt x="21461" y="9818"/>
                  <a:pt x="21429" y="9732"/>
                  <a:pt x="21431" y="9699"/>
                </a:cubicBezTo>
                <a:cubicBezTo>
                  <a:pt x="21434" y="9638"/>
                  <a:pt x="21453" y="9586"/>
                  <a:pt x="21456" y="9525"/>
                </a:cubicBezTo>
                <a:cubicBezTo>
                  <a:pt x="21460" y="9443"/>
                  <a:pt x="21493" y="9423"/>
                  <a:pt x="21506" y="9351"/>
                </a:cubicBezTo>
                <a:cubicBezTo>
                  <a:pt x="21513" y="9313"/>
                  <a:pt x="21526" y="9257"/>
                  <a:pt x="21530" y="9227"/>
                </a:cubicBezTo>
                <a:cubicBezTo>
                  <a:pt x="21539" y="9160"/>
                  <a:pt x="21542" y="9116"/>
                  <a:pt x="21555" y="9054"/>
                </a:cubicBezTo>
                <a:cubicBezTo>
                  <a:pt x="21570" y="8983"/>
                  <a:pt x="21597" y="8899"/>
                  <a:pt x="21605" y="8830"/>
                </a:cubicBezTo>
                <a:cubicBezTo>
                  <a:pt x="21612" y="8761"/>
                  <a:pt x="21583" y="8716"/>
                  <a:pt x="21580" y="8657"/>
                </a:cubicBezTo>
                <a:cubicBezTo>
                  <a:pt x="21577" y="8593"/>
                  <a:pt x="21561" y="8541"/>
                  <a:pt x="21555" y="8483"/>
                </a:cubicBezTo>
                <a:cubicBezTo>
                  <a:pt x="21545" y="8394"/>
                  <a:pt x="21548" y="8320"/>
                  <a:pt x="21530" y="8235"/>
                </a:cubicBezTo>
                <a:cubicBezTo>
                  <a:pt x="21516" y="8169"/>
                  <a:pt x="21519" y="8103"/>
                  <a:pt x="21506" y="8037"/>
                </a:cubicBezTo>
                <a:cubicBezTo>
                  <a:pt x="21495" y="7981"/>
                  <a:pt x="21493" y="7949"/>
                  <a:pt x="21481" y="7888"/>
                </a:cubicBezTo>
                <a:cubicBezTo>
                  <a:pt x="21460" y="7783"/>
                  <a:pt x="21467" y="7695"/>
                  <a:pt x="21456" y="7590"/>
                </a:cubicBezTo>
                <a:cubicBezTo>
                  <a:pt x="21446" y="7495"/>
                  <a:pt x="21414" y="7393"/>
                  <a:pt x="21431" y="7293"/>
                </a:cubicBezTo>
                <a:cubicBezTo>
                  <a:pt x="21435" y="7268"/>
                  <a:pt x="21450" y="7267"/>
                  <a:pt x="21456" y="7243"/>
                </a:cubicBezTo>
                <a:cubicBezTo>
                  <a:pt x="21406" y="7234"/>
                  <a:pt x="21345" y="7220"/>
                  <a:pt x="21282" y="7218"/>
                </a:cubicBezTo>
                <a:cubicBezTo>
                  <a:pt x="21188" y="7216"/>
                  <a:pt x="21088" y="7237"/>
                  <a:pt x="21010" y="7243"/>
                </a:cubicBezTo>
                <a:cubicBezTo>
                  <a:pt x="20739" y="7265"/>
                  <a:pt x="20456" y="7233"/>
                  <a:pt x="20191" y="7218"/>
                </a:cubicBezTo>
                <a:cubicBezTo>
                  <a:pt x="19911" y="7202"/>
                  <a:pt x="19587" y="7199"/>
                  <a:pt x="19323" y="7243"/>
                </a:cubicBezTo>
                <a:cubicBezTo>
                  <a:pt x="19315" y="7243"/>
                  <a:pt x="19306" y="7243"/>
                  <a:pt x="19298" y="7243"/>
                </a:cubicBezTo>
              </a:path>
              <a:path w="7988" h="9675">
                <a:moveTo>
                  <a:pt x="19496" y="10071"/>
                </a:moveTo>
                <a:cubicBezTo>
                  <a:pt x="19532" y="10053"/>
                  <a:pt x="19482" y="10011"/>
                  <a:pt x="19447" y="10021"/>
                </a:cubicBezTo>
                <a:cubicBezTo>
                  <a:pt x="19406" y="10033"/>
                  <a:pt x="19252" y="10184"/>
                  <a:pt x="19323" y="10220"/>
                </a:cubicBezTo>
                <a:cubicBezTo>
                  <a:pt x="19348" y="10220"/>
                  <a:pt x="19372" y="10220"/>
                  <a:pt x="19397" y="10220"/>
                </a:cubicBezTo>
                <a:cubicBezTo>
                  <a:pt x="19454" y="10186"/>
                  <a:pt x="19587" y="10066"/>
                  <a:pt x="19447" y="9996"/>
                </a:cubicBezTo>
                <a:cubicBezTo>
                  <a:pt x="19369" y="9957"/>
                  <a:pt x="19245" y="10061"/>
                  <a:pt x="19273" y="10145"/>
                </a:cubicBezTo>
                <a:cubicBezTo>
                  <a:pt x="19283" y="10174"/>
                  <a:pt x="19359" y="10178"/>
                  <a:pt x="19372" y="10145"/>
                </a:cubicBezTo>
                <a:cubicBezTo>
                  <a:pt x="19392" y="10085"/>
                  <a:pt x="19411" y="10070"/>
                  <a:pt x="19372" y="10046"/>
                </a:cubicBezTo>
                <a:cubicBezTo>
                  <a:pt x="19295" y="10046"/>
                  <a:pt x="19114" y="10156"/>
                  <a:pt x="19199" y="10294"/>
                </a:cubicBezTo>
                <a:cubicBezTo>
                  <a:pt x="19271" y="10410"/>
                  <a:pt x="19482" y="10214"/>
                  <a:pt x="19472" y="10120"/>
                </a:cubicBezTo>
                <a:cubicBezTo>
                  <a:pt x="19455" y="10095"/>
                  <a:pt x="19439" y="10071"/>
                  <a:pt x="19422" y="10046"/>
                </a:cubicBezTo>
                <a:cubicBezTo>
                  <a:pt x="19289" y="10001"/>
                  <a:pt x="19264" y="10033"/>
                  <a:pt x="19248" y="10170"/>
                </a:cubicBezTo>
                <a:cubicBezTo>
                  <a:pt x="19229" y="10328"/>
                  <a:pt x="19390" y="10087"/>
                  <a:pt x="19397" y="10071"/>
                </a:cubicBezTo>
                <a:cubicBezTo>
                  <a:pt x="19318" y="9927"/>
                  <a:pt x="19290" y="10025"/>
                  <a:pt x="19273" y="10145"/>
                </a:cubicBezTo>
              </a:path>
              <a:path w="7988" h="9675">
                <a:moveTo>
                  <a:pt x="19695" y="9500"/>
                </a:moveTo>
                <a:cubicBezTo>
                  <a:pt x="19645" y="9567"/>
                  <a:pt x="19650" y="9761"/>
                  <a:pt x="19645" y="9872"/>
                </a:cubicBezTo>
                <a:cubicBezTo>
                  <a:pt x="19645" y="9971"/>
                  <a:pt x="19636" y="9773"/>
                  <a:pt x="19645" y="9674"/>
                </a:cubicBezTo>
                <a:cubicBezTo>
                  <a:pt x="19649" y="9630"/>
                  <a:pt x="19689" y="9373"/>
                  <a:pt x="19745" y="9351"/>
                </a:cubicBezTo>
                <a:cubicBezTo>
                  <a:pt x="19761" y="9351"/>
                  <a:pt x="19778" y="9351"/>
                  <a:pt x="19794" y="9351"/>
                </a:cubicBezTo>
                <a:cubicBezTo>
                  <a:pt x="19889" y="9518"/>
                  <a:pt x="19893" y="9631"/>
                  <a:pt x="19893" y="9823"/>
                </a:cubicBezTo>
                <a:cubicBezTo>
                  <a:pt x="19893" y="9854"/>
                  <a:pt x="19946" y="9900"/>
                  <a:pt x="19893" y="9847"/>
                </a:cubicBezTo>
              </a:path>
              <a:path w="7988" h="9675">
                <a:moveTo>
                  <a:pt x="19645" y="9773"/>
                </a:moveTo>
                <a:cubicBezTo>
                  <a:pt x="19732" y="9721"/>
                  <a:pt x="19816" y="9664"/>
                  <a:pt x="19893" y="9599"/>
                </a:cubicBezTo>
              </a:path>
              <a:path w="7988" h="9675">
                <a:moveTo>
                  <a:pt x="19968" y="9153"/>
                </a:moveTo>
                <a:cubicBezTo>
                  <a:pt x="19968" y="9227"/>
                  <a:pt x="19968" y="9302"/>
                  <a:pt x="19968" y="9376"/>
                </a:cubicBezTo>
              </a:path>
              <a:path w="7988" h="9675">
                <a:moveTo>
                  <a:pt x="21506" y="10145"/>
                </a:moveTo>
                <a:cubicBezTo>
                  <a:pt x="21412" y="10105"/>
                  <a:pt x="21419" y="10124"/>
                  <a:pt x="21382" y="10220"/>
                </a:cubicBezTo>
                <a:cubicBezTo>
                  <a:pt x="21414" y="10283"/>
                  <a:pt x="21526" y="10282"/>
                  <a:pt x="21555" y="10195"/>
                </a:cubicBezTo>
                <a:cubicBezTo>
                  <a:pt x="21611" y="10026"/>
                  <a:pt x="21481" y="10031"/>
                  <a:pt x="21382" y="10096"/>
                </a:cubicBezTo>
                <a:cubicBezTo>
                  <a:pt x="21343" y="10134"/>
                  <a:pt x="21326" y="10136"/>
                  <a:pt x="21332" y="10170"/>
                </a:cubicBezTo>
                <a:cubicBezTo>
                  <a:pt x="21433" y="10178"/>
                  <a:pt x="21490" y="10184"/>
                  <a:pt x="21506" y="10071"/>
                </a:cubicBezTo>
                <a:cubicBezTo>
                  <a:pt x="21467" y="10077"/>
                  <a:pt x="21312" y="10137"/>
                  <a:pt x="21481" y="10096"/>
                </a:cubicBezTo>
              </a:path>
              <a:path w="7988" h="9675">
                <a:moveTo>
                  <a:pt x="20960" y="9426"/>
                </a:moveTo>
                <a:cubicBezTo>
                  <a:pt x="20960" y="9542"/>
                  <a:pt x="20960" y="9657"/>
                  <a:pt x="20960" y="9773"/>
                </a:cubicBezTo>
              </a:path>
              <a:path w="7988" h="9675">
                <a:moveTo>
                  <a:pt x="20737" y="9451"/>
                </a:moveTo>
                <a:cubicBezTo>
                  <a:pt x="20781" y="9410"/>
                  <a:pt x="20949" y="9199"/>
                  <a:pt x="20985" y="9351"/>
                </a:cubicBezTo>
                <a:cubicBezTo>
                  <a:pt x="21000" y="9412"/>
                  <a:pt x="20971" y="9447"/>
                  <a:pt x="20960" y="9500"/>
                </a:cubicBezTo>
                <a:cubicBezTo>
                  <a:pt x="21003" y="9500"/>
                  <a:pt x="21028" y="9494"/>
                  <a:pt x="21059" y="9475"/>
                </a:cubicBezTo>
                <a:cubicBezTo>
                  <a:pt x="21157" y="9614"/>
                  <a:pt x="21143" y="9700"/>
                  <a:pt x="20985" y="9798"/>
                </a:cubicBezTo>
                <a:cubicBezTo>
                  <a:pt x="20889" y="9830"/>
                  <a:pt x="20876" y="9819"/>
                  <a:pt x="20985" y="9699"/>
                </a:cubicBezTo>
              </a:path>
              <a:path w="7988" h="9675">
                <a:moveTo>
                  <a:pt x="21183" y="9227"/>
                </a:moveTo>
                <a:cubicBezTo>
                  <a:pt x="21202" y="9283"/>
                  <a:pt x="21208" y="9315"/>
                  <a:pt x="21208" y="9376"/>
                </a:cubicBezTo>
              </a:path>
              <a:path w="7988" h="9675">
                <a:moveTo>
                  <a:pt x="21382" y="7293"/>
                </a:moveTo>
                <a:cubicBezTo>
                  <a:pt x="21443" y="7293"/>
                  <a:pt x="21452" y="7312"/>
                  <a:pt x="21456" y="7243"/>
                </a:cubicBezTo>
                <a:cubicBezTo>
                  <a:pt x="21456" y="7202"/>
                  <a:pt x="21456" y="7194"/>
                  <a:pt x="21456" y="7169"/>
                </a:cubicBezTo>
                <a:cubicBezTo>
                  <a:pt x="21430" y="7169"/>
                  <a:pt x="21329" y="7186"/>
                  <a:pt x="21357" y="7243"/>
                </a:cubicBezTo>
                <a:cubicBezTo>
                  <a:pt x="21442" y="7418"/>
                  <a:pt x="21606" y="7174"/>
                  <a:pt x="21630" y="7119"/>
                </a:cubicBezTo>
                <a:cubicBezTo>
                  <a:pt x="21549" y="7070"/>
                  <a:pt x="21332" y="7045"/>
                  <a:pt x="21332" y="7218"/>
                </a:cubicBezTo>
                <a:cubicBezTo>
                  <a:pt x="21332" y="7429"/>
                  <a:pt x="21558" y="7211"/>
                  <a:pt x="21580" y="7144"/>
                </a:cubicBezTo>
                <a:cubicBezTo>
                  <a:pt x="21518" y="7097"/>
                  <a:pt x="21435" y="7111"/>
                  <a:pt x="21406" y="7218"/>
                </a:cubicBezTo>
                <a:cubicBezTo>
                  <a:pt x="21406" y="7226"/>
                  <a:pt x="21406" y="7235"/>
                  <a:pt x="21406" y="7243"/>
                </a:cubicBezTo>
              </a:path>
              <a:path w="7988" h="9675">
                <a:moveTo>
                  <a:pt x="20762" y="7863"/>
                </a:moveTo>
                <a:cubicBezTo>
                  <a:pt x="20762" y="7828"/>
                  <a:pt x="20753" y="7815"/>
                  <a:pt x="20712" y="7813"/>
                </a:cubicBezTo>
                <a:cubicBezTo>
                  <a:pt x="20628" y="7834"/>
                  <a:pt x="20613" y="7986"/>
                  <a:pt x="20638" y="8062"/>
                </a:cubicBezTo>
                <a:cubicBezTo>
                  <a:pt x="20696" y="8236"/>
                  <a:pt x="20903" y="8034"/>
                  <a:pt x="20935" y="7962"/>
                </a:cubicBezTo>
                <a:cubicBezTo>
                  <a:pt x="20943" y="7929"/>
                  <a:pt x="20952" y="7896"/>
                  <a:pt x="20960" y="7863"/>
                </a:cubicBezTo>
              </a:path>
              <a:path w="7988" h="9675">
                <a:moveTo>
                  <a:pt x="21034" y="7615"/>
                </a:moveTo>
                <a:cubicBezTo>
                  <a:pt x="21041" y="7657"/>
                  <a:pt x="21052" y="7697"/>
                  <a:pt x="21059" y="7739"/>
                </a:cubicBezTo>
              </a:path>
              <a:path w="7988" h="9675">
                <a:moveTo>
                  <a:pt x="19273" y="7119"/>
                </a:moveTo>
                <a:cubicBezTo>
                  <a:pt x="19339" y="7163"/>
                  <a:pt x="19268" y="7079"/>
                  <a:pt x="19224" y="7144"/>
                </a:cubicBezTo>
                <a:cubicBezTo>
                  <a:pt x="19216" y="7169"/>
                  <a:pt x="19207" y="7193"/>
                  <a:pt x="19199" y="7218"/>
                </a:cubicBezTo>
                <a:cubicBezTo>
                  <a:pt x="19287" y="7307"/>
                  <a:pt x="19429" y="7276"/>
                  <a:pt x="19372" y="7119"/>
                </a:cubicBezTo>
                <a:cubicBezTo>
                  <a:pt x="19306" y="6937"/>
                  <a:pt x="19216" y="7093"/>
                  <a:pt x="19199" y="7169"/>
                </a:cubicBezTo>
                <a:cubicBezTo>
                  <a:pt x="19272" y="7222"/>
                  <a:pt x="19247" y="7169"/>
                  <a:pt x="19273" y="7119"/>
                </a:cubicBezTo>
                <a:cubicBezTo>
                  <a:pt x="19273" y="7170"/>
                  <a:pt x="19279" y="7203"/>
                  <a:pt x="19298" y="7243"/>
                </a:cubicBezTo>
              </a:path>
              <a:path w="7988" h="9675">
                <a:moveTo>
                  <a:pt x="19496" y="7714"/>
                </a:moveTo>
                <a:cubicBezTo>
                  <a:pt x="19520" y="7809"/>
                  <a:pt x="19554" y="7928"/>
                  <a:pt x="19596" y="8012"/>
                </a:cubicBezTo>
              </a:path>
              <a:path w="7988" h="9675">
                <a:moveTo>
                  <a:pt x="19397" y="7739"/>
                </a:moveTo>
                <a:cubicBezTo>
                  <a:pt x="19566" y="7725"/>
                  <a:pt x="19825" y="7691"/>
                  <a:pt x="19794" y="7962"/>
                </a:cubicBezTo>
                <a:cubicBezTo>
                  <a:pt x="19776" y="8121"/>
                  <a:pt x="19597" y="8104"/>
                  <a:pt x="19546" y="8037"/>
                </a:cubicBezTo>
              </a:path>
              <a:path w="7988" h="9675">
                <a:moveTo>
                  <a:pt x="19695" y="7392"/>
                </a:moveTo>
                <a:cubicBezTo>
                  <a:pt x="19706" y="7457"/>
                  <a:pt x="19745" y="7516"/>
                  <a:pt x="19720" y="7541"/>
                </a:cubicBezTo>
              </a:path>
              <a:path w="7988" h="9675">
                <a:moveTo>
                  <a:pt x="19348" y="10071"/>
                </a:moveTo>
                <a:cubicBezTo>
                  <a:pt x="19343" y="10051"/>
                  <a:pt x="19284" y="9969"/>
                  <a:pt x="19248" y="10021"/>
                </a:cubicBezTo>
                <a:cubicBezTo>
                  <a:pt x="19248" y="10080"/>
                  <a:pt x="19245" y="10106"/>
                  <a:pt x="19224" y="10145"/>
                </a:cubicBezTo>
                <a:cubicBezTo>
                  <a:pt x="19277" y="10210"/>
                  <a:pt x="19366" y="10215"/>
                  <a:pt x="19397" y="10096"/>
                </a:cubicBezTo>
                <a:cubicBezTo>
                  <a:pt x="19429" y="9974"/>
                  <a:pt x="19310" y="9905"/>
                  <a:pt x="19248" y="10021"/>
                </a:cubicBezTo>
                <a:cubicBezTo>
                  <a:pt x="19158" y="10190"/>
                  <a:pt x="19277" y="10212"/>
                  <a:pt x="19397" y="10195"/>
                </a:cubicBezTo>
                <a:cubicBezTo>
                  <a:pt x="19397" y="10122"/>
                  <a:pt x="19377" y="10008"/>
                  <a:pt x="19273" y="10096"/>
                </a:cubicBezTo>
                <a:cubicBezTo>
                  <a:pt x="19248" y="10145"/>
                  <a:pt x="19240" y="10162"/>
                  <a:pt x="19273" y="10195"/>
                </a:cubicBezTo>
                <a:cubicBezTo>
                  <a:pt x="19340" y="10214"/>
                  <a:pt x="19402" y="10180"/>
                  <a:pt x="19348" y="10120"/>
                </a:cubicBezTo>
                <a:cubicBezTo>
                  <a:pt x="19292" y="10057"/>
                  <a:pt x="19302" y="10164"/>
                  <a:pt x="19298" y="10195"/>
                </a:cubicBezTo>
              </a:path>
              <a:path w="7988" h="9675">
                <a:moveTo>
                  <a:pt x="18951" y="10616"/>
                </a:moveTo>
                <a:cubicBezTo>
                  <a:pt x="18915" y="10742"/>
                  <a:pt x="18827" y="10873"/>
                  <a:pt x="18827" y="11013"/>
                </a:cubicBezTo>
                <a:cubicBezTo>
                  <a:pt x="18827" y="11121"/>
                  <a:pt x="18909" y="11153"/>
                  <a:pt x="19000" y="11162"/>
                </a:cubicBezTo>
                <a:cubicBezTo>
                  <a:pt x="19025" y="11162"/>
                  <a:pt x="19033" y="11162"/>
                  <a:pt x="19025" y="11187"/>
                </a:cubicBezTo>
              </a:path>
              <a:path w="7988" h="9675">
                <a:moveTo>
                  <a:pt x="19199" y="10740"/>
                </a:moveTo>
                <a:cubicBezTo>
                  <a:pt x="19151" y="10729"/>
                  <a:pt x="19149" y="10679"/>
                  <a:pt x="19149" y="10716"/>
                </a:cubicBezTo>
                <a:cubicBezTo>
                  <a:pt x="19149" y="10758"/>
                  <a:pt x="19169" y="10954"/>
                  <a:pt x="19199" y="10988"/>
                </a:cubicBezTo>
                <a:cubicBezTo>
                  <a:pt x="19207" y="10988"/>
                  <a:pt x="19216" y="10988"/>
                  <a:pt x="19224" y="10988"/>
                </a:cubicBezTo>
              </a:path>
              <a:path w="7988" h="9675">
                <a:moveTo>
                  <a:pt x="19472" y="10889"/>
                </a:moveTo>
                <a:cubicBezTo>
                  <a:pt x="19473" y="10895"/>
                  <a:pt x="19498" y="11206"/>
                  <a:pt x="19472" y="11187"/>
                </a:cubicBezTo>
                <a:cubicBezTo>
                  <a:pt x="19472" y="11170"/>
                  <a:pt x="19472" y="11154"/>
                  <a:pt x="19472" y="11137"/>
                </a:cubicBezTo>
              </a:path>
              <a:path w="7988" h="9675">
                <a:moveTo>
                  <a:pt x="19621" y="10592"/>
                </a:moveTo>
                <a:cubicBezTo>
                  <a:pt x="19637" y="10691"/>
                  <a:pt x="19674" y="10790"/>
                  <a:pt x="19695" y="10889"/>
                </a:cubicBezTo>
                <a:cubicBezTo>
                  <a:pt x="19695" y="10897"/>
                  <a:pt x="19695" y="10906"/>
                  <a:pt x="19695" y="10914"/>
                </a:cubicBezTo>
              </a:path>
              <a:path w="7988" h="9675">
                <a:moveTo>
                  <a:pt x="21555" y="7218"/>
                </a:moveTo>
                <a:cubicBezTo>
                  <a:pt x="21555" y="7185"/>
                  <a:pt x="21500" y="7137"/>
                  <a:pt x="21506" y="7169"/>
                </a:cubicBezTo>
                <a:cubicBezTo>
                  <a:pt x="21524" y="7262"/>
                  <a:pt x="21576" y="7119"/>
                  <a:pt x="21580" y="7094"/>
                </a:cubicBezTo>
                <a:cubicBezTo>
                  <a:pt x="21571" y="7099"/>
                  <a:pt x="21457" y="7218"/>
                  <a:pt x="21530" y="7218"/>
                </a:cubicBezTo>
                <a:cubicBezTo>
                  <a:pt x="21647" y="7218"/>
                  <a:pt x="21551" y="7137"/>
                  <a:pt x="21530" y="7119"/>
                </a:cubicBezTo>
                <a:cubicBezTo>
                  <a:pt x="21504" y="7159"/>
                  <a:pt x="21466" y="7357"/>
                  <a:pt x="21580" y="7268"/>
                </a:cubicBezTo>
                <a:cubicBezTo>
                  <a:pt x="21682" y="7188"/>
                  <a:pt x="21597" y="7093"/>
                  <a:pt x="21530" y="7169"/>
                </a:cubicBezTo>
                <a:cubicBezTo>
                  <a:pt x="21486" y="7219"/>
                  <a:pt x="21501" y="7273"/>
                  <a:pt x="21530" y="7293"/>
                </a:cubicBezTo>
              </a:path>
              <a:path w="7988" h="9675">
                <a:moveTo>
                  <a:pt x="21704" y="6028"/>
                </a:moveTo>
                <a:cubicBezTo>
                  <a:pt x="21677" y="6213"/>
                  <a:pt x="21664" y="6365"/>
                  <a:pt x="21729" y="6548"/>
                </a:cubicBezTo>
                <a:cubicBezTo>
                  <a:pt x="21757" y="6626"/>
                  <a:pt x="21781" y="6612"/>
                  <a:pt x="21828" y="6648"/>
                </a:cubicBezTo>
              </a:path>
              <a:path w="7988" h="9675">
                <a:moveTo>
                  <a:pt x="21903" y="6077"/>
                </a:moveTo>
                <a:cubicBezTo>
                  <a:pt x="21919" y="5995"/>
                  <a:pt x="21944" y="5992"/>
                  <a:pt x="22027" y="5978"/>
                </a:cubicBezTo>
                <a:cubicBezTo>
                  <a:pt x="22043" y="6113"/>
                  <a:pt x="22022" y="6140"/>
                  <a:pt x="21977" y="6251"/>
                </a:cubicBezTo>
                <a:cubicBezTo>
                  <a:pt x="22013" y="6191"/>
                  <a:pt x="22179" y="6127"/>
                  <a:pt x="22175" y="6276"/>
                </a:cubicBezTo>
                <a:cubicBezTo>
                  <a:pt x="22171" y="6432"/>
                  <a:pt x="22026" y="6481"/>
                  <a:pt x="21903" y="6499"/>
                </a:cubicBezTo>
              </a:path>
              <a:path w="7988" h="9675">
                <a:moveTo>
                  <a:pt x="22423" y="6350"/>
                </a:moveTo>
                <a:cubicBezTo>
                  <a:pt x="22441" y="6413"/>
                  <a:pt x="22500" y="6500"/>
                  <a:pt x="22448" y="6474"/>
                </a:cubicBezTo>
              </a:path>
              <a:path w="7988" h="9675">
                <a:moveTo>
                  <a:pt x="22399" y="5829"/>
                </a:moveTo>
                <a:cubicBezTo>
                  <a:pt x="22440" y="5818"/>
                  <a:pt x="22477" y="5797"/>
                  <a:pt x="22523" y="5779"/>
                </a:cubicBezTo>
                <a:cubicBezTo>
                  <a:pt x="22570" y="5864"/>
                  <a:pt x="22618" y="5999"/>
                  <a:pt x="22498" y="6052"/>
                </a:cubicBezTo>
                <a:cubicBezTo>
                  <a:pt x="22498" y="6044"/>
                  <a:pt x="22498" y="6036"/>
                  <a:pt x="22498" y="6028"/>
                </a:cubicBezTo>
                <a:cubicBezTo>
                  <a:pt x="22599" y="5970"/>
                  <a:pt x="22731" y="5957"/>
                  <a:pt x="22696" y="6127"/>
                </a:cubicBezTo>
                <a:cubicBezTo>
                  <a:pt x="22669" y="6258"/>
                  <a:pt x="22612" y="6269"/>
                  <a:pt x="22547" y="6226"/>
                </a:cubicBezTo>
              </a:path>
              <a:path w="7988" h="9675">
                <a:moveTo>
                  <a:pt x="22696" y="5457"/>
                </a:moveTo>
                <a:cubicBezTo>
                  <a:pt x="22904" y="5582"/>
                  <a:pt x="23072" y="5748"/>
                  <a:pt x="23019" y="6028"/>
                </a:cubicBezTo>
                <a:cubicBezTo>
                  <a:pt x="22947" y="6194"/>
                  <a:pt x="22929" y="6248"/>
                  <a:pt x="22796" y="6276"/>
                </a:cubicBezTo>
              </a:path>
              <a:path w="7988" h="9675">
                <a:moveTo>
                  <a:pt x="19224" y="6127"/>
                </a:moveTo>
                <a:cubicBezTo>
                  <a:pt x="19132" y="6108"/>
                  <a:pt x="19068" y="6490"/>
                  <a:pt x="19124" y="6648"/>
                </a:cubicBezTo>
                <a:cubicBezTo>
                  <a:pt x="19172" y="6784"/>
                  <a:pt x="19294" y="6747"/>
                  <a:pt x="19397" y="6747"/>
                </a:cubicBezTo>
              </a:path>
              <a:path w="7988" h="9675">
                <a:moveTo>
                  <a:pt x="19447" y="6251"/>
                </a:moveTo>
                <a:cubicBezTo>
                  <a:pt x="19442" y="6223"/>
                  <a:pt x="19409" y="6155"/>
                  <a:pt x="19422" y="6201"/>
                </a:cubicBezTo>
                <a:cubicBezTo>
                  <a:pt x="19461" y="6333"/>
                  <a:pt x="19504" y="6461"/>
                  <a:pt x="19521" y="6598"/>
                </a:cubicBezTo>
              </a:path>
              <a:path w="7988" h="9675">
                <a:moveTo>
                  <a:pt x="19720" y="6499"/>
                </a:moveTo>
                <a:cubicBezTo>
                  <a:pt x="19765" y="6557"/>
                  <a:pt x="19788" y="6603"/>
                  <a:pt x="19819" y="6672"/>
                </a:cubicBezTo>
              </a:path>
              <a:path w="7988" h="9675">
                <a:moveTo>
                  <a:pt x="19819" y="6077"/>
                </a:moveTo>
                <a:cubicBezTo>
                  <a:pt x="19837" y="6063"/>
                  <a:pt x="19978" y="5940"/>
                  <a:pt x="19993" y="6028"/>
                </a:cubicBezTo>
                <a:cubicBezTo>
                  <a:pt x="19993" y="6120"/>
                  <a:pt x="19995" y="6146"/>
                  <a:pt x="19968" y="6201"/>
                </a:cubicBezTo>
                <a:cubicBezTo>
                  <a:pt x="19943" y="6201"/>
                  <a:pt x="19935" y="6201"/>
                  <a:pt x="19943" y="6226"/>
                </a:cubicBezTo>
                <a:cubicBezTo>
                  <a:pt x="20034" y="6185"/>
                  <a:pt x="20136" y="6159"/>
                  <a:pt x="20067" y="6325"/>
                </a:cubicBezTo>
                <a:cubicBezTo>
                  <a:pt x="20031" y="6411"/>
                  <a:pt x="19959" y="6516"/>
                  <a:pt x="19943" y="6375"/>
                </a:cubicBezTo>
              </a:path>
              <a:path w="7988" h="9675">
                <a:moveTo>
                  <a:pt x="19968" y="5730"/>
                </a:moveTo>
                <a:cubicBezTo>
                  <a:pt x="20147" y="5774"/>
                  <a:pt x="20303" y="5861"/>
                  <a:pt x="20365" y="6052"/>
                </a:cubicBezTo>
                <a:cubicBezTo>
                  <a:pt x="20403" y="6170"/>
                  <a:pt x="20420" y="6458"/>
                  <a:pt x="20290" y="6548"/>
                </a:cubicBezTo>
                <a:cubicBezTo>
                  <a:pt x="20282" y="6548"/>
                  <a:pt x="20273" y="6548"/>
                  <a:pt x="20265" y="6548"/>
                </a:cubicBezTo>
              </a:path>
              <a:path w="7988" h="9675">
                <a:moveTo>
                  <a:pt x="16743" y="15007"/>
                </a:moveTo>
                <a:cubicBezTo>
                  <a:pt x="16757" y="15063"/>
                  <a:pt x="16760" y="15056"/>
                  <a:pt x="16768" y="15131"/>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55" name=""/>
          <p:cNvSpPr/>
          <p:nvPr/>
        </p:nvSpPr>
        <p:spPr>
          <a:xfrm>
            <a:off x="8089920" y="1062000"/>
            <a:ext cx="714240" cy="474840"/>
          </a:xfrm>
          <a:custGeom>
            <a:avLst/>
            <a:gdLst/>
            <a:ahLst/>
            <a:rect l="l" t="t" r="r" b="b"/>
            <a:pathLst>
              <a:path w="1985" h="1315">
                <a:moveTo>
                  <a:pt x="23093" y="2952"/>
                </a:moveTo>
                <a:cubicBezTo>
                  <a:pt x="22999" y="3160"/>
                  <a:pt x="22833" y="3347"/>
                  <a:pt x="22845" y="3597"/>
                </a:cubicBezTo>
                <a:cubicBezTo>
                  <a:pt x="22847" y="3635"/>
                  <a:pt x="22977" y="3920"/>
                  <a:pt x="23068" y="3845"/>
                </a:cubicBezTo>
                <a:cubicBezTo>
                  <a:pt x="23068" y="3837"/>
                  <a:pt x="23068" y="3828"/>
                  <a:pt x="23068" y="3820"/>
                </a:cubicBezTo>
              </a:path>
              <a:path w="1985" h="1315">
                <a:moveTo>
                  <a:pt x="23192" y="3448"/>
                </a:moveTo>
                <a:cubicBezTo>
                  <a:pt x="23291" y="3448"/>
                  <a:pt x="23391" y="3448"/>
                  <a:pt x="23490" y="3448"/>
                </a:cubicBezTo>
              </a:path>
              <a:path w="1985" h="1315">
                <a:moveTo>
                  <a:pt x="23639" y="3076"/>
                </a:moveTo>
                <a:cubicBezTo>
                  <a:pt x="23683" y="3254"/>
                  <a:pt x="23702" y="3433"/>
                  <a:pt x="23713" y="3621"/>
                </a:cubicBezTo>
                <a:cubicBezTo>
                  <a:pt x="23713" y="3654"/>
                  <a:pt x="23713" y="3688"/>
                  <a:pt x="23713" y="3721"/>
                </a:cubicBezTo>
              </a:path>
              <a:path w="1985" h="1315">
                <a:moveTo>
                  <a:pt x="23937" y="3547"/>
                </a:moveTo>
                <a:cubicBezTo>
                  <a:pt x="23953" y="3644"/>
                  <a:pt x="23936" y="3810"/>
                  <a:pt x="23986" y="3894"/>
                </a:cubicBezTo>
                <a:cubicBezTo>
                  <a:pt x="23986" y="3886"/>
                  <a:pt x="23986" y="3878"/>
                  <a:pt x="23986" y="3870"/>
                </a:cubicBezTo>
              </a:path>
              <a:path w="1985" h="1315">
                <a:moveTo>
                  <a:pt x="23961" y="3200"/>
                </a:moveTo>
                <a:cubicBezTo>
                  <a:pt x="24034" y="3182"/>
                  <a:pt x="24217" y="3058"/>
                  <a:pt x="24284" y="3125"/>
                </a:cubicBezTo>
                <a:cubicBezTo>
                  <a:pt x="24361" y="3202"/>
                  <a:pt x="24237" y="3322"/>
                  <a:pt x="24185" y="3349"/>
                </a:cubicBezTo>
                <a:cubicBezTo>
                  <a:pt x="24247" y="3341"/>
                  <a:pt x="24526" y="3292"/>
                  <a:pt x="24457" y="3473"/>
                </a:cubicBezTo>
                <a:cubicBezTo>
                  <a:pt x="24436" y="3529"/>
                  <a:pt x="24090" y="3755"/>
                  <a:pt x="24085" y="3597"/>
                </a:cubicBezTo>
                <a:cubicBezTo>
                  <a:pt x="24102" y="3556"/>
                  <a:pt x="24118" y="3514"/>
                  <a:pt x="24135" y="3473"/>
                </a:cubicBezTo>
              </a:path>
              <a:path w="1985" h="1315">
                <a:moveTo>
                  <a:pt x="22473" y="4142"/>
                </a:moveTo>
                <a:cubicBezTo>
                  <a:pt x="22481" y="4142"/>
                  <a:pt x="22490" y="4142"/>
                  <a:pt x="22498" y="4142"/>
                </a:cubicBezTo>
                <a:cubicBezTo>
                  <a:pt x="22498" y="4183"/>
                  <a:pt x="22498" y="4225"/>
                  <a:pt x="22498" y="4266"/>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56" name=""/>
          <p:cNvSpPr/>
          <p:nvPr/>
        </p:nvSpPr>
        <p:spPr>
          <a:xfrm>
            <a:off x="4946760" y="1108080"/>
            <a:ext cx="3108240" cy="411120"/>
          </a:xfrm>
          <a:custGeom>
            <a:avLst/>
            <a:gdLst/>
            <a:ahLst/>
            <a:rect l="l" t="t" r="r" b="b"/>
            <a:pathLst>
              <a:path w="8633" h="1142">
                <a:moveTo>
                  <a:pt x="21704" y="3200"/>
                </a:moveTo>
                <a:cubicBezTo>
                  <a:pt x="21918" y="3179"/>
                  <a:pt x="22381" y="3069"/>
                  <a:pt x="22374" y="3423"/>
                </a:cubicBezTo>
                <a:cubicBezTo>
                  <a:pt x="22370" y="3633"/>
                  <a:pt x="22144" y="3740"/>
                  <a:pt x="21977" y="3770"/>
                </a:cubicBezTo>
              </a:path>
              <a:path w="8633" h="1142">
                <a:moveTo>
                  <a:pt x="20563" y="3076"/>
                </a:moveTo>
                <a:cubicBezTo>
                  <a:pt x="20709" y="3239"/>
                  <a:pt x="20927" y="3472"/>
                  <a:pt x="20786" y="3721"/>
                </a:cubicBezTo>
                <a:cubicBezTo>
                  <a:pt x="20737" y="3762"/>
                  <a:pt x="20687" y="3804"/>
                  <a:pt x="20638" y="3845"/>
                </a:cubicBezTo>
              </a:path>
              <a:path w="8633" h="1142">
                <a:moveTo>
                  <a:pt x="17016" y="3324"/>
                </a:moveTo>
                <a:cubicBezTo>
                  <a:pt x="17215" y="3552"/>
                  <a:pt x="17401" y="3771"/>
                  <a:pt x="17165" y="4068"/>
                </a:cubicBezTo>
                <a:cubicBezTo>
                  <a:pt x="17115" y="4101"/>
                  <a:pt x="17066" y="4134"/>
                  <a:pt x="17016" y="4167"/>
                </a:cubicBezTo>
              </a:path>
              <a:path w="8633" h="1142">
                <a:moveTo>
                  <a:pt x="13742" y="3349"/>
                </a:moveTo>
                <a:cubicBezTo>
                  <a:pt x="13968" y="3563"/>
                  <a:pt x="14122" y="3744"/>
                  <a:pt x="13965" y="4068"/>
                </a:cubicBezTo>
                <a:cubicBezTo>
                  <a:pt x="13924" y="4118"/>
                  <a:pt x="13882" y="4167"/>
                  <a:pt x="13841" y="4217"/>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57" name=""/>
          <p:cNvSpPr/>
          <p:nvPr/>
        </p:nvSpPr>
        <p:spPr>
          <a:xfrm>
            <a:off x="4054320" y="1258920"/>
            <a:ext cx="152640" cy="250920"/>
          </a:xfrm>
          <a:custGeom>
            <a:avLst/>
            <a:gdLst/>
            <a:ahLst/>
            <a:rect l="l" t="t" r="r" b="b"/>
            <a:pathLst>
              <a:path w="423" h="696">
                <a:moveTo>
                  <a:pt x="11336" y="3621"/>
                </a:moveTo>
                <a:cubicBezTo>
                  <a:pt x="11322" y="3813"/>
                  <a:pt x="11297" y="4003"/>
                  <a:pt x="11261" y="4192"/>
                </a:cubicBezTo>
                <a:cubicBezTo>
                  <a:pt x="11274" y="3967"/>
                  <a:pt x="11282" y="3735"/>
                  <a:pt x="11361" y="3522"/>
                </a:cubicBezTo>
                <a:cubicBezTo>
                  <a:pt x="11389" y="3493"/>
                  <a:pt x="11402" y="3485"/>
                  <a:pt x="11435" y="3497"/>
                </a:cubicBezTo>
                <a:cubicBezTo>
                  <a:pt x="11603" y="3709"/>
                  <a:pt x="11664" y="3869"/>
                  <a:pt x="11683" y="4142"/>
                </a:cubicBezTo>
                <a:cubicBezTo>
                  <a:pt x="11683" y="4150"/>
                  <a:pt x="11683" y="4159"/>
                  <a:pt x="11683" y="4167"/>
                </a:cubicBezTo>
              </a:path>
              <a:path w="423" h="696">
                <a:moveTo>
                  <a:pt x="11311" y="3944"/>
                </a:moveTo>
                <a:cubicBezTo>
                  <a:pt x="11421" y="3915"/>
                  <a:pt x="11524" y="3859"/>
                  <a:pt x="11633" y="3845"/>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58" name=""/>
          <p:cNvSpPr/>
          <p:nvPr/>
        </p:nvSpPr>
        <p:spPr>
          <a:xfrm>
            <a:off x="4357800" y="1214280"/>
            <a:ext cx="268200" cy="295560"/>
          </a:xfrm>
          <a:custGeom>
            <a:avLst/>
            <a:gdLst/>
            <a:ahLst/>
            <a:rect l="l" t="t" r="r" b="b"/>
            <a:pathLst>
              <a:path w="745" h="820">
                <a:moveTo>
                  <a:pt x="12303" y="3373"/>
                </a:moveTo>
                <a:cubicBezTo>
                  <a:pt x="12186" y="3574"/>
                  <a:pt x="12069" y="3824"/>
                  <a:pt x="12105" y="4068"/>
                </a:cubicBezTo>
                <a:cubicBezTo>
                  <a:pt x="12118" y="4157"/>
                  <a:pt x="12240" y="4176"/>
                  <a:pt x="12303" y="4192"/>
                </a:cubicBezTo>
              </a:path>
              <a:path w="745" h="820">
                <a:moveTo>
                  <a:pt x="12452" y="3845"/>
                </a:moveTo>
                <a:cubicBezTo>
                  <a:pt x="12511" y="3837"/>
                  <a:pt x="12566" y="3820"/>
                  <a:pt x="12626" y="3820"/>
                </a:cubicBezTo>
              </a:path>
              <a:path w="745" h="820">
                <a:moveTo>
                  <a:pt x="12750" y="3572"/>
                </a:moveTo>
                <a:cubicBezTo>
                  <a:pt x="12775" y="3700"/>
                  <a:pt x="12777" y="3840"/>
                  <a:pt x="12799" y="3969"/>
                </a:cubicBezTo>
                <a:cubicBezTo>
                  <a:pt x="12821" y="4012"/>
                  <a:pt x="12825" y="4024"/>
                  <a:pt x="12849" y="4043"/>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59" name=""/>
          <p:cNvSpPr/>
          <p:nvPr/>
        </p:nvSpPr>
        <p:spPr>
          <a:xfrm>
            <a:off x="5268960" y="1197000"/>
            <a:ext cx="803160" cy="295200"/>
          </a:xfrm>
          <a:custGeom>
            <a:avLst/>
            <a:gdLst/>
            <a:ahLst/>
            <a:rect l="l" t="t" r="r" b="b"/>
            <a:pathLst>
              <a:path w="2233" h="819">
                <a:moveTo>
                  <a:pt x="14908" y="3597"/>
                </a:moveTo>
                <a:cubicBezTo>
                  <a:pt x="14908" y="3737"/>
                  <a:pt x="14908" y="3878"/>
                  <a:pt x="14908" y="4018"/>
                </a:cubicBezTo>
              </a:path>
              <a:path w="2233" h="819">
                <a:moveTo>
                  <a:pt x="14635" y="3572"/>
                </a:moveTo>
                <a:cubicBezTo>
                  <a:pt x="14745" y="3498"/>
                  <a:pt x="14938" y="3318"/>
                  <a:pt x="15056" y="3473"/>
                </a:cubicBezTo>
                <a:cubicBezTo>
                  <a:pt x="15126" y="3566"/>
                  <a:pt x="15040" y="3620"/>
                  <a:pt x="14982" y="3671"/>
                </a:cubicBezTo>
                <a:cubicBezTo>
                  <a:pt x="15152" y="3640"/>
                  <a:pt x="15369" y="3680"/>
                  <a:pt x="15156" y="3894"/>
                </a:cubicBezTo>
                <a:cubicBezTo>
                  <a:pt x="15046" y="4004"/>
                  <a:pt x="14912" y="4043"/>
                  <a:pt x="14883" y="3894"/>
                </a:cubicBezTo>
              </a:path>
              <a:path w="2233" h="819">
                <a:moveTo>
                  <a:pt x="15627" y="3324"/>
                </a:moveTo>
                <a:cubicBezTo>
                  <a:pt x="15565" y="3571"/>
                  <a:pt x="15515" y="3787"/>
                  <a:pt x="15553" y="4043"/>
                </a:cubicBezTo>
                <a:cubicBezTo>
                  <a:pt x="15565" y="4125"/>
                  <a:pt x="15606" y="4127"/>
                  <a:pt x="15652" y="4142"/>
                </a:cubicBezTo>
              </a:path>
              <a:path w="2233" h="819">
                <a:moveTo>
                  <a:pt x="15850" y="3746"/>
                </a:moveTo>
                <a:cubicBezTo>
                  <a:pt x="15911" y="3790"/>
                  <a:pt x="15977" y="3772"/>
                  <a:pt x="16049" y="3746"/>
                </a:cubicBezTo>
                <a:cubicBezTo>
                  <a:pt x="16065" y="3738"/>
                  <a:pt x="16082" y="3729"/>
                  <a:pt x="16098" y="3721"/>
                </a:cubicBezTo>
              </a:path>
              <a:path w="2233" h="819">
                <a:moveTo>
                  <a:pt x="16197" y="3547"/>
                </a:moveTo>
                <a:cubicBezTo>
                  <a:pt x="16306" y="3511"/>
                  <a:pt x="16346" y="3499"/>
                  <a:pt x="16321" y="3646"/>
                </a:cubicBezTo>
                <a:cubicBezTo>
                  <a:pt x="16313" y="3671"/>
                  <a:pt x="16305" y="3696"/>
                  <a:pt x="16297" y="3721"/>
                </a:cubicBezTo>
                <a:cubicBezTo>
                  <a:pt x="16289" y="3721"/>
                  <a:pt x="16280" y="3721"/>
                  <a:pt x="16272" y="3721"/>
                </a:cubicBezTo>
                <a:cubicBezTo>
                  <a:pt x="16385" y="3734"/>
                  <a:pt x="16510" y="3764"/>
                  <a:pt x="16421" y="3919"/>
                </a:cubicBezTo>
                <a:cubicBezTo>
                  <a:pt x="16358" y="4029"/>
                  <a:pt x="16229" y="4096"/>
                  <a:pt x="16123" y="4043"/>
                </a:cubicBezTo>
              </a:path>
              <a:path w="2233" h="819">
                <a:moveTo>
                  <a:pt x="16520" y="3919"/>
                </a:moveTo>
                <a:cubicBezTo>
                  <a:pt x="16540" y="4000"/>
                  <a:pt x="16545" y="4057"/>
                  <a:pt x="16545" y="4142"/>
                </a:cubicBezTo>
              </a:path>
              <a:path w="2233" h="819">
                <a:moveTo>
                  <a:pt x="16818" y="3696"/>
                </a:moveTo>
                <a:cubicBezTo>
                  <a:pt x="16820" y="3745"/>
                  <a:pt x="16790" y="4021"/>
                  <a:pt x="16867" y="3969"/>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60" name=""/>
          <p:cNvSpPr/>
          <p:nvPr/>
        </p:nvSpPr>
        <p:spPr>
          <a:xfrm>
            <a:off x="6510240" y="1214280"/>
            <a:ext cx="160560" cy="241560"/>
          </a:xfrm>
          <a:custGeom>
            <a:avLst/>
            <a:gdLst/>
            <a:ahLst/>
            <a:rect l="l" t="t" r="r" b="b"/>
            <a:pathLst>
              <a:path w="447" h="671">
                <a:moveTo>
                  <a:pt x="18380" y="3448"/>
                </a:moveTo>
                <a:cubicBezTo>
                  <a:pt x="18449" y="3561"/>
                  <a:pt x="18361" y="3410"/>
                  <a:pt x="18331" y="3373"/>
                </a:cubicBezTo>
                <a:cubicBezTo>
                  <a:pt x="18148" y="3373"/>
                  <a:pt x="18110" y="3565"/>
                  <a:pt x="18083" y="3721"/>
                </a:cubicBezTo>
                <a:cubicBezTo>
                  <a:pt x="18033" y="4004"/>
                  <a:pt x="18164" y="4082"/>
                  <a:pt x="18405" y="3994"/>
                </a:cubicBezTo>
                <a:cubicBezTo>
                  <a:pt x="18482" y="3955"/>
                  <a:pt x="18497" y="3956"/>
                  <a:pt x="18529" y="3919"/>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61" name=""/>
          <p:cNvSpPr/>
          <p:nvPr/>
        </p:nvSpPr>
        <p:spPr>
          <a:xfrm>
            <a:off x="6858000" y="1152360"/>
            <a:ext cx="268200" cy="258840"/>
          </a:xfrm>
          <a:custGeom>
            <a:avLst/>
            <a:gdLst/>
            <a:ahLst/>
            <a:rect l="l" t="t" r="r" b="b"/>
            <a:pathLst>
              <a:path w="745" h="720">
                <a:moveTo>
                  <a:pt x="19199" y="3200"/>
                </a:moveTo>
                <a:cubicBezTo>
                  <a:pt x="19099" y="3367"/>
                  <a:pt x="18999" y="3617"/>
                  <a:pt x="19050" y="3820"/>
                </a:cubicBezTo>
                <a:cubicBezTo>
                  <a:pt x="19069" y="3895"/>
                  <a:pt x="19197" y="3976"/>
                  <a:pt x="19224" y="3894"/>
                </a:cubicBezTo>
              </a:path>
              <a:path w="745" h="720">
                <a:moveTo>
                  <a:pt x="19273" y="3547"/>
                </a:moveTo>
                <a:cubicBezTo>
                  <a:pt x="19362" y="3547"/>
                  <a:pt x="19391" y="3530"/>
                  <a:pt x="19472" y="3497"/>
                </a:cubicBezTo>
              </a:path>
              <a:path w="745" h="720">
                <a:moveTo>
                  <a:pt x="19521" y="3349"/>
                </a:moveTo>
                <a:cubicBezTo>
                  <a:pt x="19565" y="3327"/>
                  <a:pt x="19695" y="3296"/>
                  <a:pt x="19695" y="3398"/>
                </a:cubicBezTo>
                <a:cubicBezTo>
                  <a:pt x="19695" y="3477"/>
                  <a:pt x="19650" y="3491"/>
                  <a:pt x="19596" y="3522"/>
                </a:cubicBezTo>
                <a:cubicBezTo>
                  <a:pt x="19658" y="3522"/>
                  <a:pt x="19784" y="3445"/>
                  <a:pt x="19794" y="3572"/>
                </a:cubicBezTo>
                <a:cubicBezTo>
                  <a:pt x="19801" y="3663"/>
                  <a:pt x="19568" y="3897"/>
                  <a:pt x="19472" y="3845"/>
                </a:cubicBezTo>
                <a:cubicBezTo>
                  <a:pt x="19472" y="3828"/>
                  <a:pt x="19472" y="3812"/>
                  <a:pt x="19472" y="3795"/>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62" name=""/>
          <p:cNvSpPr/>
          <p:nvPr/>
        </p:nvSpPr>
        <p:spPr>
          <a:xfrm>
            <a:off x="7259760" y="1187280"/>
            <a:ext cx="117360" cy="169920"/>
          </a:xfrm>
          <a:custGeom>
            <a:avLst/>
            <a:gdLst/>
            <a:ahLst/>
            <a:rect l="l" t="t" r="r" b="b"/>
            <a:pathLst>
              <a:path w="324" h="472">
                <a:moveTo>
                  <a:pt x="20166" y="3299"/>
                </a:moveTo>
                <a:cubicBezTo>
                  <a:pt x="20243" y="3299"/>
                  <a:pt x="20392" y="3265"/>
                  <a:pt x="20389" y="3373"/>
                </a:cubicBezTo>
                <a:cubicBezTo>
                  <a:pt x="20386" y="3483"/>
                  <a:pt x="20311" y="3479"/>
                  <a:pt x="20340" y="3522"/>
                </a:cubicBezTo>
                <a:cubicBezTo>
                  <a:pt x="20412" y="3532"/>
                  <a:pt x="20559" y="3566"/>
                  <a:pt x="20464" y="3671"/>
                </a:cubicBezTo>
                <a:cubicBezTo>
                  <a:pt x="20363" y="3782"/>
                  <a:pt x="20297" y="3769"/>
                  <a:pt x="20191" y="3721"/>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63" name=""/>
          <p:cNvSpPr/>
          <p:nvPr/>
        </p:nvSpPr>
        <p:spPr>
          <a:xfrm>
            <a:off x="4125960" y="1357200"/>
            <a:ext cx="4751280" cy="598680"/>
          </a:xfrm>
          <a:custGeom>
            <a:avLst/>
            <a:gdLst/>
            <a:ahLst/>
            <a:rect l="l" t="t" r="r" b="b"/>
            <a:pathLst>
              <a:path w="13197" h="1663">
                <a:moveTo>
                  <a:pt x="23713" y="4887"/>
                </a:moveTo>
                <a:cubicBezTo>
                  <a:pt x="23681" y="5029"/>
                  <a:pt x="23719" y="5081"/>
                  <a:pt x="23614" y="5035"/>
                </a:cubicBezTo>
              </a:path>
              <a:path w="13197" h="1663">
                <a:moveTo>
                  <a:pt x="24259" y="3919"/>
                </a:moveTo>
                <a:cubicBezTo>
                  <a:pt x="24557" y="4090"/>
                  <a:pt x="24676" y="4276"/>
                  <a:pt x="24656" y="4638"/>
                </a:cubicBezTo>
                <a:cubicBezTo>
                  <a:pt x="24645" y="4846"/>
                  <a:pt x="24564" y="5064"/>
                  <a:pt x="24358" y="4961"/>
                </a:cubicBezTo>
              </a:path>
              <a:path w="13197" h="1663">
                <a:moveTo>
                  <a:pt x="19918" y="3770"/>
                </a:moveTo>
                <a:cubicBezTo>
                  <a:pt x="19939" y="3855"/>
                  <a:pt x="19940" y="3902"/>
                  <a:pt x="19968" y="3820"/>
                </a:cubicBezTo>
              </a:path>
              <a:path w="13197" h="1663">
                <a:moveTo>
                  <a:pt x="19472" y="4217"/>
                </a:moveTo>
                <a:cubicBezTo>
                  <a:pt x="19389" y="4423"/>
                  <a:pt x="19287" y="4597"/>
                  <a:pt x="19323" y="4837"/>
                </a:cubicBezTo>
                <a:cubicBezTo>
                  <a:pt x="19369" y="4930"/>
                  <a:pt x="19380" y="4959"/>
                  <a:pt x="19447" y="4986"/>
                </a:cubicBezTo>
              </a:path>
              <a:path w="13197" h="1663">
                <a:moveTo>
                  <a:pt x="20762" y="4192"/>
                </a:moveTo>
                <a:cubicBezTo>
                  <a:pt x="20966" y="4405"/>
                  <a:pt x="21238" y="4658"/>
                  <a:pt x="20985" y="4961"/>
                </a:cubicBezTo>
                <a:cubicBezTo>
                  <a:pt x="20826" y="5074"/>
                  <a:pt x="20786" y="5121"/>
                  <a:pt x="20662" y="5035"/>
                </a:cubicBezTo>
              </a:path>
              <a:path w="13197" h="1663">
                <a:moveTo>
                  <a:pt x="15429" y="4539"/>
                </a:moveTo>
                <a:cubicBezTo>
                  <a:pt x="15434" y="4642"/>
                  <a:pt x="15442" y="4735"/>
                  <a:pt x="15453" y="4837"/>
                </a:cubicBezTo>
              </a:path>
              <a:path w="13197" h="1663">
                <a:moveTo>
                  <a:pt x="16024" y="4415"/>
                </a:moveTo>
                <a:cubicBezTo>
                  <a:pt x="15882" y="4585"/>
                  <a:pt x="15756" y="4893"/>
                  <a:pt x="15776" y="5135"/>
                </a:cubicBezTo>
                <a:cubicBezTo>
                  <a:pt x="15788" y="5286"/>
                  <a:pt x="15926" y="5254"/>
                  <a:pt x="15999" y="5209"/>
                </a:cubicBezTo>
              </a:path>
              <a:path w="13197" h="1663">
                <a:moveTo>
                  <a:pt x="16768" y="4564"/>
                </a:moveTo>
                <a:cubicBezTo>
                  <a:pt x="16779" y="4710"/>
                  <a:pt x="16788" y="4872"/>
                  <a:pt x="16842" y="5011"/>
                </a:cubicBezTo>
                <a:cubicBezTo>
                  <a:pt x="16842" y="5003"/>
                  <a:pt x="16842" y="4994"/>
                  <a:pt x="16842" y="4986"/>
                </a:cubicBezTo>
              </a:path>
              <a:path w="13197" h="1663">
                <a:moveTo>
                  <a:pt x="16942" y="4390"/>
                </a:moveTo>
                <a:cubicBezTo>
                  <a:pt x="17145" y="4679"/>
                  <a:pt x="17331" y="4904"/>
                  <a:pt x="17016" y="5184"/>
                </a:cubicBezTo>
                <a:cubicBezTo>
                  <a:pt x="16975" y="5209"/>
                  <a:pt x="16933" y="5234"/>
                  <a:pt x="16892" y="5259"/>
                </a:cubicBezTo>
              </a:path>
              <a:path w="13197" h="1663">
                <a:moveTo>
                  <a:pt x="13221" y="4118"/>
                </a:moveTo>
                <a:cubicBezTo>
                  <a:pt x="13200" y="4202"/>
                  <a:pt x="13199" y="4221"/>
                  <a:pt x="13171" y="4266"/>
                </a:cubicBezTo>
              </a:path>
              <a:path w="13197" h="1663">
                <a:moveTo>
                  <a:pt x="11460" y="5135"/>
                </a:moveTo>
                <a:cubicBezTo>
                  <a:pt x="11565" y="5094"/>
                  <a:pt x="11622" y="5058"/>
                  <a:pt x="11708" y="4986"/>
                </a:cubicBezTo>
              </a:path>
              <a:path w="13197" h="1663">
                <a:moveTo>
                  <a:pt x="12551" y="4415"/>
                </a:moveTo>
                <a:cubicBezTo>
                  <a:pt x="12415" y="4634"/>
                  <a:pt x="12295" y="4938"/>
                  <a:pt x="12353" y="5209"/>
                </a:cubicBezTo>
                <a:cubicBezTo>
                  <a:pt x="12382" y="5346"/>
                  <a:pt x="12448" y="5346"/>
                  <a:pt x="12551" y="5358"/>
                </a:cubicBezTo>
              </a:path>
              <a:path w="13197" h="1663">
                <a:moveTo>
                  <a:pt x="13543" y="4341"/>
                </a:moveTo>
                <a:cubicBezTo>
                  <a:pt x="13745" y="4508"/>
                  <a:pt x="13931" y="4736"/>
                  <a:pt x="13965" y="5011"/>
                </a:cubicBezTo>
                <a:cubicBezTo>
                  <a:pt x="13989" y="5206"/>
                  <a:pt x="13879" y="5302"/>
                  <a:pt x="13767" y="5432"/>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64" name=""/>
          <p:cNvSpPr/>
          <p:nvPr/>
        </p:nvSpPr>
        <p:spPr>
          <a:xfrm>
            <a:off x="4081320" y="1660680"/>
            <a:ext cx="214560" cy="260280"/>
          </a:xfrm>
          <a:custGeom>
            <a:avLst/>
            <a:gdLst/>
            <a:ahLst/>
            <a:rect l="l" t="t" r="r" b="b"/>
            <a:pathLst>
              <a:path w="596" h="720">
                <a:moveTo>
                  <a:pt x="11385" y="4837"/>
                </a:moveTo>
                <a:cubicBezTo>
                  <a:pt x="11385" y="4989"/>
                  <a:pt x="11378" y="5132"/>
                  <a:pt x="11361" y="5283"/>
                </a:cubicBezTo>
                <a:cubicBezTo>
                  <a:pt x="11361" y="5392"/>
                  <a:pt x="11330" y="5169"/>
                  <a:pt x="11336" y="5060"/>
                </a:cubicBezTo>
                <a:cubicBezTo>
                  <a:pt x="11344" y="4918"/>
                  <a:pt x="11355" y="4669"/>
                  <a:pt x="11485" y="4614"/>
                </a:cubicBezTo>
                <a:cubicBezTo>
                  <a:pt x="11656" y="4819"/>
                  <a:pt x="11658" y="4965"/>
                  <a:pt x="11658" y="5234"/>
                </a:cubicBezTo>
                <a:cubicBezTo>
                  <a:pt x="11658" y="5242"/>
                  <a:pt x="11658" y="5251"/>
                  <a:pt x="11658" y="5259"/>
                </a:cubicBezTo>
              </a:path>
              <a:path w="596" h="720">
                <a:moveTo>
                  <a:pt x="11906" y="4614"/>
                </a:moveTo>
                <a:cubicBezTo>
                  <a:pt x="11906" y="4683"/>
                  <a:pt x="11914" y="4721"/>
                  <a:pt x="11931" y="4787"/>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65" name=""/>
          <p:cNvSpPr/>
          <p:nvPr/>
        </p:nvSpPr>
        <p:spPr>
          <a:xfrm>
            <a:off x="4581360" y="1714680"/>
            <a:ext cx="125640" cy="214200"/>
          </a:xfrm>
          <a:custGeom>
            <a:avLst/>
            <a:gdLst/>
            <a:ahLst/>
            <a:rect l="l" t="t" r="r" b="b"/>
            <a:pathLst>
              <a:path w="348" h="597">
                <a:moveTo>
                  <a:pt x="12725" y="4762"/>
                </a:moveTo>
                <a:cubicBezTo>
                  <a:pt x="12749" y="4884"/>
                  <a:pt x="12807" y="5006"/>
                  <a:pt x="12824" y="5135"/>
                </a:cubicBezTo>
                <a:cubicBezTo>
                  <a:pt x="12824" y="5193"/>
                  <a:pt x="12824" y="5201"/>
                  <a:pt x="12824" y="5234"/>
                </a:cubicBezTo>
              </a:path>
              <a:path w="348" h="597">
                <a:moveTo>
                  <a:pt x="13072" y="5209"/>
                </a:moveTo>
                <a:cubicBezTo>
                  <a:pt x="13072" y="5292"/>
                  <a:pt x="13072" y="5308"/>
                  <a:pt x="13072" y="5358"/>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66" name=""/>
          <p:cNvSpPr/>
          <p:nvPr/>
        </p:nvSpPr>
        <p:spPr>
          <a:xfrm>
            <a:off x="4867200" y="1285920"/>
            <a:ext cx="27000" cy="581040"/>
          </a:xfrm>
          <a:custGeom>
            <a:avLst/>
            <a:gdLst/>
            <a:ahLst/>
            <a:rect l="l" t="t" r="r" b="b"/>
            <a:pathLst>
              <a:path w="75" h="1613">
                <a:moveTo>
                  <a:pt x="13543" y="3572"/>
                </a:moveTo>
                <a:cubicBezTo>
                  <a:pt x="13557" y="3707"/>
                  <a:pt x="13593" y="3832"/>
                  <a:pt x="13593" y="3969"/>
                </a:cubicBezTo>
              </a:path>
              <a:path w="75" h="1613">
                <a:moveTo>
                  <a:pt x="13519" y="4688"/>
                </a:moveTo>
                <a:cubicBezTo>
                  <a:pt x="13527" y="4854"/>
                  <a:pt x="13551" y="5019"/>
                  <a:pt x="13568" y="5184"/>
                </a:cubicBezTo>
                <a:cubicBezTo>
                  <a:pt x="13568" y="5176"/>
                  <a:pt x="13568" y="5167"/>
                  <a:pt x="13568" y="5159"/>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67" name=""/>
          <p:cNvSpPr/>
          <p:nvPr/>
        </p:nvSpPr>
        <p:spPr>
          <a:xfrm>
            <a:off x="6572160" y="1535040"/>
            <a:ext cx="187560" cy="331920"/>
          </a:xfrm>
          <a:custGeom>
            <a:avLst/>
            <a:gdLst/>
            <a:ahLst/>
            <a:rect l="l" t="t" r="r" b="b"/>
            <a:pathLst>
              <a:path w="522" h="919">
                <a:moveTo>
                  <a:pt x="18579" y="4539"/>
                </a:moveTo>
                <a:cubicBezTo>
                  <a:pt x="18616" y="4596"/>
                  <a:pt x="18633" y="4643"/>
                  <a:pt x="18628" y="4589"/>
                </a:cubicBezTo>
                <a:cubicBezTo>
                  <a:pt x="18556" y="4516"/>
                  <a:pt x="18450" y="4350"/>
                  <a:pt x="18355" y="4514"/>
                </a:cubicBezTo>
                <a:cubicBezTo>
                  <a:pt x="18267" y="4666"/>
                  <a:pt x="18124" y="5190"/>
                  <a:pt x="18430" y="5184"/>
                </a:cubicBezTo>
                <a:cubicBezTo>
                  <a:pt x="18551" y="5136"/>
                  <a:pt x="18590" y="5122"/>
                  <a:pt x="18653" y="5060"/>
                </a:cubicBezTo>
              </a:path>
              <a:path w="522" h="919">
                <a:moveTo>
                  <a:pt x="18752" y="4266"/>
                </a:moveTo>
                <a:cubicBezTo>
                  <a:pt x="18752" y="4364"/>
                  <a:pt x="18752" y="4448"/>
                  <a:pt x="18777" y="4539"/>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68" name=""/>
          <p:cNvSpPr/>
          <p:nvPr/>
        </p:nvSpPr>
        <p:spPr>
          <a:xfrm>
            <a:off x="7062840" y="1581120"/>
            <a:ext cx="393480" cy="241200"/>
          </a:xfrm>
          <a:custGeom>
            <a:avLst/>
            <a:gdLst/>
            <a:ahLst/>
            <a:rect l="l" t="t" r="r" b="b"/>
            <a:pathLst>
              <a:path w="1092" h="671">
                <a:moveTo>
                  <a:pt x="19720" y="4465"/>
                </a:moveTo>
                <a:cubicBezTo>
                  <a:pt x="19781" y="4430"/>
                  <a:pt x="19828" y="4405"/>
                  <a:pt x="19893" y="4390"/>
                </a:cubicBezTo>
                <a:cubicBezTo>
                  <a:pt x="19908" y="4520"/>
                  <a:pt x="19914" y="4553"/>
                  <a:pt x="19844" y="4663"/>
                </a:cubicBezTo>
                <a:cubicBezTo>
                  <a:pt x="19935" y="4678"/>
                  <a:pt x="20011" y="4761"/>
                  <a:pt x="19918" y="4862"/>
                </a:cubicBezTo>
                <a:cubicBezTo>
                  <a:pt x="19829" y="4959"/>
                  <a:pt x="19664" y="4962"/>
                  <a:pt x="19621" y="4862"/>
                </a:cubicBezTo>
              </a:path>
              <a:path w="1092" h="671">
                <a:moveTo>
                  <a:pt x="20191" y="4911"/>
                </a:moveTo>
                <a:cubicBezTo>
                  <a:pt x="20191" y="4969"/>
                  <a:pt x="20191" y="5093"/>
                  <a:pt x="20191" y="5035"/>
                </a:cubicBezTo>
              </a:path>
              <a:path w="1092" h="671">
                <a:moveTo>
                  <a:pt x="20290" y="4465"/>
                </a:moveTo>
                <a:cubicBezTo>
                  <a:pt x="20345" y="4434"/>
                  <a:pt x="20528" y="4358"/>
                  <a:pt x="20538" y="4490"/>
                </a:cubicBezTo>
                <a:cubicBezTo>
                  <a:pt x="20516" y="4578"/>
                  <a:pt x="20515" y="4604"/>
                  <a:pt x="20464" y="4638"/>
                </a:cubicBezTo>
                <a:cubicBezTo>
                  <a:pt x="20583" y="4624"/>
                  <a:pt x="20879" y="4672"/>
                  <a:pt x="20638" y="4837"/>
                </a:cubicBezTo>
                <a:cubicBezTo>
                  <a:pt x="20495" y="4935"/>
                  <a:pt x="20431" y="4907"/>
                  <a:pt x="20389" y="4812"/>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69" name=""/>
          <p:cNvSpPr/>
          <p:nvPr/>
        </p:nvSpPr>
        <p:spPr>
          <a:xfrm>
            <a:off x="7858080" y="1204920"/>
            <a:ext cx="250920" cy="608040"/>
          </a:xfrm>
          <a:custGeom>
            <a:avLst/>
            <a:gdLst/>
            <a:ahLst/>
            <a:rect l="l" t="t" r="r" b="b"/>
            <a:pathLst>
              <a:path w="696" h="1687">
                <a:moveTo>
                  <a:pt x="22002" y="3373"/>
                </a:moveTo>
                <a:cubicBezTo>
                  <a:pt x="21927" y="3350"/>
                  <a:pt x="22019" y="3575"/>
                  <a:pt x="22027" y="3646"/>
                </a:cubicBezTo>
                <a:cubicBezTo>
                  <a:pt x="22027" y="3671"/>
                  <a:pt x="22027" y="3696"/>
                  <a:pt x="22027" y="3721"/>
                </a:cubicBezTo>
              </a:path>
              <a:path w="696" h="1687">
                <a:moveTo>
                  <a:pt x="22076" y="4291"/>
                </a:moveTo>
                <a:cubicBezTo>
                  <a:pt x="22103" y="4497"/>
                  <a:pt x="22219" y="5097"/>
                  <a:pt x="22126" y="4911"/>
                </a:cubicBezTo>
                <a:cubicBezTo>
                  <a:pt x="22118" y="4878"/>
                  <a:pt x="22109" y="4845"/>
                  <a:pt x="22101" y="4812"/>
                </a:cubicBezTo>
              </a:path>
              <a:path w="696" h="1687">
                <a:moveTo>
                  <a:pt x="21828" y="4242"/>
                </a:moveTo>
                <a:cubicBezTo>
                  <a:pt x="22124" y="4233"/>
                  <a:pt x="22548" y="4210"/>
                  <a:pt x="22523" y="4638"/>
                </a:cubicBezTo>
                <a:cubicBezTo>
                  <a:pt x="22514" y="4798"/>
                  <a:pt x="22107" y="5190"/>
                  <a:pt x="21952" y="5011"/>
                </a:cubicBezTo>
                <a:cubicBezTo>
                  <a:pt x="21989" y="4900"/>
                  <a:pt x="22027" y="4850"/>
                  <a:pt x="22126" y="4812"/>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70" name=""/>
          <p:cNvSpPr/>
          <p:nvPr/>
        </p:nvSpPr>
        <p:spPr>
          <a:xfrm>
            <a:off x="8242200" y="1482840"/>
            <a:ext cx="169920" cy="312480"/>
          </a:xfrm>
          <a:custGeom>
            <a:avLst/>
            <a:gdLst/>
            <a:ahLst/>
            <a:rect l="l" t="t" r="r" b="b"/>
            <a:pathLst>
              <a:path w="472" h="869">
                <a:moveTo>
                  <a:pt x="23068" y="4118"/>
                </a:moveTo>
                <a:cubicBezTo>
                  <a:pt x="22901" y="4259"/>
                  <a:pt x="22895" y="4598"/>
                  <a:pt x="22895" y="4812"/>
                </a:cubicBezTo>
                <a:cubicBezTo>
                  <a:pt x="22895" y="4964"/>
                  <a:pt x="22922" y="4986"/>
                  <a:pt x="23044" y="4986"/>
                </a:cubicBezTo>
              </a:path>
              <a:path w="472" h="869">
                <a:moveTo>
                  <a:pt x="23366" y="4266"/>
                </a:moveTo>
                <a:cubicBezTo>
                  <a:pt x="23366" y="4452"/>
                  <a:pt x="23356" y="4628"/>
                  <a:pt x="23341" y="4812"/>
                </a:cubicBezTo>
                <a:cubicBezTo>
                  <a:pt x="23341" y="4829"/>
                  <a:pt x="23341" y="4845"/>
                  <a:pt x="23341" y="4862"/>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71" name=""/>
          <p:cNvSpPr/>
          <p:nvPr/>
        </p:nvSpPr>
        <p:spPr>
          <a:xfrm>
            <a:off x="8634240" y="1509840"/>
            <a:ext cx="108000" cy="187200"/>
          </a:xfrm>
          <a:custGeom>
            <a:avLst/>
            <a:gdLst/>
            <a:ahLst/>
            <a:rect l="l" t="t" r="r" b="b"/>
            <a:pathLst>
              <a:path w="299" h="522">
                <a:moveTo>
                  <a:pt x="23986" y="4242"/>
                </a:moveTo>
                <a:cubicBezTo>
                  <a:pt x="24067" y="4230"/>
                  <a:pt x="24100" y="4198"/>
                  <a:pt x="24185" y="4217"/>
                </a:cubicBezTo>
                <a:cubicBezTo>
                  <a:pt x="24154" y="4316"/>
                  <a:pt x="24116" y="4360"/>
                  <a:pt x="24036" y="4440"/>
                </a:cubicBezTo>
                <a:cubicBezTo>
                  <a:pt x="24095" y="4452"/>
                  <a:pt x="24208" y="4323"/>
                  <a:pt x="24284" y="4440"/>
                </a:cubicBezTo>
                <a:cubicBezTo>
                  <a:pt x="24364" y="4563"/>
                  <a:pt x="24132" y="4720"/>
                  <a:pt x="24036" y="4713"/>
                </a:cubicBezTo>
                <a:cubicBezTo>
                  <a:pt x="24036" y="4705"/>
                  <a:pt x="24036" y="4696"/>
                  <a:pt x="24036" y="4688"/>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72" name=""/>
          <p:cNvSpPr/>
          <p:nvPr/>
        </p:nvSpPr>
        <p:spPr>
          <a:xfrm>
            <a:off x="5919840" y="3384720"/>
            <a:ext cx="403200" cy="642600"/>
          </a:xfrm>
          <a:custGeom>
            <a:avLst/>
            <a:gdLst/>
            <a:ahLst/>
            <a:rect l="l" t="t" r="r" b="b"/>
            <a:pathLst>
              <a:path w="1117" h="1787">
                <a:moveTo>
                  <a:pt x="16942" y="10195"/>
                </a:moveTo>
                <a:cubicBezTo>
                  <a:pt x="16942" y="10151"/>
                  <a:pt x="16961" y="10049"/>
                  <a:pt x="16917" y="10046"/>
                </a:cubicBezTo>
                <a:cubicBezTo>
                  <a:pt x="16845" y="10040"/>
                  <a:pt x="16811" y="10126"/>
                  <a:pt x="16867" y="10145"/>
                </a:cubicBezTo>
                <a:cubicBezTo>
                  <a:pt x="16988" y="10121"/>
                  <a:pt x="16957" y="10132"/>
                  <a:pt x="16966" y="9996"/>
                </a:cubicBezTo>
                <a:cubicBezTo>
                  <a:pt x="16914" y="9991"/>
                  <a:pt x="16717" y="10092"/>
                  <a:pt x="16842" y="10170"/>
                </a:cubicBezTo>
                <a:cubicBezTo>
                  <a:pt x="16958" y="10243"/>
                  <a:pt x="17027" y="10081"/>
                  <a:pt x="16942" y="9996"/>
                </a:cubicBezTo>
                <a:cubicBezTo>
                  <a:pt x="16848" y="9901"/>
                  <a:pt x="16779" y="10145"/>
                  <a:pt x="16818" y="10195"/>
                </a:cubicBezTo>
                <a:cubicBezTo>
                  <a:pt x="16908" y="10312"/>
                  <a:pt x="16935" y="10119"/>
                  <a:pt x="16942" y="10096"/>
                </a:cubicBezTo>
                <a:cubicBezTo>
                  <a:pt x="16860" y="10031"/>
                  <a:pt x="16810" y="10068"/>
                  <a:pt x="16818" y="10195"/>
                </a:cubicBezTo>
                <a:cubicBezTo>
                  <a:pt x="16820" y="10219"/>
                  <a:pt x="16864" y="10178"/>
                  <a:pt x="16867" y="10170"/>
                </a:cubicBezTo>
              </a:path>
              <a:path w="1117" h="1787">
                <a:moveTo>
                  <a:pt x="17214" y="9674"/>
                </a:moveTo>
                <a:cubicBezTo>
                  <a:pt x="17214" y="9773"/>
                  <a:pt x="17214" y="9872"/>
                  <a:pt x="17214" y="9971"/>
                </a:cubicBezTo>
                <a:cubicBezTo>
                  <a:pt x="17181" y="9872"/>
                  <a:pt x="17168" y="9736"/>
                  <a:pt x="17165" y="9599"/>
                </a:cubicBezTo>
                <a:cubicBezTo>
                  <a:pt x="17165" y="9507"/>
                  <a:pt x="17163" y="9481"/>
                  <a:pt x="17190" y="9426"/>
                </a:cubicBezTo>
                <a:cubicBezTo>
                  <a:pt x="17294" y="9405"/>
                  <a:pt x="17360" y="9449"/>
                  <a:pt x="17388" y="9575"/>
                </a:cubicBezTo>
                <a:cubicBezTo>
                  <a:pt x="17406" y="9654"/>
                  <a:pt x="17405" y="9764"/>
                  <a:pt x="17413" y="9847"/>
                </a:cubicBezTo>
              </a:path>
              <a:path w="1117" h="1787">
                <a:moveTo>
                  <a:pt x="17239" y="9798"/>
                </a:moveTo>
                <a:cubicBezTo>
                  <a:pt x="17299" y="9774"/>
                  <a:pt x="17350" y="9702"/>
                  <a:pt x="17413" y="9674"/>
                </a:cubicBezTo>
                <a:cubicBezTo>
                  <a:pt x="17421" y="9674"/>
                  <a:pt x="17430" y="9674"/>
                  <a:pt x="17438" y="9674"/>
                </a:cubicBezTo>
              </a:path>
              <a:path w="1117" h="1787">
                <a:moveTo>
                  <a:pt x="16495" y="10542"/>
                </a:moveTo>
                <a:cubicBezTo>
                  <a:pt x="16569" y="10493"/>
                  <a:pt x="16446" y="10800"/>
                  <a:pt x="16446" y="10815"/>
                </a:cubicBezTo>
                <a:cubicBezTo>
                  <a:pt x="16440" y="11012"/>
                  <a:pt x="16503" y="11175"/>
                  <a:pt x="16694" y="11162"/>
                </a:cubicBezTo>
                <a:cubicBezTo>
                  <a:pt x="16702" y="11162"/>
                  <a:pt x="16710" y="11162"/>
                  <a:pt x="16718" y="11162"/>
                </a:cubicBezTo>
              </a:path>
              <a:path w="1117" h="1787">
                <a:moveTo>
                  <a:pt x="16644" y="10864"/>
                </a:moveTo>
                <a:cubicBezTo>
                  <a:pt x="16687" y="10838"/>
                  <a:pt x="16727" y="10807"/>
                  <a:pt x="16768" y="10790"/>
                </a:cubicBezTo>
                <a:cubicBezTo>
                  <a:pt x="16768" y="10757"/>
                  <a:pt x="16776" y="10748"/>
                  <a:pt x="16818" y="10765"/>
                </a:cubicBezTo>
              </a:path>
              <a:path w="1117" h="1787">
                <a:moveTo>
                  <a:pt x="16867" y="10542"/>
                </a:moveTo>
                <a:cubicBezTo>
                  <a:pt x="16867" y="10501"/>
                  <a:pt x="16935" y="10767"/>
                  <a:pt x="16942" y="10790"/>
                </a:cubicBezTo>
                <a:cubicBezTo>
                  <a:pt x="16962" y="10874"/>
                  <a:pt x="16964" y="10893"/>
                  <a:pt x="16991" y="10939"/>
                </a:cubicBezTo>
              </a:path>
              <a:path w="1117" h="1787">
                <a:moveTo>
                  <a:pt x="17115" y="10840"/>
                </a:moveTo>
                <a:cubicBezTo>
                  <a:pt x="17151" y="10920"/>
                  <a:pt x="17190" y="10990"/>
                  <a:pt x="17165" y="11063"/>
                </a:cubicBezTo>
              </a:path>
              <a:path w="1117" h="1787">
                <a:moveTo>
                  <a:pt x="17239" y="10492"/>
                </a:moveTo>
                <a:cubicBezTo>
                  <a:pt x="17254" y="10584"/>
                  <a:pt x="17282" y="10677"/>
                  <a:pt x="17314" y="10765"/>
                </a:cubicBezTo>
              </a:path>
              <a:path w="1117" h="1787">
                <a:moveTo>
                  <a:pt x="17165" y="10294"/>
                </a:moveTo>
                <a:cubicBezTo>
                  <a:pt x="17303" y="10363"/>
                  <a:pt x="17431" y="10428"/>
                  <a:pt x="17512" y="10567"/>
                </a:cubicBezTo>
                <a:cubicBezTo>
                  <a:pt x="17577" y="10678"/>
                  <a:pt x="17592" y="10790"/>
                  <a:pt x="17512" y="10889"/>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73" name=""/>
          <p:cNvSpPr/>
          <p:nvPr/>
        </p:nvSpPr>
        <p:spPr>
          <a:xfrm>
            <a:off x="5848200" y="2071800"/>
            <a:ext cx="403200" cy="795240"/>
          </a:xfrm>
          <a:custGeom>
            <a:avLst/>
            <a:gdLst/>
            <a:ahLst/>
            <a:rect l="l" t="t" r="r" b="b"/>
            <a:pathLst>
              <a:path w="1117" h="2208">
                <a:moveTo>
                  <a:pt x="16892" y="7243"/>
                </a:moveTo>
                <a:cubicBezTo>
                  <a:pt x="16918" y="7205"/>
                  <a:pt x="16879" y="7217"/>
                  <a:pt x="16892" y="7293"/>
                </a:cubicBezTo>
                <a:cubicBezTo>
                  <a:pt x="16892" y="7326"/>
                  <a:pt x="16901" y="7334"/>
                  <a:pt x="16942" y="7317"/>
                </a:cubicBezTo>
                <a:cubicBezTo>
                  <a:pt x="16962" y="7301"/>
                  <a:pt x="17044" y="7218"/>
                  <a:pt x="16966" y="7193"/>
                </a:cubicBezTo>
                <a:cubicBezTo>
                  <a:pt x="16898" y="7172"/>
                  <a:pt x="16873" y="7208"/>
                  <a:pt x="16867" y="7268"/>
                </a:cubicBezTo>
                <a:cubicBezTo>
                  <a:pt x="16860" y="7333"/>
                  <a:pt x="16949" y="7281"/>
                  <a:pt x="16966" y="7243"/>
                </a:cubicBezTo>
                <a:cubicBezTo>
                  <a:pt x="16987" y="7195"/>
                  <a:pt x="16885" y="7172"/>
                  <a:pt x="16867" y="7218"/>
                </a:cubicBezTo>
                <a:cubicBezTo>
                  <a:pt x="16840" y="7288"/>
                  <a:pt x="16869" y="7395"/>
                  <a:pt x="16942" y="7293"/>
                </a:cubicBezTo>
                <a:cubicBezTo>
                  <a:pt x="16994" y="7221"/>
                  <a:pt x="16919" y="7141"/>
                  <a:pt x="16867" y="7193"/>
                </a:cubicBezTo>
                <a:cubicBezTo>
                  <a:pt x="16796" y="7264"/>
                  <a:pt x="16881" y="7294"/>
                  <a:pt x="16942" y="7268"/>
                </a:cubicBezTo>
                <a:cubicBezTo>
                  <a:pt x="17001" y="7188"/>
                  <a:pt x="17014" y="7205"/>
                  <a:pt x="16942" y="7144"/>
                </a:cubicBezTo>
                <a:cubicBezTo>
                  <a:pt x="16906" y="7139"/>
                  <a:pt x="16785" y="7185"/>
                  <a:pt x="16842" y="7268"/>
                </a:cubicBezTo>
                <a:cubicBezTo>
                  <a:pt x="16909" y="7365"/>
                  <a:pt x="16953" y="7198"/>
                  <a:pt x="16966" y="7169"/>
                </a:cubicBezTo>
                <a:cubicBezTo>
                  <a:pt x="16942" y="7120"/>
                  <a:pt x="16880" y="7083"/>
                  <a:pt x="16842" y="7169"/>
                </a:cubicBezTo>
                <a:cubicBezTo>
                  <a:pt x="16795" y="7276"/>
                  <a:pt x="16970" y="7194"/>
                  <a:pt x="16917" y="7119"/>
                </a:cubicBezTo>
                <a:cubicBezTo>
                  <a:pt x="16862" y="7042"/>
                  <a:pt x="16867" y="7215"/>
                  <a:pt x="16867" y="7218"/>
                </a:cubicBezTo>
              </a:path>
              <a:path w="1117" h="2208">
                <a:moveTo>
                  <a:pt x="16396" y="7565"/>
                </a:moveTo>
                <a:cubicBezTo>
                  <a:pt x="16417" y="7672"/>
                  <a:pt x="16471" y="7778"/>
                  <a:pt x="16495" y="7888"/>
                </a:cubicBezTo>
                <a:cubicBezTo>
                  <a:pt x="16495" y="7913"/>
                  <a:pt x="16495" y="7921"/>
                  <a:pt x="16495" y="7888"/>
                </a:cubicBezTo>
              </a:path>
              <a:path w="1117" h="2208">
                <a:moveTo>
                  <a:pt x="16247" y="7615"/>
                </a:moveTo>
                <a:cubicBezTo>
                  <a:pt x="16317" y="7511"/>
                  <a:pt x="16440" y="7383"/>
                  <a:pt x="16594" y="7417"/>
                </a:cubicBezTo>
                <a:cubicBezTo>
                  <a:pt x="16802" y="7462"/>
                  <a:pt x="16767" y="7708"/>
                  <a:pt x="16669" y="7838"/>
                </a:cubicBezTo>
                <a:cubicBezTo>
                  <a:pt x="16642" y="7874"/>
                  <a:pt x="16539" y="7945"/>
                  <a:pt x="16495" y="7962"/>
                </a:cubicBezTo>
              </a:path>
              <a:path w="1117" h="2208">
                <a:moveTo>
                  <a:pt x="16321" y="6201"/>
                </a:moveTo>
                <a:cubicBezTo>
                  <a:pt x="16279" y="6230"/>
                  <a:pt x="16287" y="6428"/>
                  <a:pt x="16297" y="6474"/>
                </a:cubicBezTo>
                <a:cubicBezTo>
                  <a:pt x="16311" y="6543"/>
                  <a:pt x="16430" y="6730"/>
                  <a:pt x="16495" y="6722"/>
                </a:cubicBezTo>
                <a:cubicBezTo>
                  <a:pt x="16518" y="6699"/>
                  <a:pt x="16522" y="6691"/>
                  <a:pt x="16545" y="6697"/>
                </a:cubicBezTo>
              </a:path>
              <a:path w="1117" h="2208">
                <a:moveTo>
                  <a:pt x="16396" y="6424"/>
                </a:moveTo>
                <a:cubicBezTo>
                  <a:pt x="16476" y="6406"/>
                  <a:pt x="16545" y="6319"/>
                  <a:pt x="16594" y="6300"/>
                </a:cubicBezTo>
                <a:cubicBezTo>
                  <a:pt x="16639" y="6300"/>
                  <a:pt x="16652" y="6304"/>
                  <a:pt x="16669" y="6276"/>
                </a:cubicBezTo>
              </a:path>
              <a:path w="1117" h="2208">
                <a:moveTo>
                  <a:pt x="16694" y="5978"/>
                </a:moveTo>
                <a:cubicBezTo>
                  <a:pt x="16717" y="6096"/>
                  <a:pt x="16803" y="6190"/>
                  <a:pt x="16842" y="6300"/>
                </a:cubicBezTo>
                <a:cubicBezTo>
                  <a:pt x="16860" y="6391"/>
                  <a:pt x="16835" y="6432"/>
                  <a:pt x="16892" y="6424"/>
                </a:cubicBezTo>
              </a:path>
              <a:path w="1117" h="2208">
                <a:moveTo>
                  <a:pt x="17066" y="6300"/>
                </a:moveTo>
                <a:cubicBezTo>
                  <a:pt x="17069" y="6304"/>
                  <a:pt x="17172" y="6515"/>
                  <a:pt x="17115" y="6375"/>
                </a:cubicBezTo>
              </a:path>
              <a:path w="1117" h="2208">
                <a:moveTo>
                  <a:pt x="16991" y="5804"/>
                </a:moveTo>
                <a:cubicBezTo>
                  <a:pt x="17007" y="5799"/>
                  <a:pt x="17143" y="5706"/>
                  <a:pt x="17165" y="5779"/>
                </a:cubicBezTo>
                <a:cubicBezTo>
                  <a:pt x="17196" y="5879"/>
                  <a:pt x="17142" y="5885"/>
                  <a:pt x="17115" y="5953"/>
                </a:cubicBezTo>
                <a:cubicBezTo>
                  <a:pt x="17164" y="5916"/>
                  <a:pt x="17278" y="5834"/>
                  <a:pt x="17338" y="5904"/>
                </a:cubicBezTo>
                <a:cubicBezTo>
                  <a:pt x="17449" y="6034"/>
                  <a:pt x="17301" y="6217"/>
                  <a:pt x="17165" y="6226"/>
                </a:cubicBezTo>
                <a:cubicBezTo>
                  <a:pt x="17165" y="6167"/>
                  <a:pt x="17172" y="6126"/>
                  <a:pt x="17190" y="6077"/>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74" name=""/>
          <p:cNvSpPr/>
          <p:nvPr/>
        </p:nvSpPr>
        <p:spPr>
          <a:xfrm>
            <a:off x="5769000" y="1652760"/>
            <a:ext cx="169920" cy="222120"/>
          </a:xfrm>
          <a:custGeom>
            <a:avLst/>
            <a:gdLst/>
            <a:ahLst/>
            <a:rect l="l" t="t" r="r" b="b"/>
            <a:pathLst>
              <a:path w="472" h="621">
                <a:moveTo>
                  <a:pt x="16123" y="4713"/>
                </a:moveTo>
                <a:cubicBezTo>
                  <a:pt x="16184" y="4622"/>
                  <a:pt x="16197" y="4614"/>
                  <a:pt x="16297" y="4589"/>
                </a:cubicBezTo>
                <a:cubicBezTo>
                  <a:pt x="16338" y="4729"/>
                  <a:pt x="16295" y="4765"/>
                  <a:pt x="16222" y="4887"/>
                </a:cubicBezTo>
                <a:cubicBezTo>
                  <a:pt x="16241" y="4811"/>
                  <a:pt x="16377" y="4808"/>
                  <a:pt x="16346" y="4911"/>
                </a:cubicBezTo>
                <a:cubicBezTo>
                  <a:pt x="16328" y="4971"/>
                  <a:pt x="16088" y="5248"/>
                  <a:pt x="16024" y="5110"/>
                </a:cubicBezTo>
                <a:cubicBezTo>
                  <a:pt x="16024" y="5085"/>
                  <a:pt x="16024" y="5060"/>
                  <a:pt x="16024" y="5035"/>
                </a:cubicBezTo>
              </a:path>
              <a:path w="472" h="621">
                <a:moveTo>
                  <a:pt x="16495" y="5060"/>
                </a:moveTo>
                <a:cubicBezTo>
                  <a:pt x="16495" y="5143"/>
                  <a:pt x="16495" y="5159"/>
                  <a:pt x="16495" y="5209"/>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75" name=""/>
          <p:cNvSpPr/>
          <p:nvPr/>
        </p:nvSpPr>
        <p:spPr>
          <a:xfrm>
            <a:off x="5286240" y="5384880"/>
            <a:ext cx="125640" cy="206280"/>
          </a:xfrm>
          <a:custGeom>
            <a:avLst/>
            <a:gdLst/>
            <a:ahLst/>
            <a:rect l="l" t="t" r="r" b="b"/>
            <a:pathLst>
              <a:path w="349" h="572">
                <a:moveTo>
                  <a:pt x="14784" y="15304"/>
                </a:moveTo>
                <a:cubicBezTo>
                  <a:pt x="14833" y="15288"/>
                  <a:pt x="14785" y="15224"/>
                  <a:pt x="14759" y="15205"/>
                </a:cubicBezTo>
                <a:cubicBezTo>
                  <a:pt x="14751" y="15205"/>
                  <a:pt x="14742" y="15205"/>
                  <a:pt x="14734" y="15205"/>
                </a:cubicBezTo>
                <a:cubicBezTo>
                  <a:pt x="14700" y="15354"/>
                  <a:pt x="14610" y="15570"/>
                  <a:pt x="14858" y="15528"/>
                </a:cubicBezTo>
                <a:cubicBezTo>
                  <a:pt x="14948" y="15492"/>
                  <a:pt x="14990" y="15511"/>
                  <a:pt x="14982" y="15453"/>
                </a:cubicBezTo>
              </a:path>
              <a:path w="349" h="572">
                <a:moveTo>
                  <a:pt x="14883" y="14957"/>
                </a:moveTo>
                <a:cubicBezTo>
                  <a:pt x="14883" y="15031"/>
                  <a:pt x="14883" y="15106"/>
                  <a:pt x="14883" y="15180"/>
                </a:cubicBezTo>
              </a:path>
              <a:path w="349" h="572">
                <a:moveTo>
                  <a:pt x="14982" y="14957"/>
                </a:moveTo>
                <a:cubicBezTo>
                  <a:pt x="15008" y="15034"/>
                  <a:pt x="15032" y="15069"/>
                  <a:pt x="15032" y="15156"/>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76" name=""/>
          <p:cNvSpPr/>
          <p:nvPr/>
        </p:nvSpPr>
        <p:spPr>
          <a:xfrm>
            <a:off x="5205240" y="4633920"/>
            <a:ext cx="295560" cy="304920"/>
          </a:xfrm>
          <a:custGeom>
            <a:avLst/>
            <a:gdLst/>
            <a:ahLst/>
            <a:rect l="l" t="t" r="r" b="b"/>
            <a:pathLst>
              <a:path w="820" h="844">
                <a:moveTo>
                  <a:pt x="14660" y="13047"/>
                </a:moveTo>
                <a:cubicBezTo>
                  <a:pt x="14660" y="13014"/>
                  <a:pt x="14660" y="12981"/>
                  <a:pt x="14660" y="12948"/>
                </a:cubicBezTo>
              </a:path>
              <a:path w="820" h="844">
                <a:moveTo>
                  <a:pt x="14660" y="12998"/>
                </a:moveTo>
                <a:cubicBezTo>
                  <a:pt x="14730" y="12974"/>
                  <a:pt x="14642" y="12924"/>
                  <a:pt x="14610" y="12898"/>
                </a:cubicBezTo>
                <a:cubicBezTo>
                  <a:pt x="14585" y="12874"/>
                  <a:pt x="14577" y="12866"/>
                  <a:pt x="14560" y="12898"/>
                </a:cubicBezTo>
                <a:cubicBezTo>
                  <a:pt x="14571" y="13023"/>
                  <a:pt x="14687" y="13089"/>
                  <a:pt x="14709" y="12923"/>
                </a:cubicBezTo>
                <a:cubicBezTo>
                  <a:pt x="14725" y="12797"/>
                  <a:pt x="14486" y="12940"/>
                  <a:pt x="14461" y="12998"/>
                </a:cubicBezTo>
                <a:cubicBezTo>
                  <a:pt x="14388" y="13165"/>
                  <a:pt x="14682" y="12978"/>
                  <a:pt x="14709" y="12948"/>
                </a:cubicBezTo>
                <a:cubicBezTo>
                  <a:pt x="14642" y="12890"/>
                  <a:pt x="14447" y="12888"/>
                  <a:pt x="14511" y="13047"/>
                </a:cubicBezTo>
                <a:cubicBezTo>
                  <a:pt x="14596" y="13090"/>
                  <a:pt x="14652" y="13093"/>
                  <a:pt x="14734" y="13047"/>
                </a:cubicBezTo>
              </a:path>
              <a:path w="820" h="844">
                <a:moveTo>
                  <a:pt x="14858" y="13444"/>
                </a:moveTo>
                <a:cubicBezTo>
                  <a:pt x="14866" y="13537"/>
                  <a:pt x="14999" y="13695"/>
                  <a:pt x="14908" y="13717"/>
                </a:cubicBezTo>
                <a:cubicBezTo>
                  <a:pt x="14900" y="13709"/>
                  <a:pt x="14891" y="13700"/>
                  <a:pt x="14883" y="13692"/>
                </a:cubicBezTo>
              </a:path>
              <a:path w="820" h="844">
                <a:moveTo>
                  <a:pt x="14734" y="13345"/>
                </a:moveTo>
                <a:cubicBezTo>
                  <a:pt x="14816" y="13298"/>
                  <a:pt x="14986" y="13163"/>
                  <a:pt x="15007" y="13320"/>
                </a:cubicBezTo>
                <a:cubicBezTo>
                  <a:pt x="15007" y="13393"/>
                  <a:pt x="15008" y="13417"/>
                  <a:pt x="14957" y="13444"/>
                </a:cubicBezTo>
                <a:cubicBezTo>
                  <a:pt x="15004" y="13479"/>
                  <a:pt x="15094" y="13462"/>
                  <a:pt x="15106" y="13519"/>
                </a:cubicBezTo>
                <a:cubicBezTo>
                  <a:pt x="15134" y="13651"/>
                  <a:pt x="14981" y="13684"/>
                  <a:pt x="14883" y="13692"/>
                </a:cubicBezTo>
                <a:cubicBezTo>
                  <a:pt x="14848" y="13692"/>
                  <a:pt x="14844" y="13683"/>
                  <a:pt x="14883" y="13643"/>
                </a:cubicBezTo>
              </a:path>
              <a:path w="820" h="844">
                <a:moveTo>
                  <a:pt x="15230" y="13122"/>
                </a:moveTo>
                <a:cubicBezTo>
                  <a:pt x="15241" y="13195"/>
                  <a:pt x="15225" y="13282"/>
                  <a:pt x="15280" y="13246"/>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77" name=""/>
          <p:cNvSpPr/>
          <p:nvPr/>
        </p:nvSpPr>
        <p:spPr>
          <a:xfrm>
            <a:off x="5018040" y="3402000"/>
            <a:ext cx="447840" cy="608040"/>
          </a:xfrm>
          <a:custGeom>
            <a:avLst/>
            <a:gdLst/>
            <a:ahLst/>
            <a:rect l="l" t="t" r="r" b="b"/>
            <a:pathLst>
              <a:path w="1241" h="1687">
                <a:moveTo>
                  <a:pt x="14684" y="10120"/>
                </a:moveTo>
                <a:cubicBezTo>
                  <a:pt x="14709" y="10120"/>
                  <a:pt x="14717" y="10120"/>
                  <a:pt x="14709" y="10096"/>
                </a:cubicBezTo>
                <a:cubicBezTo>
                  <a:pt x="14654" y="10052"/>
                  <a:pt x="14543" y="9990"/>
                  <a:pt x="14511" y="10120"/>
                </a:cubicBezTo>
                <a:cubicBezTo>
                  <a:pt x="14472" y="10279"/>
                  <a:pt x="14666" y="10205"/>
                  <a:pt x="14709" y="10145"/>
                </a:cubicBezTo>
                <a:cubicBezTo>
                  <a:pt x="14794" y="10026"/>
                  <a:pt x="14637" y="10013"/>
                  <a:pt x="14585" y="10120"/>
                </a:cubicBezTo>
                <a:cubicBezTo>
                  <a:pt x="14507" y="10282"/>
                  <a:pt x="14726" y="10181"/>
                  <a:pt x="14585" y="10120"/>
                </a:cubicBezTo>
              </a:path>
              <a:path w="1241" h="1687">
                <a:moveTo>
                  <a:pt x="14833" y="9624"/>
                </a:moveTo>
                <a:cubicBezTo>
                  <a:pt x="14859" y="9732"/>
                  <a:pt x="14883" y="9839"/>
                  <a:pt x="14908" y="9947"/>
                </a:cubicBezTo>
              </a:path>
              <a:path w="1241" h="1687">
                <a:moveTo>
                  <a:pt x="14635" y="9624"/>
                </a:moveTo>
                <a:cubicBezTo>
                  <a:pt x="14721" y="9538"/>
                  <a:pt x="14818" y="9416"/>
                  <a:pt x="14957" y="9451"/>
                </a:cubicBezTo>
                <a:cubicBezTo>
                  <a:pt x="15100" y="9487"/>
                  <a:pt x="14953" y="9664"/>
                  <a:pt x="14932" y="9699"/>
                </a:cubicBezTo>
                <a:cubicBezTo>
                  <a:pt x="14932" y="9723"/>
                  <a:pt x="14932" y="9731"/>
                  <a:pt x="14932" y="9699"/>
                </a:cubicBezTo>
                <a:cubicBezTo>
                  <a:pt x="15017" y="9645"/>
                  <a:pt x="15180" y="9562"/>
                  <a:pt x="15180" y="9748"/>
                </a:cubicBezTo>
                <a:cubicBezTo>
                  <a:pt x="15180" y="9887"/>
                  <a:pt x="15073" y="9912"/>
                  <a:pt x="14982" y="9971"/>
                </a:cubicBezTo>
              </a:path>
              <a:path w="1241" h="1687">
                <a:moveTo>
                  <a:pt x="14039" y="10492"/>
                </a:moveTo>
                <a:cubicBezTo>
                  <a:pt x="13966" y="10682"/>
                  <a:pt x="13848" y="10924"/>
                  <a:pt x="14039" y="11088"/>
                </a:cubicBezTo>
                <a:cubicBezTo>
                  <a:pt x="14101" y="11141"/>
                  <a:pt x="14127" y="11137"/>
                  <a:pt x="14188" y="11137"/>
                </a:cubicBezTo>
              </a:path>
              <a:path w="1241" h="1687">
                <a:moveTo>
                  <a:pt x="14139" y="10815"/>
                </a:moveTo>
                <a:cubicBezTo>
                  <a:pt x="14085" y="10815"/>
                  <a:pt x="14269" y="10752"/>
                  <a:pt x="14288" y="10740"/>
                </a:cubicBezTo>
                <a:cubicBezTo>
                  <a:pt x="14310" y="10718"/>
                  <a:pt x="14315" y="10710"/>
                  <a:pt x="14337" y="10716"/>
                </a:cubicBezTo>
              </a:path>
              <a:path w="1241" h="1687">
                <a:moveTo>
                  <a:pt x="14436" y="10517"/>
                </a:moveTo>
                <a:cubicBezTo>
                  <a:pt x="14436" y="10448"/>
                  <a:pt x="14459" y="10466"/>
                  <a:pt x="14536" y="10443"/>
                </a:cubicBezTo>
                <a:cubicBezTo>
                  <a:pt x="14554" y="10525"/>
                  <a:pt x="14540" y="10555"/>
                  <a:pt x="14511" y="10641"/>
                </a:cubicBezTo>
                <a:cubicBezTo>
                  <a:pt x="14571" y="10641"/>
                  <a:pt x="14653" y="10618"/>
                  <a:pt x="14660" y="10716"/>
                </a:cubicBezTo>
                <a:cubicBezTo>
                  <a:pt x="14666" y="10797"/>
                  <a:pt x="14551" y="10979"/>
                  <a:pt x="14461" y="10964"/>
                </a:cubicBezTo>
                <a:cubicBezTo>
                  <a:pt x="14461" y="10956"/>
                  <a:pt x="14461" y="10947"/>
                  <a:pt x="14461" y="10939"/>
                </a:cubicBezTo>
              </a:path>
              <a:path w="1241" h="1687">
                <a:moveTo>
                  <a:pt x="14858" y="10691"/>
                </a:moveTo>
                <a:cubicBezTo>
                  <a:pt x="14880" y="10739"/>
                  <a:pt x="14903" y="10885"/>
                  <a:pt x="14932" y="10914"/>
                </a:cubicBezTo>
                <a:cubicBezTo>
                  <a:pt x="14940" y="10914"/>
                  <a:pt x="14949" y="10914"/>
                  <a:pt x="14957" y="10914"/>
                </a:cubicBezTo>
              </a:path>
              <a:path w="1241" h="1687">
                <a:moveTo>
                  <a:pt x="15056" y="10393"/>
                </a:moveTo>
                <a:cubicBezTo>
                  <a:pt x="15056" y="10476"/>
                  <a:pt x="15085" y="10539"/>
                  <a:pt x="15106" y="10616"/>
                </a:cubicBezTo>
                <a:cubicBezTo>
                  <a:pt x="15106" y="10641"/>
                  <a:pt x="15106" y="10649"/>
                  <a:pt x="15131" y="10641"/>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78" name=""/>
          <p:cNvSpPr/>
          <p:nvPr/>
        </p:nvSpPr>
        <p:spPr>
          <a:xfrm>
            <a:off x="5000760" y="2125800"/>
            <a:ext cx="447480" cy="704880"/>
          </a:xfrm>
          <a:custGeom>
            <a:avLst/>
            <a:gdLst/>
            <a:ahLst/>
            <a:rect l="l" t="t" r="r" b="b"/>
            <a:pathLst>
              <a:path w="1241" h="1960">
                <a:moveTo>
                  <a:pt x="14610" y="7144"/>
                </a:moveTo>
                <a:cubicBezTo>
                  <a:pt x="14661" y="7144"/>
                  <a:pt x="14555" y="7154"/>
                  <a:pt x="14560" y="7218"/>
                </a:cubicBezTo>
                <a:cubicBezTo>
                  <a:pt x="14564" y="7262"/>
                  <a:pt x="14613" y="7316"/>
                  <a:pt x="14660" y="7268"/>
                </a:cubicBezTo>
                <a:cubicBezTo>
                  <a:pt x="14708" y="7219"/>
                  <a:pt x="14652" y="7115"/>
                  <a:pt x="14585" y="7119"/>
                </a:cubicBezTo>
                <a:cubicBezTo>
                  <a:pt x="14569" y="7127"/>
                  <a:pt x="14552" y="7136"/>
                  <a:pt x="14536" y="7144"/>
                </a:cubicBezTo>
                <a:cubicBezTo>
                  <a:pt x="14542" y="7195"/>
                  <a:pt x="14552" y="7243"/>
                  <a:pt x="14560" y="7293"/>
                </a:cubicBezTo>
                <a:cubicBezTo>
                  <a:pt x="14631" y="7243"/>
                  <a:pt x="14729" y="7184"/>
                  <a:pt x="14610" y="7119"/>
                </a:cubicBezTo>
                <a:cubicBezTo>
                  <a:pt x="14553" y="7088"/>
                  <a:pt x="14521" y="7174"/>
                  <a:pt x="14536" y="7218"/>
                </a:cubicBezTo>
                <a:cubicBezTo>
                  <a:pt x="14567" y="7307"/>
                  <a:pt x="14648" y="7258"/>
                  <a:pt x="14635" y="7169"/>
                </a:cubicBezTo>
                <a:cubicBezTo>
                  <a:pt x="14627" y="7118"/>
                  <a:pt x="14593" y="7119"/>
                  <a:pt x="14560" y="7094"/>
                </a:cubicBezTo>
                <a:cubicBezTo>
                  <a:pt x="14560" y="7110"/>
                  <a:pt x="14541" y="7298"/>
                  <a:pt x="14585" y="7268"/>
                </a:cubicBezTo>
                <a:cubicBezTo>
                  <a:pt x="14644" y="7227"/>
                  <a:pt x="14647" y="7135"/>
                  <a:pt x="14560" y="7169"/>
                </a:cubicBezTo>
                <a:cubicBezTo>
                  <a:pt x="14498" y="7193"/>
                  <a:pt x="14499" y="7279"/>
                  <a:pt x="14560" y="7293"/>
                </a:cubicBezTo>
                <a:cubicBezTo>
                  <a:pt x="14625" y="7308"/>
                  <a:pt x="14671" y="7203"/>
                  <a:pt x="14610" y="7169"/>
                </a:cubicBezTo>
                <a:cubicBezTo>
                  <a:pt x="14520" y="7119"/>
                  <a:pt x="14533" y="7165"/>
                  <a:pt x="14486" y="7243"/>
                </a:cubicBezTo>
                <a:cubicBezTo>
                  <a:pt x="14531" y="7321"/>
                  <a:pt x="14604" y="7350"/>
                  <a:pt x="14660" y="7243"/>
                </a:cubicBezTo>
                <a:cubicBezTo>
                  <a:pt x="14695" y="7177"/>
                  <a:pt x="14575" y="7135"/>
                  <a:pt x="14560" y="7193"/>
                </a:cubicBezTo>
                <a:cubicBezTo>
                  <a:pt x="14536" y="7287"/>
                  <a:pt x="14600" y="7199"/>
                  <a:pt x="14610" y="7193"/>
                </a:cubicBezTo>
                <a:cubicBezTo>
                  <a:pt x="14638" y="7193"/>
                  <a:pt x="14644" y="7191"/>
                  <a:pt x="14610" y="7169"/>
                </a:cubicBezTo>
              </a:path>
              <a:path w="1241" h="1960">
                <a:moveTo>
                  <a:pt x="14858" y="7441"/>
                </a:moveTo>
                <a:cubicBezTo>
                  <a:pt x="14942" y="7441"/>
                  <a:pt x="14878" y="7410"/>
                  <a:pt x="14833" y="7392"/>
                </a:cubicBezTo>
                <a:cubicBezTo>
                  <a:pt x="14728" y="7350"/>
                  <a:pt x="14700" y="7620"/>
                  <a:pt x="14709" y="7665"/>
                </a:cubicBezTo>
                <a:cubicBezTo>
                  <a:pt x="14738" y="7803"/>
                  <a:pt x="14834" y="7903"/>
                  <a:pt x="14957" y="7813"/>
                </a:cubicBezTo>
                <a:cubicBezTo>
                  <a:pt x="14999" y="7782"/>
                  <a:pt x="15042" y="7728"/>
                  <a:pt x="15081" y="7689"/>
                </a:cubicBezTo>
              </a:path>
              <a:path w="1241" h="1960">
                <a:moveTo>
                  <a:pt x="13915" y="6573"/>
                </a:moveTo>
                <a:cubicBezTo>
                  <a:pt x="13915" y="6499"/>
                  <a:pt x="13886" y="6846"/>
                  <a:pt x="13891" y="6871"/>
                </a:cubicBezTo>
                <a:cubicBezTo>
                  <a:pt x="13916" y="7011"/>
                  <a:pt x="13978" y="7083"/>
                  <a:pt x="14114" y="7094"/>
                </a:cubicBezTo>
                <a:cubicBezTo>
                  <a:pt x="14139" y="7094"/>
                  <a:pt x="14147" y="7094"/>
                  <a:pt x="14163" y="7094"/>
                </a:cubicBezTo>
              </a:path>
              <a:path w="1241" h="1960">
                <a:moveTo>
                  <a:pt x="14089" y="6623"/>
                </a:moveTo>
                <a:cubicBezTo>
                  <a:pt x="14130" y="6582"/>
                  <a:pt x="14160" y="6537"/>
                  <a:pt x="14213" y="6524"/>
                </a:cubicBezTo>
              </a:path>
              <a:path w="1241" h="1960">
                <a:moveTo>
                  <a:pt x="14312" y="6325"/>
                </a:moveTo>
                <a:cubicBezTo>
                  <a:pt x="14334" y="6282"/>
                  <a:pt x="14338" y="6270"/>
                  <a:pt x="14362" y="6251"/>
                </a:cubicBezTo>
                <a:cubicBezTo>
                  <a:pt x="14511" y="6288"/>
                  <a:pt x="14447" y="6362"/>
                  <a:pt x="14387" y="6474"/>
                </a:cubicBezTo>
                <a:cubicBezTo>
                  <a:pt x="14418" y="6411"/>
                  <a:pt x="14487" y="6408"/>
                  <a:pt x="14560" y="6400"/>
                </a:cubicBezTo>
                <a:cubicBezTo>
                  <a:pt x="14579" y="6554"/>
                  <a:pt x="14581" y="6581"/>
                  <a:pt x="14461" y="6672"/>
                </a:cubicBezTo>
                <a:cubicBezTo>
                  <a:pt x="14436" y="6697"/>
                  <a:pt x="14428" y="6705"/>
                  <a:pt x="14412" y="6672"/>
                </a:cubicBezTo>
              </a:path>
              <a:path w="1241" h="1960">
                <a:moveTo>
                  <a:pt x="14709" y="6400"/>
                </a:moveTo>
                <a:cubicBezTo>
                  <a:pt x="14733" y="6421"/>
                  <a:pt x="14852" y="6598"/>
                  <a:pt x="14858" y="6598"/>
                </a:cubicBezTo>
                <a:cubicBezTo>
                  <a:pt x="14858" y="6590"/>
                  <a:pt x="14858" y="6581"/>
                  <a:pt x="14858" y="6573"/>
                </a:cubicBezTo>
              </a:path>
              <a:path w="1241" h="1960">
                <a:moveTo>
                  <a:pt x="14709" y="6003"/>
                </a:moveTo>
                <a:cubicBezTo>
                  <a:pt x="14775" y="5948"/>
                  <a:pt x="14823" y="5918"/>
                  <a:pt x="14908" y="5904"/>
                </a:cubicBezTo>
                <a:cubicBezTo>
                  <a:pt x="14921" y="5994"/>
                  <a:pt x="14930" y="6019"/>
                  <a:pt x="14883" y="6102"/>
                </a:cubicBezTo>
                <a:cubicBezTo>
                  <a:pt x="14947" y="6086"/>
                  <a:pt x="15035" y="6009"/>
                  <a:pt x="15106" y="6077"/>
                </a:cubicBezTo>
                <a:cubicBezTo>
                  <a:pt x="15211" y="6177"/>
                  <a:pt x="15068" y="6276"/>
                  <a:pt x="15007" y="6325"/>
                </a:cubicBezTo>
                <a:cubicBezTo>
                  <a:pt x="14999" y="6333"/>
                  <a:pt x="14990" y="6342"/>
                  <a:pt x="14982" y="6350"/>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79" name=""/>
          <p:cNvSpPr/>
          <p:nvPr/>
        </p:nvSpPr>
        <p:spPr>
          <a:xfrm>
            <a:off x="5303880" y="1643040"/>
            <a:ext cx="250920" cy="268200"/>
          </a:xfrm>
          <a:custGeom>
            <a:avLst/>
            <a:gdLst/>
            <a:ahLst/>
            <a:rect l="l" t="t" r="r" b="b"/>
            <a:pathLst>
              <a:path w="696" h="745">
                <a:moveTo>
                  <a:pt x="15056" y="4663"/>
                </a:moveTo>
                <a:cubicBezTo>
                  <a:pt x="15061" y="4773"/>
                  <a:pt x="15151" y="5241"/>
                  <a:pt x="15032" y="5308"/>
                </a:cubicBezTo>
                <a:cubicBezTo>
                  <a:pt x="15024" y="5283"/>
                  <a:pt x="15015" y="5259"/>
                  <a:pt x="15007" y="5234"/>
                </a:cubicBezTo>
              </a:path>
              <a:path w="696" h="745">
                <a:moveTo>
                  <a:pt x="14734" y="4738"/>
                </a:moveTo>
                <a:cubicBezTo>
                  <a:pt x="14878" y="4651"/>
                  <a:pt x="15183" y="4413"/>
                  <a:pt x="15230" y="4738"/>
                </a:cubicBezTo>
                <a:cubicBezTo>
                  <a:pt x="15209" y="4843"/>
                  <a:pt x="15214" y="4871"/>
                  <a:pt x="15156" y="4911"/>
                </a:cubicBezTo>
                <a:cubicBezTo>
                  <a:pt x="15223" y="4828"/>
                  <a:pt x="15447" y="4782"/>
                  <a:pt x="15429" y="4986"/>
                </a:cubicBezTo>
                <a:cubicBezTo>
                  <a:pt x="15414" y="5151"/>
                  <a:pt x="15140" y="5331"/>
                  <a:pt x="14982" y="5259"/>
                </a:cubicBezTo>
                <a:cubicBezTo>
                  <a:pt x="14952" y="5199"/>
                  <a:pt x="14950" y="5173"/>
                  <a:pt x="15007" y="5135"/>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80" name=""/>
          <p:cNvSpPr/>
          <p:nvPr/>
        </p:nvSpPr>
        <p:spPr>
          <a:xfrm>
            <a:off x="5438880" y="4724280"/>
            <a:ext cx="9360" cy="54000"/>
          </a:xfrm>
          <a:custGeom>
            <a:avLst/>
            <a:gdLst/>
            <a:ahLst/>
            <a:rect l="l" t="t" r="r" b="b"/>
            <a:pathLst>
              <a:path w="26" h="150">
                <a:moveTo>
                  <a:pt x="15106" y="13122"/>
                </a:moveTo>
                <a:cubicBezTo>
                  <a:pt x="15131" y="13195"/>
                  <a:pt x="15139" y="13219"/>
                  <a:pt x="15131" y="13271"/>
                </a:cubicBezTo>
              </a:path>
            </a:pathLst>
          </a:custGeom>
          <a:noFill/>
          <a:ln cap="rnd" w="34920">
            <a:solidFill>
              <a:srgbClr val="eaeaea"/>
            </a:solidFill>
            <a:round/>
          </a:ln>
        </p:spPr>
        <p:style>
          <a:lnRef idx="0"/>
          <a:fillRef idx="0"/>
          <a:effectRef idx="0"/>
          <a:fontRef idx="minor"/>
        </p:style>
        <p:txBody>
          <a:bodyPr lIns="90000" rIns="90000" tIns="7200" bIns="7200" anchor="t">
            <a:noAutofit/>
          </a:bodyPr>
          <a:p>
            <a:endParaRPr b="0" lang="en-US" sz="1800" spc="-1" strike="noStrike">
              <a:solidFill>
                <a:srgbClr val="eaeaea"/>
              </a:solidFill>
              <a:latin typeface="Arial"/>
            </a:endParaRPr>
          </a:p>
        </p:txBody>
      </p:sp>
      <p:sp>
        <p:nvSpPr>
          <p:cNvPr id="281" name=""/>
          <p:cNvSpPr/>
          <p:nvPr/>
        </p:nvSpPr>
        <p:spPr>
          <a:xfrm>
            <a:off x="5187960" y="2598840"/>
            <a:ext cx="2546280" cy="3143160"/>
          </a:xfrm>
          <a:custGeom>
            <a:avLst/>
            <a:gdLst/>
            <a:ahLst/>
            <a:rect l="l" t="t" r="r" b="b"/>
            <a:pathLst>
              <a:path w="7070" h="8732">
                <a:moveTo>
                  <a:pt x="17934" y="7243"/>
                </a:moveTo>
                <a:cubicBezTo>
                  <a:pt x="17943" y="7292"/>
                  <a:pt x="17956" y="7267"/>
                  <a:pt x="17959" y="7317"/>
                </a:cubicBezTo>
                <a:cubicBezTo>
                  <a:pt x="17972" y="7509"/>
                  <a:pt x="17943" y="7706"/>
                  <a:pt x="17934" y="7888"/>
                </a:cubicBezTo>
                <a:cubicBezTo>
                  <a:pt x="17922" y="8110"/>
                  <a:pt x="17953" y="8321"/>
                  <a:pt x="17983" y="8533"/>
                </a:cubicBezTo>
                <a:cubicBezTo>
                  <a:pt x="17992" y="8600"/>
                  <a:pt x="17992" y="8666"/>
                  <a:pt x="18008" y="8731"/>
                </a:cubicBezTo>
                <a:cubicBezTo>
                  <a:pt x="18026" y="8806"/>
                  <a:pt x="18046" y="8875"/>
                  <a:pt x="18058" y="8954"/>
                </a:cubicBezTo>
                <a:cubicBezTo>
                  <a:pt x="18069" y="9027"/>
                  <a:pt x="18075" y="9100"/>
                  <a:pt x="18083" y="9178"/>
                </a:cubicBezTo>
                <a:cubicBezTo>
                  <a:pt x="18090" y="9244"/>
                  <a:pt x="18103" y="9305"/>
                  <a:pt x="18107" y="9376"/>
                </a:cubicBezTo>
                <a:cubicBezTo>
                  <a:pt x="18112" y="9474"/>
                  <a:pt x="18136" y="9611"/>
                  <a:pt x="18132" y="9699"/>
                </a:cubicBezTo>
                <a:cubicBezTo>
                  <a:pt x="18131" y="9731"/>
                  <a:pt x="18109" y="9799"/>
                  <a:pt x="18107" y="9847"/>
                </a:cubicBezTo>
                <a:cubicBezTo>
                  <a:pt x="18105" y="9893"/>
                  <a:pt x="18108" y="9918"/>
                  <a:pt x="18107" y="9971"/>
                </a:cubicBezTo>
                <a:cubicBezTo>
                  <a:pt x="18101" y="10272"/>
                  <a:pt x="18088" y="10567"/>
                  <a:pt x="18083" y="10864"/>
                </a:cubicBezTo>
                <a:cubicBezTo>
                  <a:pt x="18082" y="10930"/>
                  <a:pt x="18061" y="11013"/>
                  <a:pt x="18058" y="11063"/>
                </a:cubicBezTo>
                <a:cubicBezTo>
                  <a:pt x="18045" y="11321"/>
                  <a:pt x="18038" y="11575"/>
                  <a:pt x="18033" y="11832"/>
                </a:cubicBezTo>
                <a:cubicBezTo>
                  <a:pt x="18031" y="11967"/>
                  <a:pt x="18004" y="12129"/>
                  <a:pt x="18008" y="12254"/>
                </a:cubicBezTo>
                <a:cubicBezTo>
                  <a:pt x="18010" y="12329"/>
                  <a:pt x="18009" y="12424"/>
                  <a:pt x="18008" y="12477"/>
                </a:cubicBezTo>
                <a:cubicBezTo>
                  <a:pt x="18006" y="12590"/>
                  <a:pt x="18028" y="12693"/>
                  <a:pt x="18033" y="12799"/>
                </a:cubicBezTo>
                <a:cubicBezTo>
                  <a:pt x="18043" y="13014"/>
                  <a:pt x="18047" y="13233"/>
                  <a:pt x="18058" y="13444"/>
                </a:cubicBezTo>
                <a:cubicBezTo>
                  <a:pt x="18067" y="13617"/>
                  <a:pt x="18074" y="13800"/>
                  <a:pt x="18083" y="13965"/>
                </a:cubicBezTo>
                <a:cubicBezTo>
                  <a:pt x="18111" y="14471"/>
                  <a:pt x="18101" y="15003"/>
                  <a:pt x="18058" y="15503"/>
                </a:cubicBezTo>
                <a:cubicBezTo>
                  <a:pt x="18051" y="15581"/>
                  <a:pt x="18015" y="15672"/>
                  <a:pt x="18008" y="15751"/>
                </a:cubicBezTo>
                <a:cubicBezTo>
                  <a:pt x="18006" y="15775"/>
                  <a:pt x="18012" y="15801"/>
                  <a:pt x="18008" y="15825"/>
                </a:cubicBezTo>
                <a:cubicBezTo>
                  <a:pt x="17985" y="15768"/>
                  <a:pt x="17959" y="15705"/>
                  <a:pt x="17934" y="15652"/>
                </a:cubicBezTo>
                <a:cubicBezTo>
                  <a:pt x="17952" y="15719"/>
                  <a:pt x="17957" y="15779"/>
                  <a:pt x="17983" y="15850"/>
                </a:cubicBezTo>
                <a:cubicBezTo>
                  <a:pt x="18006" y="15873"/>
                  <a:pt x="18014" y="15877"/>
                  <a:pt x="18008" y="15900"/>
                </a:cubicBezTo>
                <a:cubicBezTo>
                  <a:pt x="18030" y="15868"/>
                  <a:pt x="18096" y="15779"/>
                  <a:pt x="18132" y="15726"/>
                </a:cubicBezTo>
                <a:cubicBezTo>
                  <a:pt x="18151" y="15698"/>
                  <a:pt x="18174" y="15663"/>
                  <a:pt x="18182" y="15652"/>
                </a:cubicBezTo>
              </a:path>
              <a:path w="7070" h="8732">
                <a:moveTo>
                  <a:pt x="14610" y="11509"/>
                </a:moveTo>
                <a:cubicBezTo>
                  <a:pt x="14713" y="11514"/>
                  <a:pt x="14810" y="11527"/>
                  <a:pt x="14908" y="11534"/>
                </a:cubicBezTo>
                <a:cubicBezTo>
                  <a:pt x="15045" y="11543"/>
                  <a:pt x="15176" y="11517"/>
                  <a:pt x="15304" y="11509"/>
                </a:cubicBezTo>
                <a:cubicBezTo>
                  <a:pt x="15381" y="11504"/>
                  <a:pt x="15469" y="11532"/>
                  <a:pt x="15528" y="11534"/>
                </a:cubicBezTo>
                <a:cubicBezTo>
                  <a:pt x="15628" y="11538"/>
                  <a:pt x="15733" y="11553"/>
                  <a:pt x="15825" y="11559"/>
                </a:cubicBezTo>
                <a:cubicBezTo>
                  <a:pt x="15919" y="11565"/>
                  <a:pt x="16005" y="11578"/>
                  <a:pt x="16098" y="11584"/>
                </a:cubicBezTo>
                <a:cubicBezTo>
                  <a:pt x="16262" y="11594"/>
                  <a:pt x="16437" y="11600"/>
                  <a:pt x="16594" y="11609"/>
                </a:cubicBezTo>
                <a:cubicBezTo>
                  <a:pt x="16745" y="11617"/>
                  <a:pt x="16895" y="11625"/>
                  <a:pt x="17041" y="11633"/>
                </a:cubicBezTo>
                <a:cubicBezTo>
                  <a:pt x="17262" y="11646"/>
                  <a:pt x="17504" y="11645"/>
                  <a:pt x="17711" y="11658"/>
                </a:cubicBezTo>
                <a:cubicBezTo>
                  <a:pt x="18081" y="11681"/>
                  <a:pt x="18492" y="11684"/>
                  <a:pt x="18852" y="11633"/>
                </a:cubicBezTo>
                <a:cubicBezTo>
                  <a:pt x="18994" y="11613"/>
                  <a:pt x="19128" y="11609"/>
                  <a:pt x="19273" y="11609"/>
                </a:cubicBezTo>
                <a:cubicBezTo>
                  <a:pt x="19393" y="11609"/>
                  <a:pt x="19502" y="11589"/>
                  <a:pt x="19621" y="11584"/>
                </a:cubicBezTo>
                <a:cubicBezTo>
                  <a:pt x="19925" y="11571"/>
                  <a:pt x="20242" y="11578"/>
                  <a:pt x="20538" y="11559"/>
                </a:cubicBezTo>
                <a:cubicBezTo>
                  <a:pt x="20618" y="11554"/>
                  <a:pt x="20685" y="11541"/>
                  <a:pt x="20762" y="11534"/>
                </a:cubicBezTo>
                <a:cubicBezTo>
                  <a:pt x="20998" y="11513"/>
                  <a:pt x="21243" y="11534"/>
                  <a:pt x="21481" y="11534"/>
                </a:cubicBezTo>
                <a:cubicBezTo>
                  <a:pt x="21438" y="11496"/>
                  <a:pt x="21466" y="11487"/>
                  <a:pt x="21382" y="11435"/>
                </a:cubicBezTo>
                <a:cubicBezTo>
                  <a:pt x="21344" y="11411"/>
                  <a:pt x="21281" y="11353"/>
                  <a:pt x="21258" y="11336"/>
                </a:cubicBezTo>
                <a:cubicBezTo>
                  <a:pt x="21326" y="11379"/>
                  <a:pt x="21392" y="11403"/>
                  <a:pt x="21456" y="11435"/>
                </a:cubicBezTo>
                <a:cubicBezTo>
                  <a:pt x="21426" y="11492"/>
                  <a:pt x="21433" y="11544"/>
                  <a:pt x="21382" y="11609"/>
                </a:cubicBezTo>
                <a:cubicBezTo>
                  <a:pt x="21335" y="11669"/>
                  <a:pt x="21295" y="11674"/>
                  <a:pt x="21258" y="11708"/>
                </a:cubicBezTo>
              </a:path>
              <a:path w="7070" h="8732">
                <a:moveTo>
                  <a:pt x="14536" y="15751"/>
                </a:moveTo>
                <a:cubicBezTo>
                  <a:pt x="14491" y="15736"/>
                  <a:pt x="14508" y="15711"/>
                  <a:pt x="14436" y="15701"/>
                </a:cubicBezTo>
                <a:cubicBezTo>
                  <a:pt x="14413" y="15883"/>
                  <a:pt x="14480" y="15998"/>
                  <a:pt x="14684" y="15850"/>
                </a:cubicBezTo>
                <a:cubicBezTo>
                  <a:pt x="14793" y="15771"/>
                  <a:pt x="14810" y="15598"/>
                  <a:pt x="14635" y="15701"/>
                </a:cubicBezTo>
                <a:cubicBezTo>
                  <a:pt x="14572" y="15764"/>
                  <a:pt x="14555" y="15773"/>
                  <a:pt x="14536" y="15825"/>
                </a:cubicBezTo>
                <a:cubicBezTo>
                  <a:pt x="14583" y="15832"/>
                  <a:pt x="14751" y="15754"/>
                  <a:pt x="14635" y="15801"/>
                </a:cubicBezTo>
              </a:path>
              <a:path w="7070" h="8732">
                <a:moveTo>
                  <a:pt x="14610" y="12874"/>
                </a:moveTo>
                <a:cubicBezTo>
                  <a:pt x="14596" y="12919"/>
                  <a:pt x="14552" y="13009"/>
                  <a:pt x="14560" y="13097"/>
                </a:cubicBezTo>
                <a:cubicBezTo>
                  <a:pt x="14581" y="13344"/>
                  <a:pt x="14605" y="13593"/>
                  <a:pt x="14610" y="13841"/>
                </a:cubicBezTo>
                <a:cubicBezTo>
                  <a:pt x="14613" y="14000"/>
                  <a:pt x="14565" y="14151"/>
                  <a:pt x="14585" y="14312"/>
                </a:cubicBezTo>
                <a:cubicBezTo>
                  <a:pt x="14602" y="14447"/>
                  <a:pt x="14610" y="14571"/>
                  <a:pt x="14610" y="14709"/>
                </a:cubicBezTo>
                <a:cubicBezTo>
                  <a:pt x="14610" y="14848"/>
                  <a:pt x="14618" y="14968"/>
                  <a:pt x="14610" y="15106"/>
                </a:cubicBezTo>
                <a:cubicBezTo>
                  <a:pt x="14603" y="15227"/>
                  <a:pt x="14587" y="15312"/>
                  <a:pt x="14560" y="15429"/>
                </a:cubicBezTo>
                <a:cubicBezTo>
                  <a:pt x="14540" y="15515"/>
                  <a:pt x="14518" y="15624"/>
                  <a:pt x="14511" y="15701"/>
                </a:cubicBezTo>
                <a:cubicBezTo>
                  <a:pt x="14507" y="15742"/>
                  <a:pt x="14513" y="15784"/>
                  <a:pt x="14511" y="15825"/>
                </a:cubicBezTo>
                <a:cubicBezTo>
                  <a:pt x="14573" y="15832"/>
                  <a:pt x="14618" y="15853"/>
                  <a:pt x="14684" y="15850"/>
                </a:cubicBezTo>
                <a:cubicBezTo>
                  <a:pt x="14805" y="15845"/>
                  <a:pt x="14933" y="15808"/>
                  <a:pt x="15056" y="15801"/>
                </a:cubicBezTo>
                <a:cubicBezTo>
                  <a:pt x="15148" y="15796"/>
                  <a:pt x="15238" y="15773"/>
                  <a:pt x="15329" y="15776"/>
                </a:cubicBezTo>
                <a:cubicBezTo>
                  <a:pt x="15427" y="15780"/>
                  <a:pt x="15522" y="15811"/>
                  <a:pt x="15627" y="15801"/>
                </a:cubicBezTo>
                <a:cubicBezTo>
                  <a:pt x="15700" y="15794"/>
                  <a:pt x="15745" y="15770"/>
                  <a:pt x="15825" y="15776"/>
                </a:cubicBezTo>
                <a:cubicBezTo>
                  <a:pt x="15988" y="15789"/>
                  <a:pt x="16154" y="15821"/>
                  <a:pt x="16321" y="15825"/>
                </a:cubicBezTo>
                <a:cubicBezTo>
                  <a:pt x="16422" y="15827"/>
                  <a:pt x="16548" y="15838"/>
                  <a:pt x="16644" y="15875"/>
                </a:cubicBezTo>
                <a:cubicBezTo>
                  <a:pt x="16731" y="15908"/>
                  <a:pt x="16804" y="15929"/>
                  <a:pt x="16892" y="15949"/>
                </a:cubicBezTo>
                <a:cubicBezTo>
                  <a:pt x="16916" y="15852"/>
                  <a:pt x="16944" y="15751"/>
                  <a:pt x="16966" y="15652"/>
                </a:cubicBezTo>
                <a:cubicBezTo>
                  <a:pt x="17001" y="15494"/>
                  <a:pt x="17008" y="15337"/>
                  <a:pt x="17041" y="15180"/>
                </a:cubicBezTo>
                <a:cubicBezTo>
                  <a:pt x="17068" y="15049"/>
                  <a:pt x="17082" y="14917"/>
                  <a:pt x="17090" y="14784"/>
                </a:cubicBezTo>
                <a:cubicBezTo>
                  <a:pt x="17103" y="14574"/>
                  <a:pt x="17077" y="14367"/>
                  <a:pt x="17066" y="14163"/>
                </a:cubicBezTo>
                <a:cubicBezTo>
                  <a:pt x="17059" y="14029"/>
                  <a:pt x="17051" y="13899"/>
                  <a:pt x="17041" y="13767"/>
                </a:cubicBezTo>
                <a:cubicBezTo>
                  <a:pt x="17025" y="13557"/>
                  <a:pt x="17052" y="13350"/>
                  <a:pt x="17066" y="13146"/>
                </a:cubicBezTo>
                <a:cubicBezTo>
                  <a:pt x="17070" y="13084"/>
                  <a:pt x="17069" y="13022"/>
                  <a:pt x="17041" y="12973"/>
                </a:cubicBezTo>
                <a:cubicBezTo>
                  <a:pt x="16990" y="12884"/>
                  <a:pt x="16860" y="12944"/>
                  <a:pt x="16793" y="12948"/>
                </a:cubicBezTo>
                <a:cubicBezTo>
                  <a:pt x="16662" y="12955"/>
                  <a:pt x="16495" y="12978"/>
                  <a:pt x="16371" y="12973"/>
                </a:cubicBezTo>
                <a:cubicBezTo>
                  <a:pt x="16241" y="12967"/>
                  <a:pt x="16108" y="12926"/>
                  <a:pt x="15974" y="12923"/>
                </a:cubicBezTo>
                <a:cubicBezTo>
                  <a:pt x="15881" y="12921"/>
                  <a:pt x="15763" y="12894"/>
                  <a:pt x="15677" y="12898"/>
                </a:cubicBezTo>
                <a:cubicBezTo>
                  <a:pt x="15554" y="12904"/>
                  <a:pt x="15450" y="12904"/>
                  <a:pt x="15329" y="12898"/>
                </a:cubicBezTo>
                <a:cubicBezTo>
                  <a:pt x="15213" y="12892"/>
                  <a:pt x="15095" y="12906"/>
                  <a:pt x="14982" y="12923"/>
                </a:cubicBezTo>
                <a:cubicBezTo>
                  <a:pt x="14865" y="12941"/>
                  <a:pt x="14753" y="12965"/>
                  <a:pt x="14635" y="12973"/>
                </a:cubicBezTo>
                <a:cubicBezTo>
                  <a:pt x="14588" y="12976"/>
                  <a:pt x="14522" y="12996"/>
                  <a:pt x="14511" y="12998"/>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82" name=""/>
          <p:cNvSpPr/>
          <p:nvPr/>
        </p:nvSpPr>
        <p:spPr>
          <a:xfrm>
            <a:off x="8224920" y="5688000"/>
            <a:ext cx="7920" cy="54000"/>
          </a:xfrm>
          <a:custGeom>
            <a:avLst/>
            <a:gdLst/>
            <a:ahLst/>
            <a:rect l="l" t="t" r="r" b="b"/>
            <a:pathLst>
              <a:path w="26" h="149">
                <a:moveTo>
                  <a:pt x="22845" y="15801"/>
                </a:moveTo>
                <a:cubicBezTo>
                  <a:pt x="22845" y="15876"/>
                  <a:pt x="22845" y="15902"/>
                  <a:pt x="22870" y="15949"/>
                </a:cubicBezTo>
              </a:path>
            </a:pathLst>
          </a:custGeom>
          <a:noFill/>
          <a:ln cap="rnd" w="34920">
            <a:solidFill>
              <a:srgbClr val="eaeaea"/>
            </a:solidFill>
            <a:round/>
          </a:ln>
        </p:spPr>
        <p:style>
          <a:lnRef idx="0"/>
          <a:fillRef idx="0"/>
          <a:effectRef idx="0"/>
          <a:fontRef idx="minor"/>
        </p:style>
        <p:txBody>
          <a:bodyPr lIns="90000" rIns="90000" tIns="7200" bIns="7200" anchor="t">
            <a:noAutofit/>
          </a:bodyPr>
          <a:p>
            <a:endParaRPr b="0" lang="en-US" sz="1800" spc="-1" strike="noStrike">
              <a:solidFill>
                <a:srgbClr val="eaeaea"/>
              </a:solidFill>
              <a:latin typeface="Arial"/>
            </a:endParaRPr>
          </a:p>
        </p:txBody>
      </p:sp>
      <p:sp>
        <p:nvSpPr>
          <p:cNvPr id="283" name=""/>
          <p:cNvSpPr/>
          <p:nvPr/>
        </p:nvSpPr>
        <p:spPr>
          <a:xfrm>
            <a:off x="7072200" y="3625920"/>
            <a:ext cx="938160" cy="357120"/>
          </a:xfrm>
          <a:custGeom>
            <a:avLst/>
            <a:gdLst/>
            <a:ahLst/>
            <a:rect l="l" t="t" r="r" b="b"/>
            <a:pathLst>
              <a:path w="2606" h="993">
                <a:moveTo>
                  <a:pt x="19645" y="10294"/>
                </a:moveTo>
                <a:cubicBezTo>
                  <a:pt x="19813" y="10436"/>
                  <a:pt x="20046" y="10551"/>
                  <a:pt x="20092" y="10790"/>
                </a:cubicBezTo>
                <a:cubicBezTo>
                  <a:pt x="20098" y="10822"/>
                  <a:pt x="20022" y="11111"/>
                  <a:pt x="19943" y="11063"/>
                </a:cubicBezTo>
                <a:cubicBezTo>
                  <a:pt x="19943" y="11055"/>
                  <a:pt x="19943" y="11046"/>
                  <a:pt x="19943" y="11038"/>
                </a:cubicBezTo>
              </a:path>
              <a:path w="2606" h="993">
                <a:moveTo>
                  <a:pt x="21530" y="10195"/>
                </a:moveTo>
                <a:cubicBezTo>
                  <a:pt x="21526" y="10194"/>
                  <a:pt x="21464" y="10126"/>
                  <a:pt x="21456" y="10145"/>
                </a:cubicBezTo>
                <a:cubicBezTo>
                  <a:pt x="21456" y="10162"/>
                  <a:pt x="21456" y="10178"/>
                  <a:pt x="21456" y="10195"/>
                </a:cubicBezTo>
                <a:cubicBezTo>
                  <a:pt x="21474" y="10299"/>
                  <a:pt x="21555" y="10205"/>
                  <a:pt x="21555" y="10145"/>
                </a:cubicBezTo>
                <a:cubicBezTo>
                  <a:pt x="21547" y="10129"/>
                  <a:pt x="21538" y="10112"/>
                  <a:pt x="21530" y="10096"/>
                </a:cubicBezTo>
                <a:cubicBezTo>
                  <a:pt x="21484" y="10102"/>
                  <a:pt x="21315" y="10216"/>
                  <a:pt x="21431" y="10244"/>
                </a:cubicBezTo>
                <a:cubicBezTo>
                  <a:pt x="21517" y="10265"/>
                  <a:pt x="21587" y="10076"/>
                  <a:pt x="21530" y="10071"/>
                </a:cubicBezTo>
                <a:cubicBezTo>
                  <a:pt x="21458" y="10065"/>
                  <a:pt x="21406" y="10162"/>
                  <a:pt x="21456" y="10195"/>
                </a:cubicBezTo>
              </a:path>
              <a:path w="2606" h="993">
                <a:moveTo>
                  <a:pt x="21282" y="10443"/>
                </a:moveTo>
                <a:cubicBezTo>
                  <a:pt x="21282" y="10373"/>
                  <a:pt x="21239" y="10522"/>
                  <a:pt x="21233" y="10592"/>
                </a:cubicBezTo>
                <a:cubicBezTo>
                  <a:pt x="21225" y="10696"/>
                  <a:pt x="21236" y="10939"/>
                  <a:pt x="21406" y="10939"/>
                </a:cubicBezTo>
                <a:cubicBezTo>
                  <a:pt x="21423" y="10931"/>
                  <a:pt x="21439" y="10922"/>
                  <a:pt x="21456" y="10914"/>
                </a:cubicBezTo>
              </a:path>
              <a:path w="2606" h="993">
                <a:moveTo>
                  <a:pt x="21530" y="10492"/>
                </a:moveTo>
                <a:cubicBezTo>
                  <a:pt x="21546" y="10467"/>
                  <a:pt x="21662" y="10335"/>
                  <a:pt x="21704" y="10418"/>
                </a:cubicBezTo>
                <a:cubicBezTo>
                  <a:pt x="21728" y="10513"/>
                  <a:pt x="21739" y="10543"/>
                  <a:pt x="21679" y="10592"/>
                </a:cubicBezTo>
                <a:cubicBezTo>
                  <a:pt x="21671" y="10600"/>
                  <a:pt x="21662" y="10608"/>
                  <a:pt x="21654" y="10616"/>
                </a:cubicBezTo>
                <a:cubicBezTo>
                  <a:pt x="21788" y="10578"/>
                  <a:pt x="21892" y="10622"/>
                  <a:pt x="21779" y="10790"/>
                </a:cubicBezTo>
                <a:cubicBezTo>
                  <a:pt x="21718" y="10881"/>
                  <a:pt x="21694" y="10864"/>
                  <a:pt x="21605" y="10864"/>
                </a:cubicBezTo>
              </a:path>
              <a:path w="2606" h="993">
                <a:moveTo>
                  <a:pt x="22027" y="10616"/>
                </a:moveTo>
                <a:cubicBezTo>
                  <a:pt x="22040" y="10699"/>
                  <a:pt x="22067" y="10779"/>
                  <a:pt x="22076" y="10864"/>
                </a:cubicBezTo>
              </a:path>
              <a:path w="2606" h="993">
                <a:moveTo>
                  <a:pt x="22101" y="10294"/>
                </a:moveTo>
                <a:cubicBezTo>
                  <a:pt x="22136" y="10384"/>
                  <a:pt x="22176" y="10490"/>
                  <a:pt x="22225" y="10567"/>
                </a:cubicBezTo>
                <a:cubicBezTo>
                  <a:pt x="22233" y="10575"/>
                  <a:pt x="22242" y="10584"/>
                  <a:pt x="22250" y="10592"/>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84" name=""/>
          <p:cNvSpPr/>
          <p:nvPr/>
        </p:nvSpPr>
        <p:spPr>
          <a:xfrm>
            <a:off x="7786800" y="4510080"/>
            <a:ext cx="115920" cy="187200"/>
          </a:xfrm>
          <a:custGeom>
            <a:avLst/>
            <a:gdLst/>
            <a:ahLst/>
            <a:rect l="l" t="t" r="r" b="b"/>
            <a:pathLst>
              <a:path w="323" h="522">
                <a:moveTo>
                  <a:pt x="21729" y="12675"/>
                </a:moveTo>
                <a:cubicBezTo>
                  <a:pt x="21708" y="12783"/>
                  <a:pt x="21708" y="12962"/>
                  <a:pt x="21630" y="13022"/>
                </a:cubicBezTo>
                <a:cubicBezTo>
                  <a:pt x="21644" y="12862"/>
                  <a:pt x="21686" y="12735"/>
                  <a:pt x="21779" y="12601"/>
                </a:cubicBezTo>
                <a:cubicBezTo>
                  <a:pt x="21820" y="12559"/>
                  <a:pt x="21828" y="12551"/>
                  <a:pt x="21853" y="12526"/>
                </a:cubicBezTo>
                <a:cubicBezTo>
                  <a:pt x="21958" y="12676"/>
                  <a:pt x="21918" y="12794"/>
                  <a:pt x="21903" y="12973"/>
                </a:cubicBezTo>
                <a:cubicBezTo>
                  <a:pt x="21903" y="13014"/>
                  <a:pt x="21903" y="13022"/>
                  <a:pt x="21903" y="13047"/>
                </a:cubicBezTo>
              </a:path>
              <a:path w="323" h="522">
                <a:moveTo>
                  <a:pt x="21654" y="12923"/>
                </a:moveTo>
                <a:cubicBezTo>
                  <a:pt x="21759" y="12891"/>
                  <a:pt x="21847" y="12881"/>
                  <a:pt x="21952" y="12898"/>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85" name=""/>
          <p:cNvSpPr/>
          <p:nvPr/>
        </p:nvSpPr>
        <p:spPr>
          <a:xfrm>
            <a:off x="7750080" y="5241960"/>
            <a:ext cx="411120" cy="509400"/>
          </a:xfrm>
          <a:custGeom>
            <a:avLst/>
            <a:gdLst/>
            <a:ahLst/>
            <a:rect l="l" t="t" r="r" b="b"/>
            <a:pathLst>
              <a:path w="1142" h="1415">
                <a:moveTo>
                  <a:pt x="21803" y="14635"/>
                </a:moveTo>
                <a:cubicBezTo>
                  <a:pt x="21816" y="14674"/>
                  <a:pt x="21815" y="14645"/>
                  <a:pt x="21828" y="14684"/>
                </a:cubicBezTo>
                <a:cubicBezTo>
                  <a:pt x="21828" y="14622"/>
                  <a:pt x="21824" y="14472"/>
                  <a:pt x="21704" y="14585"/>
                </a:cubicBezTo>
                <a:cubicBezTo>
                  <a:pt x="21603" y="14680"/>
                  <a:pt x="21389" y="15076"/>
                  <a:pt x="21654" y="15131"/>
                </a:cubicBezTo>
                <a:cubicBezTo>
                  <a:pt x="21730" y="15147"/>
                  <a:pt x="21885" y="15099"/>
                  <a:pt x="21927" y="15056"/>
                </a:cubicBezTo>
              </a:path>
              <a:path w="1142" h="1415">
                <a:moveTo>
                  <a:pt x="21630" y="15528"/>
                </a:moveTo>
                <a:cubicBezTo>
                  <a:pt x="21620" y="15641"/>
                  <a:pt x="21631" y="15799"/>
                  <a:pt x="21580" y="15900"/>
                </a:cubicBezTo>
                <a:cubicBezTo>
                  <a:pt x="21580" y="15892"/>
                  <a:pt x="21580" y="15883"/>
                  <a:pt x="21580" y="15875"/>
                </a:cubicBezTo>
              </a:path>
              <a:path w="1142" h="1415">
                <a:moveTo>
                  <a:pt x="21530" y="15503"/>
                </a:moveTo>
                <a:cubicBezTo>
                  <a:pt x="21647" y="15550"/>
                  <a:pt x="22045" y="15657"/>
                  <a:pt x="21853" y="15850"/>
                </a:cubicBezTo>
                <a:cubicBezTo>
                  <a:pt x="21800" y="15903"/>
                  <a:pt x="21556" y="16041"/>
                  <a:pt x="21679" y="15875"/>
                </a:cubicBezTo>
              </a:path>
              <a:path w="1142" h="1415">
                <a:moveTo>
                  <a:pt x="22225" y="15404"/>
                </a:moveTo>
                <a:cubicBezTo>
                  <a:pt x="22131" y="15593"/>
                  <a:pt x="22073" y="15764"/>
                  <a:pt x="22051" y="15974"/>
                </a:cubicBezTo>
                <a:cubicBezTo>
                  <a:pt x="22090" y="15970"/>
                  <a:pt x="22243" y="15953"/>
                  <a:pt x="22250" y="15949"/>
                </a:cubicBezTo>
                <a:cubicBezTo>
                  <a:pt x="22250" y="15941"/>
                  <a:pt x="22250" y="15933"/>
                  <a:pt x="22250" y="15925"/>
                </a:cubicBezTo>
              </a:path>
              <a:path w="1142" h="1415">
                <a:moveTo>
                  <a:pt x="22275" y="15677"/>
                </a:moveTo>
                <a:cubicBezTo>
                  <a:pt x="22350" y="15662"/>
                  <a:pt x="22417" y="15652"/>
                  <a:pt x="22498" y="15652"/>
                </a:cubicBezTo>
              </a:path>
              <a:path w="1142" h="1415">
                <a:moveTo>
                  <a:pt x="22597" y="15478"/>
                </a:moveTo>
                <a:cubicBezTo>
                  <a:pt x="22657" y="15582"/>
                  <a:pt x="22647" y="15681"/>
                  <a:pt x="22647" y="15801"/>
                </a:cubicBezTo>
                <a:cubicBezTo>
                  <a:pt x="22647" y="15845"/>
                  <a:pt x="22644" y="15865"/>
                  <a:pt x="22671" y="15825"/>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86" name=""/>
          <p:cNvSpPr/>
          <p:nvPr/>
        </p:nvSpPr>
        <p:spPr>
          <a:xfrm>
            <a:off x="6045120" y="4456080"/>
            <a:ext cx="3090960" cy="1303200"/>
          </a:xfrm>
          <a:custGeom>
            <a:avLst/>
            <a:gdLst/>
            <a:ahLst/>
            <a:rect l="l" t="t" r="r" b="b"/>
            <a:pathLst>
              <a:path w="8583" h="3622">
                <a:moveTo>
                  <a:pt x="23192" y="12378"/>
                </a:moveTo>
                <a:cubicBezTo>
                  <a:pt x="23419" y="12572"/>
                  <a:pt x="23503" y="12712"/>
                  <a:pt x="23316" y="12998"/>
                </a:cubicBezTo>
                <a:cubicBezTo>
                  <a:pt x="23237" y="13077"/>
                  <a:pt x="23229" y="13097"/>
                  <a:pt x="23168" y="13122"/>
                </a:cubicBezTo>
              </a:path>
              <a:path w="8583" h="3622">
                <a:moveTo>
                  <a:pt x="23465" y="13395"/>
                </a:moveTo>
                <a:cubicBezTo>
                  <a:pt x="23634" y="13613"/>
                  <a:pt x="23735" y="13808"/>
                  <a:pt x="23540" y="14064"/>
                </a:cubicBezTo>
                <a:cubicBezTo>
                  <a:pt x="23459" y="14125"/>
                  <a:pt x="23447" y="14140"/>
                  <a:pt x="23391" y="14163"/>
                </a:cubicBezTo>
              </a:path>
              <a:path w="8583" h="3622">
                <a:moveTo>
                  <a:pt x="23515" y="14362"/>
                </a:moveTo>
                <a:cubicBezTo>
                  <a:pt x="23644" y="14543"/>
                  <a:pt x="23797" y="14741"/>
                  <a:pt x="23614" y="14957"/>
                </a:cubicBezTo>
                <a:cubicBezTo>
                  <a:pt x="23573" y="14982"/>
                  <a:pt x="23531" y="15007"/>
                  <a:pt x="23490" y="15032"/>
                </a:cubicBezTo>
              </a:path>
              <a:path w="8583" h="3622">
                <a:moveTo>
                  <a:pt x="23515" y="15255"/>
                </a:moveTo>
                <a:cubicBezTo>
                  <a:pt x="23630" y="15479"/>
                  <a:pt x="23810" y="15735"/>
                  <a:pt x="23564" y="15949"/>
                </a:cubicBezTo>
                <a:cubicBezTo>
                  <a:pt x="23443" y="15998"/>
                  <a:pt x="23405" y="16014"/>
                  <a:pt x="23316" y="15999"/>
                </a:cubicBezTo>
              </a:path>
              <a:path w="8583" h="3622">
                <a:moveTo>
                  <a:pt x="16793" y="13196"/>
                </a:moveTo>
                <a:cubicBezTo>
                  <a:pt x="16814" y="13239"/>
                  <a:pt x="16833" y="13274"/>
                  <a:pt x="16842" y="13320"/>
                </a:cubicBezTo>
              </a:path>
              <a:path w="8583" h="3622">
                <a:moveTo>
                  <a:pt x="24904" y="12973"/>
                </a:moveTo>
                <a:cubicBezTo>
                  <a:pt x="24884" y="13013"/>
                  <a:pt x="24875" y="13019"/>
                  <a:pt x="24879" y="13047"/>
                </a:cubicBezTo>
              </a:path>
              <a:path w="8583" h="3622">
                <a:moveTo>
                  <a:pt x="24135" y="13370"/>
                </a:moveTo>
                <a:cubicBezTo>
                  <a:pt x="24213" y="13417"/>
                  <a:pt x="24225" y="13462"/>
                  <a:pt x="24185" y="13543"/>
                </a:cubicBezTo>
              </a:path>
              <a:path w="8583" h="3622">
                <a:moveTo>
                  <a:pt x="24532" y="13171"/>
                </a:moveTo>
                <a:cubicBezTo>
                  <a:pt x="24441" y="13312"/>
                  <a:pt x="24333" y="13489"/>
                  <a:pt x="24333" y="13667"/>
                </a:cubicBezTo>
                <a:cubicBezTo>
                  <a:pt x="24333" y="13753"/>
                  <a:pt x="24348" y="13777"/>
                  <a:pt x="24408" y="13791"/>
                </a:cubicBezTo>
              </a:path>
              <a:path w="8583" h="3622">
                <a:moveTo>
                  <a:pt x="25003" y="13519"/>
                </a:moveTo>
                <a:cubicBezTo>
                  <a:pt x="25054" y="13511"/>
                  <a:pt x="25101" y="13500"/>
                  <a:pt x="25152" y="13494"/>
                </a:cubicBezTo>
              </a:path>
              <a:path w="8583" h="3622">
                <a:moveTo>
                  <a:pt x="25276" y="13171"/>
                </a:moveTo>
                <a:cubicBezTo>
                  <a:pt x="25327" y="13414"/>
                  <a:pt x="25316" y="13573"/>
                  <a:pt x="25226" y="13767"/>
                </a:cubicBezTo>
              </a:path>
              <a:path w="8583" h="3622">
                <a:moveTo>
                  <a:pt x="24085" y="14114"/>
                </a:moveTo>
                <a:cubicBezTo>
                  <a:pt x="24107" y="14179"/>
                  <a:pt x="24115" y="14194"/>
                  <a:pt x="24110" y="14238"/>
                </a:cubicBezTo>
              </a:path>
              <a:path w="8583" h="3622">
                <a:moveTo>
                  <a:pt x="24110" y="14238"/>
                </a:moveTo>
                <a:lnTo>
                  <a:pt x="24110" y="14238"/>
                </a:lnTo>
              </a:path>
              <a:path w="8583" h="3622">
                <a:moveTo>
                  <a:pt x="24408" y="14089"/>
                </a:moveTo>
                <a:cubicBezTo>
                  <a:pt x="24346" y="14275"/>
                  <a:pt x="24245" y="14460"/>
                  <a:pt x="24209" y="14660"/>
                </a:cubicBezTo>
                <a:cubicBezTo>
                  <a:pt x="24188" y="14774"/>
                  <a:pt x="24204" y="14773"/>
                  <a:pt x="24284" y="14784"/>
                </a:cubicBezTo>
              </a:path>
              <a:path w="8583" h="3622">
                <a:moveTo>
                  <a:pt x="24978" y="14362"/>
                </a:moveTo>
                <a:cubicBezTo>
                  <a:pt x="25012" y="14355"/>
                  <a:pt x="25044" y="14344"/>
                  <a:pt x="25078" y="14337"/>
                </a:cubicBezTo>
              </a:path>
              <a:path w="8583" h="3622">
                <a:moveTo>
                  <a:pt x="25251" y="14064"/>
                </a:moveTo>
                <a:cubicBezTo>
                  <a:pt x="25463" y="14252"/>
                  <a:pt x="25419" y="14532"/>
                  <a:pt x="25226" y="14734"/>
                </a:cubicBezTo>
                <a:cubicBezTo>
                  <a:pt x="25177" y="14759"/>
                  <a:pt x="25127" y="14783"/>
                  <a:pt x="25078" y="14808"/>
                </a:cubicBezTo>
              </a:path>
              <a:path w="8583" h="3622">
                <a:moveTo>
                  <a:pt x="24036" y="15280"/>
                </a:moveTo>
                <a:cubicBezTo>
                  <a:pt x="23998" y="15421"/>
                  <a:pt x="23991" y="15561"/>
                  <a:pt x="23961" y="15701"/>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87" name=""/>
          <p:cNvSpPr/>
          <p:nvPr/>
        </p:nvSpPr>
        <p:spPr>
          <a:xfrm>
            <a:off x="5062680" y="4054320"/>
            <a:ext cx="304560" cy="320760"/>
          </a:xfrm>
          <a:custGeom>
            <a:avLst/>
            <a:gdLst/>
            <a:ahLst/>
            <a:rect l="l" t="t" r="r" b="b"/>
            <a:pathLst>
              <a:path w="845" h="894">
                <a:moveTo>
                  <a:pt x="14833" y="11261"/>
                </a:moveTo>
                <a:cubicBezTo>
                  <a:pt x="14884" y="11363"/>
                  <a:pt x="14700" y="11456"/>
                  <a:pt x="14635" y="11534"/>
                </a:cubicBezTo>
                <a:cubicBezTo>
                  <a:pt x="14627" y="11551"/>
                  <a:pt x="14618" y="11567"/>
                  <a:pt x="14610" y="11584"/>
                </a:cubicBezTo>
                <a:cubicBezTo>
                  <a:pt x="14671" y="11599"/>
                  <a:pt x="14741" y="11636"/>
                  <a:pt x="14808" y="11658"/>
                </a:cubicBezTo>
                <a:cubicBezTo>
                  <a:pt x="14874" y="11680"/>
                  <a:pt x="14894" y="11666"/>
                  <a:pt x="14908" y="11708"/>
                </a:cubicBezTo>
              </a:path>
              <a:path w="845" h="894">
                <a:moveTo>
                  <a:pt x="14064" y="12105"/>
                </a:moveTo>
                <a:cubicBezTo>
                  <a:pt x="14127" y="12078"/>
                  <a:pt x="14179" y="12032"/>
                  <a:pt x="14238" y="12005"/>
                </a:cubicBezTo>
                <a:cubicBezTo>
                  <a:pt x="14246" y="12005"/>
                  <a:pt x="14255" y="12005"/>
                  <a:pt x="14263" y="12005"/>
                </a:cubicBezTo>
              </a:path>
              <a:path w="845" h="894">
                <a:moveTo>
                  <a:pt x="14387" y="11782"/>
                </a:moveTo>
                <a:cubicBezTo>
                  <a:pt x="14410" y="11724"/>
                  <a:pt x="14454" y="11681"/>
                  <a:pt x="14511" y="11658"/>
                </a:cubicBezTo>
                <a:cubicBezTo>
                  <a:pt x="14511" y="11750"/>
                  <a:pt x="14512" y="11821"/>
                  <a:pt x="14486" y="11906"/>
                </a:cubicBezTo>
                <a:cubicBezTo>
                  <a:pt x="14548" y="11906"/>
                  <a:pt x="14625" y="11881"/>
                  <a:pt x="14635" y="11981"/>
                </a:cubicBezTo>
                <a:cubicBezTo>
                  <a:pt x="14645" y="12075"/>
                  <a:pt x="14589" y="12138"/>
                  <a:pt x="14511" y="12154"/>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88" name=""/>
          <p:cNvSpPr/>
          <p:nvPr/>
        </p:nvSpPr>
        <p:spPr>
          <a:xfrm>
            <a:off x="5537160" y="4214880"/>
            <a:ext cx="222120" cy="152280"/>
          </a:xfrm>
          <a:custGeom>
            <a:avLst/>
            <a:gdLst/>
            <a:ahLst/>
            <a:rect l="l" t="t" r="r" b="b"/>
            <a:pathLst>
              <a:path w="621" h="422">
                <a:moveTo>
                  <a:pt x="15379" y="12129"/>
                </a:moveTo>
                <a:cubicBezTo>
                  <a:pt x="15442" y="12114"/>
                  <a:pt x="15499" y="12068"/>
                  <a:pt x="15528" y="12005"/>
                </a:cubicBezTo>
                <a:cubicBezTo>
                  <a:pt x="15528" y="11997"/>
                  <a:pt x="15528" y="11989"/>
                  <a:pt x="15528" y="11981"/>
                </a:cubicBezTo>
              </a:path>
              <a:path w="621" h="422">
                <a:moveTo>
                  <a:pt x="15553" y="11782"/>
                </a:moveTo>
                <a:cubicBezTo>
                  <a:pt x="15614" y="11728"/>
                  <a:pt x="15623" y="11718"/>
                  <a:pt x="15701" y="11708"/>
                </a:cubicBezTo>
                <a:cubicBezTo>
                  <a:pt x="15741" y="11848"/>
                  <a:pt x="15746" y="11908"/>
                  <a:pt x="15726" y="12055"/>
                </a:cubicBezTo>
                <a:cubicBezTo>
                  <a:pt x="15726" y="12063"/>
                  <a:pt x="15726" y="12072"/>
                  <a:pt x="15726" y="12080"/>
                </a:cubicBezTo>
                <a:cubicBezTo>
                  <a:pt x="15832" y="12059"/>
                  <a:pt x="15887" y="11984"/>
                  <a:pt x="15974" y="11931"/>
                </a:cubicBezTo>
                <a:cubicBezTo>
                  <a:pt x="15982" y="11931"/>
                  <a:pt x="15991" y="11931"/>
                  <a:pt x="15999" y="11931"/>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89" name=""/>
          <p:cNvSpPr/>
          <p:nvPr/>
        </p:nvSpPr>
        <p:spPr>
          <a:xfrm>
            <a:off x="5946840" y="4241880"/>
            <a:ext cx="189000" cy="561960"/>
          </a:xfrm>
          <a:custGeom>
            <a:avLst/>
            <a:gdLst/>
            <a:ahLst/>
            <a:rect l="l" t="t" r="r" b="b"/>
            <a:pathLst>
              <a:path w="522" h="1564">
                <a:moveTo>
                  <a:pt x="16520" y="12105"/>
                </a:moveTo>
                <a:cubicBezTo>
                  <a:pt x="16588" y="12061"/>
                  <a:pt x="16646" y="12033"/>
                  <a:pt x="16718" y="12005"/>
                </a:cubicBezTo>
                <a:cubicBezTo>
                  <a:pt x="16735" y="11997"/>
                  <a:pt x="16751" y="11989"/>
                  <a:pt x="16768" y="11981"/>
                </a:cubicBezTo>
              </a:path>
              <a:path w="522" h="1564">
                <a:moveTo>
                  <a:pt x="16867" y="11782"/>
                </a:moveTo>
                <a:cubicBezTo>
                  <a:pt x="16933" y="11831"/>
                  <a:pt x="16953" y="11965"/>
                  <a:pt x="16991" y="12055"/>
                </a:cubicBezTo>
                <a:cubicBezTo>
                  <a:pt x="17014" y="12110"/>
                  <a:pt x="17026" y="12125"/>
                  <a:pt x="17041" y="12080"/>
                </a:cubicBezTo>
              </a:path>
              <a:path w="522" h="1564">
                <a:moveTo>
                  <a:pt x="16867" y="12923"/>
                </a:moveTo>
                <a:cubicBezTo>
                  <a:pt x="16848" y="12867"/>
                  <a:pt x="16768" y="12888"/>
                  <a:pt x="16768" y="12973"/>
                </a:cubicBezTo>
                <a:cubicBezTo>
                  <a:pt x="16768" y="13183"/>
                  <a:pt x="16925" y="12938"/>
                  <a:pt x="16942" y="12898"/>
                </a:cubicBezTo>
                <a:cubicBezTo>
                  <a:pt x="16803" y="12841"/>
                  <a:pt x="16775" y="12897"/>
                  <a:pt x="16743" y="13022"/>
                </a:cubicBezTo>
                <a:cubicBezTo>
                  <a:pt x="16828" y="13014"/>
                  <a:pt x="16906" y="12946"/>
                  <a:pt x="16768" y="13022"/>
                </a:cubicBezTo>
              </a:path>
              <a:path w="522" h="1564">
                <a:moveTo>
                  <a:pt x="16917" y="13171"/>
                </a:moveTo>
                <a:cubicBezTo>
                  <a:pt x="16917" y="13224"/>
                  <a:pt x="16937" y="13268"/>
                  <a:pt x="16942" y="13320"/>
                </a:cubicBezTo>
                <a:cubicBezTo>
                  <a:pt x="16942" y="13328"/>
                  <a:pt x="16942" y="13337"/>
                  <a:pt x="16942" y="13345"/>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90" name=""/>
          <p:cNvSpPr/>
          <p:nvPr/>
        </p:nvSpPr>
        <p:spPr>
          <a:xfrm>
            <a:off x="6419880" y="4106880"/>
            <a:ext cx="117360" cy="152280"/>
          </a:xfrm>
          <a:custGeom>
            <a:avLst/>
            <a:gdLst/>
            <a:ahLst/>
            <a:rect l="l" t="t" r="r" b="b"/>
            <a:pathLst>
              <a:path w="323" h="423">
                <a:moveTo>
                  <a:pt x="18157" y="11584"/>
                </a:moveTo>
                <a:cubicBezTo>
                  <a:pt x="18157" y="11530"/>
                  <a:pt x="18152" y="11508"/>
                  <a:pt x="18107" y="11485"/>
                </a:cubicBezTo>
                <a:cubicBezTo>
                  <a:pt x="18039" y="11451"/>
                  <a:pt x="17940" y="11436"/>
                  <a:pt x="17884" y="11509"/>
                </a:cubicBezTo>
                <a:cubicBezTo>
                  <a:pt x="17844" y="11562"/>
                  <a:pt x="17811" y="11722"/>
                  <a:pt x="17835" y="11782"/>
                </a:cubicBezTo>
                <a:cubicBezTo>
                  <a:pt x="17843" y="11790"/>
                  <a:pt x="17851" y="11799"/>
                  <a:pt x="17859" y="11807"/>
                </a:cubicBezTo>
                <a:cubicBezTo>
                  <a:pt x="17981" y="11816"/>
                  <a:pt x="18108" y="11779"/>
                  <a:pt x="18157" y="11633"/>
                </a:cubicBezTo>
                <a:cubicBezTo>
                  <a:pt x="18174" y="11582"/>
                  <a:pt x="18163" y="11477"/>
                  <a:pt x="18132" y="11460"/>
                </a:cubicBezTo>
                <a:cubicBezTo>
                  <a:pt x="18099" y="11442"/>
                  <a:pt x="18003" y="11378"/>
                  <a:pt x="17959" y="11410"/>
                </a:cubicBezTo>
                <a:cubicBezTo>
                  <a:pt x="17959" y="11418"/>
                  <a:pt x="17959" y="11427"/>
                  <a:pt x="17959" y="11435"/>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91" name=""/>
          <p:cNvSpPr/>
          <p:nvPr/>
        </p:nvSpPr>
        <p:spPr>
          <a:xfrm>
            <a:off x="6875640" y="4232160"/>
            <a:ext cx="36360" cy="125640"/>
          </a:xfrm>
          <a:custGeom>
            <a:avLst/>
            <a:gdLst/>
            <a:ahLst/>
            <a:rect l="l" t="t" r="r" b="b"/>
            <a:pathLst>
              <a:path w="100" h="349">
                <a:moveTo>
                  <a:pt x="19100" y="11757"/>
                </a:moveTo>
                <a:cubicBezTo>
                  <a:pt x="19121" y="11846"/>
                  <a:pt x="19145" y="11960"/>
                  <a:pt x="19174" y="12055"/>
                </a:cubicBezTo>
                <a:cubicBezTo>
                  <a:pt x="19182" y="12072"/>
                  <a:pt x="19191" y="12088"/>
                  <a:pt x="19199" y="12105"/>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92" name=""/>
          <p:cNvSpPr/>
          <p:nvPr/>
        </p:nvSpPr>
        <p:spPr>
          <a:xfrm>
            <a:off x="7296120" y="4241880"/>
            <a:ext cx="115920" cy="133200"/>
          </a:xfrm>
          <a:custGeom>
            <a:avLst/>
            <a:gdLst/>
            <a:ahLst/>
            <a:rect l="l" t="t" r="r" b="b"/>
            <a:pathLst>
              <a:path w="324" h="373">
                <a:moveTo>
                  <a:pt x="20265" y="11857"/>
                </a:moveTo>
                <a:cubicBezTo>
                  <a:pt x="20331" y="11832"/>
                  <a:pt x="20400" y="11800"/>
                  <a:pt x="20464" y="11782"/>
                </a:cubicBezTo>
                <a:cubicBezTo>
                  <a:pt x="20441" y="11951"/>
                  <a:pt x="20385" y="12020"/>
                  <a:pt x="20290" y="12154"/>
                </a:cubicBezTo>
                <a:cubicBezTo>
                  <a:pt x="20394" y="12138"/>
                  <a:pt x="20482" y="12095"/>
                  <a:pt x="20588" y="12080"/>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93" name=""/>
          <p:cNvSpPr/>
          <p:nvPr/>
        </p:nvSpPr>
        <p:spPr>
          <a:xfrm>
            <a:off x="7697880" y="4098960"/>
            <a:ext cx="1419120" cy="1231920"/>
          </a:xfrm>
          <a:custGeom>
            <a:avLst/>
            <a:gdLst/>
            <a:ahLst/>
            <a:rect l="l" t="t" r="r" b="b"/>
            <a:pathLst>
              <a:path w="3945" h="3424">
                <a:moveTo>
                  <a:pt x="21853" y="11410"/>
                </a:moveTo>
                <a:cubicBezTo>
                  <a:pt x="21881" y="11410"/>
                  <a:pt x="21892" y="11408"/>
                  <a:pt x="21903" y="11385"/>
                </a:cubicBezTo>
                <a:cubicBezTo>
                  <a:pt x="21985" y="11505"/>
                  <a:pt x="22100" y="11613"/>
                  <a:pt x="22175" y="11733"/>
                </a:cubicBezTo>
                <a:cubicBezTo>
                  <a:pt x="22175" y="11757"/>
                  <a:pt x="22175" y="11765"/>
                  <a:pt x="22200" y="11757"/>
                </a:cubicBezTo>
              </a:path>
              <a:path w="3945" h="3424">
                <a:moveTo>
                  <a:pt x="22225" y="11385"/>
                </a:moveTo>
                <a:cubicBezTo>
                  <a:pt x="22154" y="11493"/>
                  <a:pt x="22004" y="11607"/>
                  <a:pt x="21903" y="11708"/>
                </a:cubicBezTo>
                <a:cubicBezTo>
                  <a:pt x="21881" y="11730"/>
                  <a:pt x="21872" y="11735"/>
                  <a:pt x="21878" y="11757"/>
                </a:cubicBezTo>
              </a:path>
              <a:path w="3945" h="3424">
                <a:moveTo>
                  <a:pt x="21382" y="11782"/>
                </a:moveTo>
                <a:cubicBezTo>
                  <a:pt x="21430" y="11768"/>
                  <a:pt x="21604" y="11675"/>
                  <a:pt x="21654" y="11733"/>
                </a:cubicBezTo>
                <a:cubicBezTo>
                  <a:pt x="21746" y="11839"/>
                  <a:pt x="21595" y="11927"/>
                  <a:pt x="21530" y="11981"/>
                </a:cubicBezTo>
                <a:cubicBezTo>
                  <a:pt x="21591" y="11954"/>
                  <a:pt x="21638" y="11938"/>
                  <a:pt x="21704" y="11931"/>
                </a:cubicBezTo>
                <a:cubicBezTo>
                  <a:pt x="21731" y="12052"/>
                  <a:pt x="21672" y="12117"/>
                  <a:pt x="21555" y="12179"/>
                </a:cubicBezTo>
                <a:cubicBezTo>
                  <a:pt x="21547" y="12179"/>
                  <a:pt x="21538" y="12179"/>
                  <a:pt x="21530" y="12179"/>
                </a:cubicBezTo>
              </a:path>
              <a:path w="3945" h="3424">
                <a:moveTo>
                  <a:pt x="22399" y="12824"/>
                </a:moveTo>
                <a:cubicBezTo>
                  <a:pt x="22463" y="12800"/>
                  <a:pt x="22504" y="12799"/>
                  <a:pt x="22572" y="12799"/>
                </a:cubicBezTo>
              </a:path>
              <a:path w="3945" h="3424">
                <a:moveTo>
                  <a:pt x="22671" y="12626"/>
                </a:moveTo>
                <a:cubicBezTo>
                  <a:pt x="22671" y="12729"/>
                  <a:pt x="22672" y="12822"/>
                  <a:pt x="22647" y="12923"/>
                </a:cubicBezTo>
                <a:cubicBezTo>
                  <a:pt x="22625" y="12990"/>
                  <a:pt x="22609" y="13019"/>
                  <a:pt x="22671" y="12973"/>
                </a:cubicBezTo>
              </a:path>
              <a:path w="3945" h="3424">
                <a:moveTo>
                  <a:pt x="22870" y="12973"/>
                </a:moveTo>
                <a:cubicBezTo>
                  <a:pt x="22853" y="13034"/>
                  <a:pt x="22845" y="13061"/>
                  <a:pt x="22845" y="13122"/>
                </a:cubicBezTo>
              </a:path>
              <a:path w="3945" h="3424">
                <a:moveTo>
                  <a:pt x="23068" y="12601"/>
                </a:moveTo>
                <a:cubicBezTo>
                  <a:pt x="23035" y="12709"/>
                  <a:pt x="23017" y="12776"/>
                  <a:pt x="23044" y="12874"/>
                </a:cubicBezTo>
                <a:cubicBezTo>
                  <a:pt x="23044" y="12882"/>
                  <a:pt x="23044" y="12890"/>
                  <a:pt x="23044" y="12898"/>
                </a:cubicBezTo>
              </a:path>
              <a:path w="3945" h="3424">
                <a:moveTo>
                  <a:pt x="21729" y="13519"/>
                </a:moveTo>
                <a:cubicBezTo>
                  <a:pt x="21729" y="13675"/>
                  <a:pt x="21711" y="13813"/>
                  <a:pt x="21679" y="13965"/>
                </a:cubicBezTo>
              </a:path>
              <a:path w="3945" h="3424">
                <a:moveTo>
                  <a:pt x="21605" y="13494"/>
                </a:moveTo>
                <a:cubicBezTo>
                  <a:pt x="21726" y="13482"/>
                  <a:pt x="21990" y="13430"/>
                  <a:pt x="21903" y="13643"/>
                </a:cubicBezTo>
                <a:cubicBezTo>
                  <a:pt x="21873" y="13716"/>
                  <a:pt x="21844" y="13729"/>
                  <a:pt x="21779" y="13742"/>
                </a:cubicBezTo>
                <a:cubicBezTo>
                  <a:pt x="21875" y="13742"/>
                  <a:pt x="22042" y="13721"/>
                  <a:pt x="21977" y="13866"/>
                </a:cubicBezTo>
                <a:cubicBezTo>
                  <a:pt x="21929" y="13973"/>
                  <a:pt x="21731" y="14093"/>
                  <a:pt x="21630" y="13990"/>
                </a:cubicBezTo>
                <a:cubicBezTo>
                  <a:pt x="21630" y="13982"/>
                  <a:pt x="21630" y="13973"/>
                  <a:pt x="21630" y="13965"/>
                </a:cubicBezTo>
              </a:path>
              <a:path w="3945" h="3424">
                <a:moveTo>
                  <a:pt x="22324" y="13444"/>
                </a:moveTo>
                <a:cubicBezTo>
                  <a:pt x="22286" y="13637"/>
                  <a:pt x="22179" y="13815"/>
                  <a:pt x="22175" y="14015"/>
                </a:cubicBezTo>
                <a:cubicBezTo>
                  <a:pt x="22173" y="14098"/>
                  <a:pt x="22192" y="14160"/>
                  <a:pt x="22250" y="14188"/>
                </a:cubicBezTo>
              </a:path>
              <a:path w="3945" h="3424">
                <a:moveTo>
                  <a:pt x="22448" y="13841"/>
                </a:moveTo>
                <a:cubicBezTo>
                  <a:pt x="22527" y="13841"/>
                  <a:pt x="22594" y="13827"/>
                  <a:pt x="22671" y="13816"/>
                </a:cubicBezTo>
              </a:path>
              <a:path w="3945" h="3424">
                <a:moveTo>
                  <a:pt x="22746" y="13593"/>
                </a:moveTo>
                <a:cubicBezTo>
                  <a:pt x="22804" y="13593"/>
                  <a:pt x="22862" y="13593"/>
                  <a:pt x="22920" y="13593"/>
                </a:cubicBezTo>
                <a:cubicBezTo>
                  <a:pt x="22910" y="13708"/>
                  <a:pt x="22906" y="13761"/>
                  <a:pt x="22796" y="13816"/>
                </a:cubicBezTo>
                <a:cubicBezTo>
                  <a:pt x="22900" y="13816"/>
                  <a:pt x="22954" y="13874"/>
                  <a:pt x="22870" y="13990"/>
                </a:cubicBezTo>
                <a:cubicBezTo>
                  <a:pt x="22804" y="14081"/>
                  <a:pt x="22707" y="14053"/>
                  <a:pt x="22622" y="14039"/>
                </a:cubicBezTo>
              </a:path>
              <a:path w="3945" h="3424">
                <a:moveTo>
                  <a:pt x="23093" y="14039"/>
                </a:moveTo>
                <a:cubicBezTo>
                  <a:pt x="23093" y="14113"/>
                  <a:pt x="23093" y="14188"/>
                  <a:pt x="23093" y="14114"/>
                </a:cubicBezTo>
              </a:path>
              <a:path w="3945" h="3424">
                <a:moveTo>
                  <a:pt x="23292" y="13667"/>
                </a:moveTo>
                <a:cubicBezTo>
                  <a:pt x="23309" y="13766"/>
                  <a:pt x="23316" y="14065"/>
                  <a:pt x="23316" y="13965"/>
                </a:cubicBezTo>
                <a:cubicBezTo>
                  <a:pt x="23316" y="13957"/>
                  <a:pt x="23316" y="13948"/>
                  <a:pt x="23316" y="13940"/>
                </a:cubicBezTo>
              </a:path>
              <a:path w="3945" h="3424">
                <a:moveTo>
                  <a:pt x="23738" y="12626"/>
                </a:moveTo>
                <a:cubicBezTo>
                  <a:pt x="23738" y="12498"/>
                  <a:pt x="23740" y="12709"/>
                  <a:pt x="23738" y="12725"/>
                </a:cubicBezTo>
                <a:cubicBezTo>
                  <a:pt x="23737" y="12733"/>
                  <a:pt x="23701" y="13050"/>
                  <a:pt x="23664" y="12973"/>
                </a:cubicBezTo>
                <a:cubicBezTo>
                  <a:pt x="23675" y="12775"/>
                  <a:pt x="23713" y="12670"/>
                  <a:pt x="23812" y="12502"/>
                </a:cubicBezTo>
                <a:cubicBezTo>
                  <a:pt x="23820" y="12485"/>
                  <a:pt x="23829" y="12469"/>
                  <a:pt x="23837" y="12452"/>
                </a:cubicBezTo>
                <a:cubicBezTo>
                  <a:pt x="23997" y="12510"/>
                  <a:pt x="24003" y="12646"/>
                  <a:pt x="24011" y="12824"/>
                </a:cubicBezTo>
                <a:cubicBezTo>
                  <a:pt x="24011" y="12907"/>
                  <a:pt x="24011" y="12923"/>
                  <a:pt x="24011" y="12973"/>
                </a:cubicBezTo>
              </a:path>
              <a:path w="3945" h="3424">
                <a:moveTo>
                  <a:pt x="24085" y="13519"/>
                </a:moveTo>
                <a:cubicBezTo>
                  <a:pt x="24057" y="13617"/>
                  <a:pt x="24035" y="13716"/>
                  <a:pt x="24011" y="13816"/>
                </a:cubicBezTo>
              </a:path>
              <a:path w="3945" h="3424">
                <a:moveTo>
                  <a:pt x="23862" y="13519"/>
                </a:moveTo>
                <a:cubicBezTo>
                  <a:pt x="23944" y="13490"/>
                  <a:pt x="24213" y="13360"/>
                  <a:pt x="24085" y="13568"/>
                </a:cubicBezTo>
                <a:cubicBezTo>
                  <a:pt x="24069" y="13585"/>
                  <a:pt x="24052" y="13601"/>
                  <a:pt x="24036" y="13618"/>
                </a:cubicBezTo>
                <a:cubicBezTo>
                  <a:pt x="24110" y="13627"/>
                  <a:pt x="24204" y="13640"/>
                  <a:pt x="24135" y="13742"/>
                </a:cubicBezTo>
                <a:cubicBezTo>
                  <a:pt x="24077" y="13827"/>
                  <a:pt x="24026" y="13831"/>
                  <a:pt x="23937" y="13841"/>
                </a:cubicBezTo>
              </a:path>
              <a:path w="3945" h="3424">
                <a:moveTo>
                  <a:pt x="24482" y="13519"/>
                </a:moveTo>
                <a:cubicBezTo>
                  <a:pt x="24550" y="13519"/>
                  <a:pt x="24585" y="13509"/>
                  <a:pt x="24656" y="13494"/>
                </a:cubicBezTo>
              </a:path>
              <a:path w="3945" h="3424">
                <a:moveTo>
                  <a:pt x="24730" y="13320"/>
                </a:moveTo>
                <a:cubicBezTo>
                  <a:pt x="24780" y="13295"/>
                  <a:pt x="24796" y="13287"/>
                  <a:pt x="24829" y="13320"/>
                </a:cubicBezTo>
                <a:cubicBezTo>
                  <a:pt x="24792" y="13389"/>
                  <a:pt x="24766" y="13424"/>
                  <a:pt x="24705" y="13469"/>
                </a:cubicBezTo>
                <a:cubicBezTo>
                  <a:pt x="24773" y="13496"/>
                  <a:pt x="24842" y="13550"/>
                  <a:pt x="24805" y="13643"/>
                </a:cubicBezTo>
                <a:cubicBezTo>
                  <a:pt x="24784" y="13696"/>
                  <a:pt x="24681" y="13737"/>
                  <a:pt x="24631" y="13742"/>
                </a:cubicBezTo>
                <a:cubicBezTo>
                  <a:pt x="24623" y="13742"/>
                  <a:pt x="24614" y="13742"/>
                  <a:pt x="24606" y="13742"/>
                </a:cubicBezTo>
              </a:path>
              <a:path w="3945" h="3424">
                <a:moveTo>
                  <a:pt x="24904" y="13767"/>
                </a:moveTo>
                <a:cubicBezTo>
                  <a:pt x="24904" y="13825"/>
                  <a:pt x="24904" y="13833"/>
                  <a:pt x="24904" y="13866"/>
                </a:cubicBezTo>
              </a:path>
              <a:path w="3945" h="3424">
                <a:moveTo>
                  <a:pt x="25226" y="13320"/>
                </a:moveTo>
                <a:cubicBezTo>
                  <a:pt x="25239" y="13422"/>
                  <a:pt x="25234" y="13490"/>
                  <a:pt x="25226" y="13593"/>
                </a:cubicBezTo>
              </a:path>
              <a:path w="3945" h="3424">
                <a:moveTo>
                  <a:pt x="23961" y="14213"/>
                </a:moveTo>
                <a:cubicBezTo>
                  <a:pt x="23887" y="14228"/>
                  <a:pt x="23884" y="14144"/>
                  <a:pt x="23812" y="14114"/>
                </a:cubicBezTo>
                <a:cubicBezTo>
                  <a:pt x="23718" y="14255"/>
                  <a:pt x="23647" y="14435"/>
                  <a:pt x="23713" y="14610"/>
                </a:cubicBezTo>
                <a:cubicBezTo>
                  <a:pt x="23769" y="14758"/>
                  <a:pt x="23884" y="14616"/>
                  <a:pt x="23912" y="14560"/>
                </a:cubicBezTo>
              </a:path>
              <a:path w="3945" h="3424">
                <a:moveTo>
                  <a:pt x="24011" y="14139"/>
                </a:moveTo>
                <a:cubicBezTo>
                  <a:pt x="24011" y="14197"/>
                  <a:pt x="24011" y="14263"/>
                  <a:pt x="24011" y="14263"/>
                </a:cubicBezTo>
              </a:path>
              <a:path w="3945" h="3424">
                <a:moveTo>
                  <a:pt x="24234" y="13171"/>
                </a:moveTo>
                <a:cubicBezTo>
                  <a:pt x="24234" y="13196"/>
                  <a:pt x="24234" y="13204"/>
                  <a:pt x="24234" y="13221"/>
                </a:cubicBezTo>
                <a:cubicBezTo>
                  <a:pt x="24270" y="13233"/>
                  <a:pt x="24255" y="13258"/>
                  <a:pt x="24284" y="13295"/>
                </a:cubicBezTo>
              </a:path>
              <a:path w="3945" h="3424">
                <a:moveTo>
                  <a:pt x="24408" y="14511"/>
                </a:moveTo>
                <a:cubicBezTo>
                  <a:pt x="24467" y="14499"/>
                  <a:pt x="24498" y="14469"/>
                  <a:pt x="24557" y="14461"/>
                </a:cubicBezTo>
              </a:path>
              <a:path w="3945" h="3424">
                <a:moveTo>
                  <a:pt x="24681" y="14312"/>
                </a:moveTo>
                <a:cubicBezTo>
                  <a:pt x="24652" y="14270"/>
                  <a:pt x="24680" y="14280"/>
                  <a:pt x="24730" y="14238"/>
                </a:cubicBezTo>
                <a:cubicBezTo>
                  <a:pt x="24738" y="14230"/>
                  <a:pt x="24747" y="14221"/>
                  <a:pt x="24755" y="14213"/>
                </a:cubicBezTo>
                <a:cubicBezTo>
                  <a:pt x="24786" y="14320"/>
                  <a:pt x="24738" y="14355"/>
                  <a:pt x="24656" y="14436"/>
                </a:cubicBezTo>
                <a:cubicBezTo>
                  <a:pt x="24708" y="14476"/>
                  <a:pt x="24784" y="14491"/>
                  <a:pt x="24755" y="14585"/>
                </a:cubicBezTo>
                <a:cubicBezTo>
                  <a:pt x="24714" y="14718"/>
                  <a:pt x="24584" y="14718"/>
                  <a:pt x="24482" y="14684"/>
                </a:cubicBezTo>
              </a:path>
              <a:path w="3945" h="3424">
                <a:moveTo>
                  <a:pt x="24879" y="14585"/>
                </a:moveTo>
                <a:cubicBezTo>
                  <a:pt x="24880" y="14592"/>
                  <a:pt x="24879" y="14849"/>
                  <a:pt x="24879" y="14784"/>
                </a:cubicBezTo>
              </a:path>
              <a:path w="3945" h="3424">
                <a:moveTo>
                  <a:pt x="25127" y="14188"/>
                </a:moveTo>
                <a:cubicBezTo>
                  <a:pt x="25207" y="14169"/>
                  <a:pt x="25319" y="14136"/>
                  <a:pt x="25251" y="14263"/>
                </a:cubicBezTo>
                <a:cubicBezTo>
                  <a:pt x="25229" y="14285"/>
                  <a:pt x="25220" y="14290"/>
                  <a:pt x="25226" y="14312"/>
                </a:cubicBezTo>
                <a:cubicBezTo>
                  <a:pt x="25328" y="14353"/>
                  <a:pt x="25343" y="14420"/>
                  <a:pt x="25276" y="14511"/>
                </a:cubicBezTo>
                <a:cubicBezTo>
                  <a:pt x="25219" y="14588"/>
                  <a:pt x="25170" y="14611"/>
                  <a:pt x="25102" y="14560"/>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94" name=""/>
          <p:cNvSpPr/>
          <p:nvPr/>
        </p:nvSpPr>
        <p:spPr>
          <a:xfrm>
            <a:off x="7939080" y="5197320"/>
            <a:ext cx="1197000" cy="561960"/>
          </a:xfrm>
          <a:custGeom>
            <a:avLst/>
            <a:gdLst/>
            <a:ahLst/>
            <a:rect l="l" t="t" r="r" b="b"/>
            <a:pathLst>
              <a:path w="3325" h="1564">
                <a:moveTo>
                  <a:pt x="22275" y="14436"/>
                </a:moveTo>
                <a:cubicBezTo>
                  <a:pt x="22169" y="14620"/>
                  <a:pt x="21969" y="14926"/>
                  <a:pt x="22051" y="15156"/>
                </a:cubicBezTo>
                <a:cubicBezTo>
                  <a:pt x="22129" y="15207"/>
                  <a:pt x="22159" y="15223"/>
                  <a:pt x="22225" y="15180"/>
                </a:cubicBezTo>
              </a:path>
              <a:path w="3325" h="1564">
                <a:moveTo>
                  <a:pt x="24160" y="15180"/>
                </a:moveTo>
                <a:cubicBezTo>
                  <a:pt x="24179" y="15238"/>
                  <a:pt x="24188" y="15245"/>
                  <a:pt x="24185" y="15280"/>
                </a:cubicBezTo>
              </a:path>
              <a:path w="3325" h="1564">
                <a:moveTo>
                  <a:pt x="24185" y="15280"/>
                </a:moveTo>
                <a:lnTo>
                  <a:pt x="24185" y="15280"/>
                </a:lnTo>
              </a:path>
              <a:path w="3325" h="1564">
                <a:moveTo>
                  <a:pt x="24978" y="15726"/>
                </a:moveTo>
                <a:cubicBezTo>
                  <a:pt x="24955" y="15766"/>
                  <a:pt x="24940" y="15806"/>
                  <a:pt x="24929" y="15850"/>
                </a:cubicBezTo>
              </a:path>
              <a:path w="3325" h="1564">
                <a:moveTo>
                  <a:pt x="25326" y="14957"/>
                </a:moveTo>
                <a:cubicBezTo>
                  <a:pt x="25337" y="15672"/>
                  <a:pt x="25678" y="16171"/>
                  <a:pt x="25202" y="15949"/>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95" name=""/>
          <p:cNvSpPr/>
          <p:nvPr/>
        </p:nvSpPr>
        <p:spPr>
          <a:xfrm>
            <a:off x="6545160" y="4518000"/>
            <a:ext cx="135000" cy="635040"/>
          </a:xfrm>
          <a:custGeom>
            <a:avLst/>
            <a:gdLst/>
            <a:ahLst/>
            <a:rect l="l" t="t" r="r" b="b"/>
            <a:pathLst>
              <a:path w="373" h="1762">
                <a:moveTo>
                  <a:pt x="18182" y="12898"/>
                </a:moveTo>
                <a:cubicBezTo>
                  <a:pt x="18249" y="12898"/>
                  <a:pt x="18252" y="12851"/>
                  <a:pt x="18306" y="12824"/>
                </a:cubicBezTo>
                <a:cubicBezTo>
                  <a:pt x="18331" y="12824"/>
                  <a:pt x="18339" y="12824"/>
                  <a:pt x="18355" y="12824"/>
                </a:cubicBezTo>
              </a:path>
              <a:path w="373" h="1762">
                <a:moveTo>
                  <a:pt x="18479" y="12551"/>
                </a:moveTo>
                <a:cubicBezTo>
                  <a:pt x="18479" y="12644"/>
                  <a:pt x="18498" y="12736"/>
                  <a:pt x="18529" y="12824"/>
                </a:cubicBezTo>
                <a:cubicBezTo>
                  <a:pt x="18553" y="12872"/>
                  <a:pt x="18561" y="12886"/>
                  <a:pt x="18554" y="12923"/>
                </a:cubicBezTo>
              </a:path>
              <a:path w="373" h="1762">
                <a:moveTo>
                  <a:pt x="18182" y="14312"/>
                </a:moveTo>
                <a:cubicBezTo>
                  <a:pt x="18248" y="14299"/>
                  <a:pt x="18310" y="14249"/>
                  <a:pt x="18355" y="14213"/>
                </a:cubicBezTo>
                <a:cubicBezTo>
                  <a:pt x="18372" y="14196"/>
                  <a:pt x="18388" y="14180"/>
                  <a:pt x="18405" y="14163"/>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96" name=""/>
          <p:cNvSpPr/>
          <p:nvPr/>
        </p:nvSpPr>
        <p:spPr>
          <a:xfrm>
            <a:off x="6634080" y="5037120"/>
            <a:ext cx="108000" cy="115920"/>
          </a:xfrm>
          <a:custGeom>
            <a:avLst/>
            <a:gdLst/>
            <a:ahLst/>
            <a:rect l="l" t="t" r="r" b="b"/>
            <a:pathLst>
              <a:path w="299" h="323">
                <a:moveTo>
                  <a:pt x="18430" y="14039"/>
                </a:moveTo>
                <a:cubicBezTo>
                  <a:pt x="18473" y="14029"/>
                  <a:pt x="18506" y="14000"/>
                  <a:pt x="18554" y="13990"/>
                </a:cubicBezTo>
                <a:cubicBezTo>
                  <a:pt x="18575" y="14106"/>
                  <a:pt x="18540" y="14181"/>
                  <a:pt x="18504" y="14288"/>
                </a:cubicBezTo>
                <a:cubicBezTo>
                  <a:pt x="18504" y="14296"/>
                  <a:pt x="18504" y="14304"/>
                  <a:pt x="18504" y="14312"/>
                </a:cubicBezTo>
                <a:cubicBezTo>
                  <a:pt x="18583" y="14286"/>
                  <a:pt x="18624" y="14225"/>
                  <a:pt x="18703" y="14213"/>
                </a:cubicBezTo>
                <a:cubicBezTo>
                  <a:pt x="18711" y="14213"/>
                  <a:pt x="18720" y="14213"/>
                  <a:pt x="18728" y="14213"/>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97" name=""/>
          <p:cNvSpPr/>
          <p:nvPr/>
        </p:nvSpPr>
        <p:spPr>
          <a:xfrm>
            <a:off x="8045280" y="5224320"/>
            <a:ext cx="357480" cy="490680"/>
          </a:xfrm>
          <a:custGeom>
            <a:avLst/>
            <a:gdLst/>
            <a:ahLst/>
            <a:rect l="l" t="t" r="r" b="b"/>
            <a:pathLst>
              <a:path w="993" h="1365">
                <a:moveTo>
                  <a:pt x="22349" y="14759"/>
                </a:moveTo>
                <a:cubicBezTo>
                  <a:pt x="22424" y="14759"/>
                  <a:pt x="22474" y="14752"/>
                  <a:pt x="22547" y="14734"/>
                </a:cubicBezTo>
              </a:path>
              <a:path w="993" h="1365">
                <a:moveTo>
                  <a:pt x="22622" y="14536"/>
                </a:moveTo>
                <a:cubicBezTo>
                  <a:pt x="22717" y="14524"/>
                  <a:pt x="22933" y="14517"/>
                  <a:pt x="22796" y="14684"/>
                </a:cubicBezTo>
                <a:cubicBezTo>
                  <a:pt x="22771" y="14701"/>
                  <a:pt x="22746" y="14717"/>
                  <a:pt x="22721" y="14734"/>
                </a:cubicBezTo>
                <a:cubicBezTo>
                  <a:pt x="22721" y="14734"/>
                  <a:pt x="22820" y="14767"/>
                  <a:pt x="22796" y="14833"/>
                </a:cubicBezTo>
                <a:cubicBezTo>
                  <a:pt x="22751" y="14959"/>
                  <a:pt x="22562" y="14947"/>
                  <a:pt x="22547" y="14908"/>
                </a:cubicBezTo>
              </a:path>
              <a:path w="993" h="1365">
                <a:moveTo>
                  <a:pt x="22920" y="14982"/>
                </a:moveTo>
                <a:cubicBezTo>
                  <a:pt x="22920" y="15056"/>
                  <a:pt x="22920" y="15065"/>
                  <a:pt x="22920" y="15106"/>
                </a:cubicBezTo>
              </a:path>
              <a:path w="993" h="1365">
                <a:moveTo>
                  <a:pt x="23168" y="14585"/>
                </a:moveTo>
                <a:cubicBezTo>
                  <a:pt x="23202" y="14539"/>
                  <a:pt x="23326" y="14496"/>
                  <a:pt x="23316" y="14610"/>
                </a:cubicBezTo>
                <a:cubicBezTo>
                  <a:pt x="23291" y="14688"/>
                  <a:pt x="23279" y="14715"/>
                  <a:pt x="23217" y="14734"/>
                </a:cubicBezTo>
                <a:cubicBezTo>
                  <a:pt x="23089" y="14734"/>
                  <a:pt x="23312" y="14693"/>
                  <a:pt x="23341" y="14734"/>
                </a:cubicBezTo>
                <a:cubicBezTo>
                  <a:pt x="23399" y="14816"/>
                  <a:pt x="23225" y="14986"/>
                  <a:pt x="23143" y="14932"/>
                </a:cubicBezTo>
                <a:cubicBezTo>
                  <a:pt x="23143" y="14916"/>
                  <a:pt x="23143" y="14899"/>
                  <a:pt x="23143" y="14883"/>
                </a:cubicBezTo>
              </a:path>
              <a:path w="993" h="1365">
                <a:moveTo>
                  <a:pt x="23093" y="15602"/>
                </a:moveTo>
                <a:cubicBezTo>
                  <a:pt x="23093" y="15577"/>
                  <a:pt x="23093" y="15569"/>
                  <a:pt x="23068" y="15577"/>
                </a:cubicBezTo>
                <a:cubicBezTo>
                  <a:pt x="23068" y="15509"/>
                  <a:pt x="23096" y="15524"/>
                  <a:pt x="23168" y="15478"/>
                </a:cubicBezTo>
                <a:cubicBezTo>
                  <a:pt x="23224" y="15441"/>
                  <a:pt x="23228" y="15424"/>
                  <a:pt x="23267" y="15429"/>
                </a:cubicBezTo>
                <a:cubicBezTo>
                  <a:pt x="23277" y="15560"/>
                  <a:pt x="23268" y="15561"/>
                  <a:pt x="23168" y="15652"/>
                </a:cubicBezTo>
                <a:cubicBezTo>
                  <a:pt x="23168" y="15699"/>
                  <a:pt x="23175" y="15575"/>
                  <a:pt x="23267" y="15627"/>
                </a:cubicBezTo>
                <a:cubicBezTo>
                  <a:pt x="23430" y="15718"/>
                  <a:pt x="23308" y="15870"/>
                  <a:pt x="23168" y="15875"/>
                </a:cubicBezTo>
                <a:cubicBezTo>
                  <a:pt x="23110" y="15856"/>
                  <a:pt x="23085" y="15865"/>
                  <a:pt x="23093" y="15825"/>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98" name=""/>
          <p:cNvSpPr/>
          <p:nvPr/>
        </p:nvSpPr>
        <p:spPr>
          <a:xfrm>
            <a:off x="8572680" y="5419800"/>
            <a:ext cx="544320" cy="304560"/>
          </a:xfrm>
          <a:custGeom>
            <a:avLst/>
            <a:gdLst/>
            <a:ahLst/>
            <a:rect l="l" t="t" r="r" b="b"/>
            <a:pathLst>
              <a:path w="1515" h="845">
                <a:moveTo>
                  <a:pt x="23812" y="15304"/>
                </a:moveTo>
                <a:cubicBezTo>
                  <a:pt x="24069" y="15280"/>
                  <a:pt x="24119" y="15272"/>
                  <a:pt x="24061" y="15528"/>
                </a:cubicBezTo>
                <a:cubicBezTo>
                  <a:pt x="24060" y="15533"/>
                  <a:pt x="23958" y="15843"/>
                  <a:pt x="23887" y="15751"/>
                </a:cubicBezTo>
                <a:cubicBezTo>
                  <a:pt x="23887" y="15734"/>
                  <a:pt x="23887" y="15718"/>
                  <a:pt x="23887" y="15701"/>
                </a:cubicBezTo>
              </a:path>
              <a:path w="1515" h="845">
                <a:moveTo>
                  <a:pt x="24036" y="15056"/>
                </a:moveTo>
                <a:cubicBezTo>
                  <a:pt x="24044" y="15130"/>
                  <a:pt x="24072" y="15230"/>
                  <a:pt x="24085" y="15230"/>
                </a:cubicBezTo>
              </a:path>
              <a:path w="1515" h="845">
                <a:moveTo>
                  <a:pt x="24433" y="15180"/>
                </a:moveTo>
                <a:cubicBezTo>
                  <a:pt x="24475" y="15224"/>
                  <a:pt x="24301" y="15442"/>
                  <a:pt x="24284" y="15478"/>
                </a:cubicBezTo>
                <a:cubicBezTo>
                  <a:pt x="24191" y="15676"/>
                  <a:pt x="24183" y="15760"/>
                  <a:pt x="24284" y="15875"/>
                </a:cubicBezTo>
                <a:cubicBezTo>
                  <a:pt x="24284" y="15883"/>
                  <a:pt x="24284" y="15892"/>
                  <a:pt x="24284" y="15900"/>
                </a:cubicBezTo>
              </a:path>
              <a:path w="1515" h="845">
                <a:moveTo>
                  <a:pt x="24433" y="15577"/>
                </a:moveTo>
                <a:cubicBezTo>
                  <a:pt x="24489" y="15577"/>
                  <a:pt x="24529" y="15558"/>
                  <a:pt x="24581" y="15553"/>
                </a:cubicBezTo>
                <a:cubicBezTo>
                  <a:pt x="24589" y="15553"/>
                  <a:pt x="24598" y="15553"/>
                  <a:pt x="24606" y="15553"/>
                </a:cubicBezTo>
              </a:path>
              <a:path w="1515" h="845">
                <a:moveTo>
                  <a:pt x="24755" y="15354"/>
                </a:moveTo>
                <a:cubicBezTo>
                  <a:pt x="24755" y="15346"/>
                  <a:pt x="24755" y="15337"/>
                  <a:pt x="24755" y="15329"/>
                </a:cubicBezTo>
                <a:cubicBezTo>
                  <a:pt x="24785" y="15405"/>
                  <a:pt x="24741" y="15529"/>
                  <a:pt x="24730" y="15627"/>
                </a:cubicBezTo>
                <a:cubicBezTo>
                  <a:pt x="24730" y="15668"/>
                  <a:pt x="24730" y="15676"/>
                  <a:pt x="24730" y="15701"/>
                </a:cubicBezTo>
              </a:path>
              <a:path w="1515" h="845">
                <a:moveTo>
                  <a:pt x="25028" y="15379"/>
                </a:moveTo>
                <a:cubicBezTo>
                  <a:pt x="25081" y="15390"/>
                  <a:pt x="25120" y="15404"/>
                  <a:pt x="25177" y="15404"/>
                </a:cubicBezTo>
              </a:path>
              <a:path w="1515" h="845">
                <a:moveTo>
                  <a:pt x="25152" y="15230"/>
                </a:moveTo>
                <a:cubicBezTo>
                  <a:pt x="25217" y="15208"/>
                  <a:pt x="25392" y="15140"/>
                  <a:pt x="25326" y="15304"/>
                </a:cubicBezTo>
                <a:cubicBezTo>
                  <a:pt x="25306" y="15353"/>
                  <a:pt x="25264" y="15410"/>
                  <a:pt x="25226" y="15429"/>
                </a:cubicBezTo>
                <a:cubicBezTo>
                  <a:pt x="25289" y="15444"/>
                  <a:pt x="25350" y="15499"/>
                  <a:pt x="25326" y="15577"/>
                </a:cubicBezTo>
                <a:cubicBezTo>
                  <a:pt x="25296" y="15674"/>
                  <a:pt x="25219" y="15726"/>
                  <a:pt x="25127" y="15726"/>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99" name=""/>
          <p:cNvSpPr/>
          <p:nvPr/>
        </p:nvSpPr>
        <p:spPr>
          <a:xfrm>
            <a:off x="6589800" y="5545080"/>
            <a:ext cx="152280" cy="152280"/>
          </a:xfrm>
          <a:custGeom>
            <a:avLst/>
            <a:gdLst/>
            <a:ahLst/>
            <a:rect l="l" t="t" r="r" b="b"/>
            <a:pathLst>
              <a:path w="423" h="422">
                <a:moveTo>
                  <a:pt x="18306" y="15751"/>
                </a:moveTo>
                <a:cubicBezTo>
                  <a:pt x="18350" y="15742"/>
                  <a:pt x="18384" y="15732"/>
                  <a:pt x="18430" y="15726"/>
                </a:cubicBezTo>
                <a:cubicBezTo>
                  <a:pt x="18430" y="15698"/>
                  <a:pt x="18432" y="15687"/>
                  <a:pt x="18455" y="15677"/>
                </a:cubicBezTo>
              </a:path>
              <a:path w="423" h="422">
                <a:moveTo>
                  <a:pt x="18479" y="15478"/>
                </a:moveTo>
                <a:cubicBezTo>
                  <a:pt x="18535" y="15443"/>
                  <a:pt x="18567" y="15416"/>
                  <a:pt x="18628" y="15404"/>
                </a:cubicBezTo>
                <a:cubicBezTo>
                  <a:pt x="18658" y="15524"/>
                  <a:pt x="18661" y="15553"/>
                  <a:pt x="18579" y="15652"/>
                </a:cubicBezTo>
                <a:cubicBezTo>
                  <a:pt x="18622" y="15641"/>
                  <a:pt x="18655" y="15612"/>
                  <a:pt x="18703" y="15602"/>
                </a:cubicBezTo>
                <a:cubicBezTo>
                  <a:pt x="18716" y="15667"/>
                  <a:pt x="18735" y="15781"/>
                  <a:pt x="18653" y="15825"/>
                </a:cubicBezTo>
                <a:cubicBezTo>
                  <a:pt x="18628" y="15825"/>
                  <a:pt x="18620" y="15825"/>
                  <a:pt x="18653" y="15825"/>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0" name=""/>
          <p:cNvSpPr/>
          <p:nvPr/>
        </p:nvSpPr>
        <p:spPr>
          <a:xfrm>
            <a:off x="8653320" y="4429080"/>
            <a:ext cx="9720" cy="81000"/>
          </a:xfrm>
          <a:custGeom>
            <a:avLst/>
            <a:gdLst/>
            <a:ahLst/>
            <a:rect l="l" t="t" r="r" b="b"/>
            <a:pathLst>
              <a:path w="26" h="224">
                <a:moveTo>
                  <a:pt x="24061" y="12303"/>
                </a:moveTo>
                <a:cubicBezTo>
                  <a:pt x="24061" y="12386"/>
                  <a:pt x="24052" y="12449"/>
                  <a:pt x="24036" y="12526"/>
                </a:cubicBezTo>
              </a:path>
            </a:pathLst>
          </a:custGeom>
          <a:noFill/>
          <a:ln cap="rnd" w="34920">
            <a:solidFill>
              <a:srgbClr val="eaeaea"/>
            </a:solidFill>
            <a:round/>
          </a:ln>
        </p:spPr>
        <p:style>
          <a:lnRef idx="0"/>
          <a:fillRef idx="0"/>
          <a:effectRef idx="0"/>
          <a:fontRef idx="minor"/>
        </p:style>
        <p:txBody>
          <a:bodyPr lIns="90000" rIns="90000" tIns="34200" bIns="34200" anchor="t">
            <a:noAutofit/>
          </a:bodyPr>
          <a:p>
            <a:endParaRPr b="0" lang="en-US" sz="1800" spc="-1" strike="noStrike">
              <a:solidFill>
                <a:srgbClr val="eaeaea"/>
              </a:solidFill>
              <a:latin typeface="Arial"/>
            </a:endParaRPr>
          </a:p>
        </p:txBody>
      </p:sp>
      <p:sp>
        <p:nvSpPr>
          <p:cNvPr id="301" name=""/>
          <p:cNvSpPr/>
          <p:nvPr/>
        </p:nvSpPr>
        <p:spPr>
          <a:xfrm>
            <a:off x="8732880" y="4438800"/>
            <a:ext cx="189000" cy="268200"/>
          </a:xfrm>
          <a:custGeom>
            <a:avLst/>
            <a:gdLst/>
            <a:ahLst/>
            <a:rect l="l" t="t" r="r" b="b"/>
            <a:pathLst>
              <a:path w="522" h="745">
                <a:moveTo>
                  <a:pt x="24482" y="12353"/>
                </a:moveTo>
                <a:cubicBezTo>
                  <a:pt x="24490" y="12345"/>
                  <a:pt x="24499" y="12336"/>
                  <a:pt x="24507" y="12328"/>
                </a:cubicBezTo>
                <a:cubicBezTo>
                  <a:pt x="24445" y="12515"/>
                  <a:pt x="24303" y="12691"/>
                  <a:pt x="24259" y="12898"/>
                </a:cubicBezTo>
                <a:cubicBezTo>
                  <a:pt x="24235" y="13012"/>
                  <a:pt x="24280" y="13023"/>
                  <a:pt x="24358" y="13072"/>
                </a:cubicBezTo>
              </a:path>
              <a:path w="522" h="745">
                <a:moveTo>
                  <a:pt x="24457" y="12799"/>
                </a:moveTo>
                <a:cubicBezTo>
                  <a:pt x="24527" y="12773"/>
                  <a:pt x="24580" y="12774"/>
                  <a:pt x="24656" y="12774"/>
                </a:cubicBezTo>
              </a:path>
              <a:path w="522" h="745">
                <a:moveTo>
                  <a:pt x="24780" y="12551"/>
                </a:moveTo>
                <a:cubicBezTo>
                  <a:pt x="24769" y="12669"/>
                  <a:pt x="24749" y="12783"/>
                  <a:pt x="24730" y="12898"/>
                </a:cubicBezTo>
                <a:cubicBezTo>
                  <a:pt x="24730" y="12923"/>
                  <a:pt x="24730" y="12931"/>
                  <a:pt x="24755" y="12923"/>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2" name=""/>
          <p:cNvSpPr/>
          <p:nvPr/>
        </p:nvSpPr>
        <p:spPr>
          <a:xfrm>
            <a:off x="8974080" y="4510080"/>
            <a:ext cx="98640" cy="106200"/>
          </a:xfrm>
          <a:custGeom>
            <a:avLst/>
            <a:gdLst/>
            <a:ahLst/>
            <a:rect l="l" t="t" r="r" b="b"/>
            <a:pathLst>
              <a:path w="274" h="299">
                <a:moveTo>
                  <a:pt x="24929" y="12700"/>
                </a:moveTo>
                <a:cubicBezTo>
                  <a:pt x="24987" y="12700"/>
                  <a:pt x="25044" y="12700"/>
                  <a:pt x="25102" y="12700"/>
                </a:cubicBezTo>
              </a:path>
              <a:path w="274" h="299">
                <a:moveTo>
                  <a:pt x="25177" y="12526"/>
                </a:moveTo>
                <a:cubicBezTo>
                  <a:pt x="25195" y="12597"/>
                  <a:pt x="25202" y="12666"/>
                  <a:pt x="25202" y="12750"/>
                </a:cubicBezTo>
                <a:cubicBezTo>
                  <a:pt x="25202" y="12775"/>
                  <a:pt x="25202" y="12799"/>
                  <a:pt x="25202" y="12824"/>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flections</a:t>
            </a:r>
            <a:endParaRPr b="0" lang="en-US" sz="4400" spc="-1" strike="noStrike">
              <a:solidFill>
                <a:srgbClr val="ccecff"/>
              </a:solidFill>
              <a:latin typeface="Arial"/>
            </a:endParaRPr>
          </a:p>
        </p:txBody>
      </p:sp>
      <p:sp>
        <p:nvSpPr>
          <p:cNvPr id="304"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o reflect over the </a:t>
            </a:r>
            <a:r>
              <a:rPr b="1" i="1" lang="en-US" sz="3200" spc="-1" strike="noStrike">
                <a:solidFill>
                  <a:srgbClr val="eaeaea"/>
                </a:solidFill>
                <a:latin typeface="Arial"/>
              </a:rPr>
              <a:t>x-axis</a:t>
            </a:r>
            <a:r>
              <a:rPr b="0" lang="en-US" sz="3200" spc="-1" strike="noStrike">
                <a:solidFill>
                  <a:srgbClr val="eaeaea"/>
                </a:solidFill>
                <a:latin typeface="Arial"/>
              </a:rPr>
              <a:t>, multiply the y-coordinate by -1.</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o reflect over the </a:t>
            </a:r>
            <a:r>
              <a:rPr b="1" i="1" lang="en-US" sz="3200" spc="-1" strike="noStrike">
                <a:solidFill>
                  <a:srgbClr val="eaeaea"/>
                </a:solidFill>
                <a:latin typeface="Arial"/>
              </a:rPr>
              <a:t>y-axis</a:t>
            </a:r>
            <a:r>
              <a:rPr b="0" lang="en-US" sz="3200" spc="-1" strike="noStrike">
                <a:solidFill>
                  <a:srgbClr val="eaeaea"/>
                </a:solidFill>
                <a:latin typeface="Arial"/>
              </a:rPr>
              <a:t>, multiply the x-coordinate by -1.</a:t>
            </a:r>
            <a:endParaRPr b="0" lang="en-US" sz="3200" spc="-1" strike="noStrike">
              <a:solidFill>
                <a:srgbClr val="eaeaea"/>
              </a:solidFill>
              <a:latin typeface="Arial"/>
            </a:endParaRPr>
          </a:p>
        </p:txBody>
      </p:sp>
      <p:sp>
        <p:nvSpPr>
          <p:cNvPr id="305" name=""/>
          <p:cNvSpPr/>
          <p:nvPr/>
        </p:nvSpPr>
        <p:spPr>
          <a:xfrm>
            <a:off x="5776920" y="2170080"/>
            <a:ext cx="1027080" cy="27000"/>
          </a:xfrm>
          <a:custGeom>
            <a:avLst/>
            <a:gdLst/>
            <a:ahLst/>
            <a:rect l="l" t="t" r="r" b="b"/>
            <a:pathLst>
              <a:path w="2853" h="75">
                <a:moveTo>
                  <a:pt x="16049" y="6102"/>
                </a:moveTo>
                <a:cubicBezTo>
                  <a:pt x="16274" y="6102"/>
                  <a:pt x="16495" y="6088"/>
                  <a:pt x="16718" y="6077"/>
                </a:cubicBezTo>
                <a:cubicBezTo>
                  <a:pt x="16952" y="6066"/>
                  <a:pt x="17182" y="6084"/>
                  <a:pt x="17413" y="6077"/>
                </a:cubicBezTo>
                <a:cubicBezTo>
                  <a:pt x="17629" y="6070"/>
                  <a:pt x="17843" y="6056"/>
                  <a:pt x="18058" y="6052"/>
                </a:cubicBezTo>
                <a:cubicBezTo>
                  <a:pt x="18250" y="6048"/>
                  <a:pt x="18435" y="6028"/>
                  <a:pt x="18628" y="6028"/>
                </a:cubicBezTo>
                <a:cubicBezTo>
                  <a:pt x="18719" y="6028"/>
                  <a:pt x="18810" y="6028"/>
                  <a:pt x="18901" y="6028"/>
                </a:cubicBezTo>
              </a:path>
            </a:pathLst>
          </a:custGeom>
          <a:noFill/>
          <a:ln cap="rnd" w="34920">
            <a:solidFill>
              <a:srgbClr val="eaeaea"/>
            </a:solidFill>
            <a:round/>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306" name=""/>
          <p:cNvSpPr/>
          <p:nvPr/>
        </p:nvSpPr>
        <p:spPr>
          <a:xfrm>
            <a:off x="2884320" y="2616120"/>
            <a:ext cx="973440" cy="36720"/>
          </a:xfrm>
          <a:custGeom>
            <a:avLst/>
            <a:gdLst/>
            <a:ahLst/>
            <a:rect l="l" t="t" r="r" b="b"/>
            <a:pathLst>
              <a:path w="2705" h="100">
                <a:moveTo>
                  <a:pt x="8012" y="7367"/>
                </a:moveTo>
                <a:cubicBezTo>
                  <a:pt x="8151" y="7309"/>
                  <a:pt x="8247" y="7295"/>
                  <a:pt x="8409" y="7293"/>
                </a:cubicBezTo>
                <a:cubicBezTo>
                  <a:pt x="8670" y="7289"/>
                  <a:pt x="8917" y="7283"/>
                  <a:pt x="9178" y="7293"/>
                </a:cubicBezTo>
                <a:cubicBezTo>
                  <a:pt x="9535" y="7306"/>
                  <a:pt x="9889" y="7284"/>
                  <a:pt x="10244" y="7268"/>
                </a:cubicBezTo>
                <a:cubicBezTo>
                  <a:pt x="10401" y="7261"/>
                  <a:pt x="10559" y="7268"/>
                  <a:pt x="10716" y="7268"/>
                </a:cubicBezTo>
              </a:path>
            </a:pathLst>
          </a:custGeom>
          <a:noFill/>
          <a:ln cap="rnd" w="34920">
            <a:solidFill>
              <a:srgbClr val="eaeaea"/>
            </a:solidFill>
            <a:round/>
          </a:ln>
        </p:spPr>
        <p:style>
          <a:lnRef idx="0"/>
          <a:fillRef idx="0"/>
          <a:effectRef idx="0"/>
          <a:fontRef idx="minor"/>
        </p:style>
        <p:txBody>
          <a:bodyPr lIns="90000" rIns="90000" tIns="-10080" bIns="-10080" anchor="t">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aphicFrame>
        <p:nvGraphicFramePr>
          <p:cNvPr id="307" name="Object 2"/>
          <p:cNvGraphicFramePr/>
          <p:nvPr/>
        </p:nvGraphicFramePr>
        <p:xfrm>
          <a:off x="0" y="6535800"/>
          <a:ext cx="9144000" cy="322200"/>
        </p:xfrm>
        <a:graphic>
          <a:graphicData uri="http://schemas.openxmlformats.org/presentationml/2006/ole">
            <p:oleObj r:id="rId1" spid="">
              <p:embed/>
              <p:pic>
                <p:nvPicPr>
                  <p:cNvPr id="308" name="Object 2" descr=""/>
                  <p:cNvPicPr/>
                  <p:nvPr/>
                </p:nvPicPr>
                <p:blipFill>
                  <a:blip r:embed="rId2"/>
                  <a:stretch/>
                </p:blipFill>
                <p:spPr>
                  <a:xfrm>
                    <a:off x="0" y="6535800"/>
                    <a:ext cx="9144000" cy="322200"/>
                  </a:xfrm>
                  <a:prstGeom prst="rect">
                    <a:avLst/>
                  </a:prstGeom>
                  <a:ln w="0">
                    <a:noFill/>
                  </a:ln>
                </p:spPr>
              </p:pic>
            </p:oleObj>
          </a:graphicData>
        </a:graphic>
      </p:graphicFrame>
      <p:graphicFrame>
        <p:nvGraphicFramePr>
          <p:cNvPr id="309" name="Object 3"/>
          <p:cNvGraphicFramePr/>
          <p:nvPr/>
        </p:nvGraphicFramePr>
        <p:xfrm>
          <a:off x="0" y="0"/>
          <a:ext cx="9144000" cy="828720"/>
        </p:xfrm>
        <a:graphic>
          <a:graphicData uri="http://schemas.openxmlformats.org/presentationml/2006/ole">
            <p:oleObj r:id="rId3" spid="">
              <p:embed/>
              <p:pic>
                <p:nvPicPr>
                  <p:cNvPr id="310" name="Object 3" descr=""/>
                  <p:cNvPicPr/>
                  <p:nvPr/>
                </p:nvPicPr>
                <p:blipFill>
                  <a:blip r:embed="rId4"/>
                  <a:stretch/>
                </p:blipFill>
                <p:spPr>
                  <a:xfrm>
                    <a:off x="0" y="0"/>
                    <a:ext cx="9144000" cy="828720"/>
                  </a:xfrm>
                  <a:prstGeom prst="rect">
                    <a:avLst/>
                  </a:prstGeom>
                  <a:ln w="0">
                    <a:noFill/>
                  </a:ln>
                </p:spPr>
              </p:pic>
            </p:oleObj>
          </a:graphicData>
        </a:graphic>
      </p:graphicFrame>
      <p:sp>
        <p:nvSpPr>
          <p:cNvPr id="311" name="Text Box 4"/>
          <p:cNvSpPr/>
          <p:nvPr/>
        </p:nvSpPr>
        <p:spPr>
          <a:xfrm>
            <a:off x="254160" y="266760"/>
            <a:ext cx="2197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Arial"/>
              </a:rPr>
              <a:t>EXAMPLE 3</a:t>
            </a:r>
            <a:endParaRPr b="0" lang="en-US" sz="2400" spc="-1" strike="noStrike">
              <a:solidFill>
                <a:srgbClr val="eaeaea"/>
              </a:solidFill>
              <a:latin typeface="Arial"/>
            </a:endParaRPr>
          </a:p>
        </p:txBody>
      </p:sp>
      <p:sp>
        <p:nvSpPr>
          <p:cNvPr id="312" name="Rectangle 5"/>
          <p:cNvSpPr/>
          <p:nvPr/>
        </p:nvSpPr>
        <p:spPr>
          <a:xfrm>
            <a:off x="2470680" y="290520"/>
            <a:ext cx="267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Reflecting a Figure</a:t>
            </a:r>
            <a:endParaRPr b="0" lang="en-US" sz="2400" spc="-1" strike="noStrike">
              <a:solidFill>
                <a:srgbClr val="eaeaea"/>
              </a:solidFill>
              <a:latin typeface="Arial"/>
            </a:endParaRPr>
          </a:p>
        </p:txBody>
      </p:sp>
      <p:grpSp>
        <p:nvGrpSpPr>
          <p:cNvPr id="313" name="Group 6"/>
          <p:cNvGrpSpPr/>
          <p:nvPr/>
        </p:nvGrpSpPr>
        <p:grpSpPr>
          <a:xfrm>
            <a:off x="485640" y="1004760"/>
            <a:ext cx="8077320" cy="1585800"/>
            <a:chOff x="485640" y="1004760"/>
            <a:chExt cx="8077320" cy="1585800"/>
          </a:xfrm>
        </p:grpSpPr>
        <p:sp>
          <p:nvSpPr>
            <p:cNvPr id="314" name="Rectangle 7"/>
            <p:cNvSpPr/>
            <p:nvPr/>
          </p:nvSpPr>
          <p:spPr>
            <a:xfrm>
              <a:off x="485640" y="1033560"/>
              <a:ext cx="80773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Draw parallelogram </a:t>
              </a:r>
              <a:r>
                <a:rPr b="1" i="1" lang="en-US" sz="2400" spc="-1" strike="noStrike">
                  <a:solidFill>
                    <a:srgbClr val="eaeaea"/>
                  </a:solidFill>
                  <a:latin typeface="Arial"/>
                </a:rPr>
                <a:t>ABCD </a:t>
              </a:r>
              <a:r>
                <a:rPr b="1" lang="en-US" sz="2400" spc="-1" strike="noStrike">
                  <a:solidFill>
                    <a:srgbClr val="eaeaea"/>
                  </a:solidFill>
                  <a:latin typeface="Arial"/>
                </a:rPr>
                <a:t>with vertices </a:t>
              </a:r>
              <a:r>
                <a:rPr b="1" i="1" lang="en-US" sz="2400" spc="-1" strike="noStrike">
                  <a:solidFill>
                    <a:srgbClr val="eaeaea"/>
                  </a:solidFill>
                  <a:latin typeface="Arial"/>
                </a:rPr>
                <a:t>A</a:t>
              </a:r>
              <a:r>
                <a:rPr b="1" lang="en-US" sz="2400" spc="-1" strike="noStrike">
                  <a:solidFill>
                    <a:srgbClr val="eaeaea"/>
                  </a:solidFill>
                  <a:latin typeface="Arial"/>
                </a:rPr>
                <a:t>(  </a:t>
              </a:r>
              <a:r>
                <a:rPr b="0" lang="en-US" sz="2400" spc="-1" strike="noStrike">
                  <a:solidFill>
                    <a:srgbClr val="eaeaea"/>
                  </a:solidFill>
                  <a:latin typeface="Times New Roman"/>
                </a:rPr>
                <a:t>3</a:t>
              </a:r>
              <a:r>
                <a:rPr b="1" lang="en-US" sz="2400" spc="-1" strike="noStrike">
                  <a:solidFill>
                    <a:srgbClr val="eaeaea"/>
                  </a:solidFill>
                  <a:latin typeface="Arial"/>
                </a:rPr>
                <a:t>, </a:t>
              </a:r>
              <a:r>
                <a:rPr b="0" lang="en-US" sz="2400" spc="-1" strike="noStrike">
                  <a:solidFill>
                    <a:srgbClr val="eaeaea"/>
                  </a:solidFill>
                  <a:latin typeface="Times New Roman"/>
                </a:rPr>
                <a:t>3</a:t>
              </a:r>
              <a:r>
                <a:rPr b="1" lang="en-US" sz="2400" spc="-1" strike="noStrike">
                  <a:solidFill>
                    <a:srgbClr val="eaeaea"/>
                  </a:solidFill>
                  <a:latin typeface="Arial"/>
                </a:rPr>
                <a:t>),      </a:t>
              </a:r>
              <a:r>
                <a:rPr b="1" i="1" lang="en-US" sz="2400" spc="-1" strike="noStrike">
                  <a:solidFill>
                    <a:srgbClr val="eaeaea"/>
                  </a:solidFill>
                  <a:latin typeface="Arial"/>
                </a:rPr>
                <a:t>B</a:t>
              </a:r>
              <a:r>
                <a:rPr b="1" lang="en-US" sz="2400" spc="-1" strike="noStrike">
                  <a:solidFill>
                    <a:srgbClr val="eaeaea"/>
                  </a:solidFill>
                  <a:latin typeface="Arial"/>
                </a:rPr>
                <a:t>(</a:t>
              </a:r>
              <a:r>
                <a:rPr b="0" lang="en-US" sz="2400" spc="-1" strike="noStrike">
                  <a:solidFill>
                    <a:srgbClr val="eaeaea"/>
                  </a:solidFill>
                  <a:latin typeface="Times New Roman"/>
                </a:rPr>
                <a:t>2</a:t>
              </a:r>
              <a:r>
                <a:rPr b="1" lang="en-US" sz="2400" spc="-1" strike="noStrike">
                  <a:solidFill>
                    <a:srgbClr val="eaeaea"/>
                  </a:solidFill>
                  <a:latin typeface="Arial"/>
                </a:rPr>
                <a:t>, </a:t>
              </a:r>
              <a:r>
                <a:rPr b="0" lang="en-US" sz="2400" spc="-1" strike="noStrike">
                  <a:solidFill>
                    <a:srgbClr val="eaeaea"/>
                  </a:solidFill>
                  <a:latin typeface="Times New Roman"/>
                </a:rPr>
                <a:t>3</a:t>
              </a:r>
              <a:r>
                <a:rPr b="1" lang="en-US" sz="2400" spc="-1" strike="noStrike">
                  <a:solidFill>
                    <a:srgbClr val="eaeaea"/>
                  </a:solidFill>
                  <a:latin typeface="Arial"/>
                </a:rPr>
                <a:t>), </a:t>
              </a:r>
              <a:r>
                <a:rPr b="1" i="1" lang="en-US" sz="2400" spc="-1" strike="noStrike">
                  <a:solidFill>
                    <a:srgbClr val="eaeaea"/>
                  </a:solidFill>
                  <a:latin typeface="Arial"/>
                </a:rPr>
                <a:t>C </a:t>
              </a:r>
              <a:r>
                <a:rPr b="1" lang="en-US" sz="2400" spc="-1" strike="noStrike">
                  <a:solidFill>
                    <a:srgbClr val="eaeaea"/>
                  </a:solidFill>
                  <a:latin typeface="Arial"/>
                </a:rPr>
                <a:t>(</a:t>
              </a:r>
              <a:r>
                <a:rPr b="0" lang="en-US" sz="2400" spc="-1" strike="noStrike">
                  <a:solidFill>
                    <a:srgbClr val="eaeaea"/>
                  </a:solidFill>
                  <a:latin typeface="Times New Roman"/>
                </a:rPr>
                <a:t>4</a:t>
              </a:r>
              <a:r>
                <a:rPr b="1" lang="en-US" sz="2400" spc="-1" strike="noStrike">
                  <a:solidFill>
                    <a:srgbClr val="eaeaea"/>
                  </a:solidFill>
                  <a:latin typeface="Arial"/>
                </a:rPr>
                <a:t>, </a:t>
              </a:r>
              <a:r>
                <a:rPr b="0" lang="en-US" sz="2400" spc="-1" strike="noStrike">
                  <a:solidFill>
                    <a:srgbClr val="eaeaea"/>
                  </a:solidFill>
                  <a:latin typeface="Times New Roman"/>
                </a:rPr>
                <a:t>1</a:t>
              </a:r>
              <a:r>
                <a:rPr b="1" lang="en-US" sz="2400" spc="-1" strike="noStrike">
                  <a:solidFill>
                    <a:srgbClr val="eaeaea"/>
                  </a:solidFill>
                  <a:latin typeface="Arial"/>
                </a:rPr>
                <a:t>), and </a:t>
              </a:r>
              <a:r>
                <a:rPr b="1" i="1" lang="en-US" sz="2400" spc="-1" strike="noStrike">
                  <a:solidFill>
                    <a:srgbClr val="eaeaea"/>
                  </a:solidFill>
                  <a:latin typeface="Arial"/>
                </a:rPr>
                <a:t>D </a:t>
              </a:r>
              <a:r>
                <a:rPr b="1" lang="en-US" sz="2400" spc="-1" strike="noStrike">
                  <a:solidFill>
                    <a:srgbClr val="eaeaea"/>
                  </a:solidFill>
                  <a:latin typeface="Arial"/>
                </a:rPr>
                <a:t>(  </a:t>
              </a:r>
              <a:r>
                <a:rPr b="0" lang="en-US" sz="2400" spc="-1" strike="noStrike">
                  <a:solidFill>
                    <a:srgbClr val="eaeaea"/>
                  </a:solidFill>
                  <a:latin typeface="Times New Roman"/>
                </a:rPr>
                <a:t>1</a:t>
              </a:r>
              <a:r>
                <a:rPr b="1" lang="en-US" sz="2400" spc="-1" strike="noStrike">
                  <a:solidFill>
                    <a:srgbClr val="eaeaea"/>
                  </a:solidFill>
                  <a:latin typeface="Arial"/>
                </a:rPr>
                <a:t>, </a:t>
              </a:r>
              <a:r>
                <a:rPr b="0" lang="en-US" sz="2400" spc="-1" strike="noStrike">
                  <a:solidFill>
                    <a:srgbClr val="eaeaea"/>
                  </a:solidFill>
                  <a:latin typeface="Times New Roman"/>
                </a:rPr>
                <a:t>1</a:t>
              </a:r>
              <a:r>
                <a:rPr b="1" lang="en-US" sz="2400" spc="-1" strike="noStrike">
                  <a:solidFill>
                    <a:srgbClr val="eaeaea"/>
                  </a:solidFill>
                  <a:latin typeface="Arial"/>
                </a:rPr>
                <a:t>). Then find the coordinates of the vertices of the image after a reflection in the </a:t>
              </a:r>
              <a:r>
                <a:rPr b="1" i="1" lang="en-US" sz="2400" spc="-1" strike="noStrike">
                  <a:solidFill>
                    <a:srgbClr val="eaeaea"/>
                  </a:solidFill>
                  <a:latin typeface="Arial"/>
                </a:rPr>
                <a:t>x</a:t>
              </a:r>
              <a:r>
                <a:rPr b="1" lang="en-US" sz="2400" spc="-1" strike="noStrike">
                  <a:solidFill>
                    <a:srgbClr val="eaeaea"/>
                  </a:solidFill>
                  <a:latin typeface="Arial"/>
                </a:rPr>
                <a:t>-axis and draw the image.</a:t>
              </a:r>
              <a:endParaRPr b="0" lang="en-US" sz="2400" spc="-1" strike="noStrike">
                <a:solidFill>
                  <a:srgbClr val="eaeaea"/>
                </a:solidFill>
                <a:latin typeface="Arial"/>
              </a:endParaRPr>
            </a:p>
          </p:txBody>
        </p:sp>
        <p:sp>
          <p:nvSpPr>
            <p:cNvPr id="315" name="Rectangle 8"/>
            <p:cNvSpPr/>
            <p:nvPr/>
          </p:nvSpPr>
          <p:spPr>
            <a:xfrm>
              <a:off x="6642360" y="10047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t>
              </a:r>
              <a:endParaRPr b="0" lang="en-US" sz="2400" spc="-1" strike="noStrike">
                <a:solidFill>
                  <a:srgbClr val="eaeaea"/>
                </a:solidFill>
                <a:latin typeface="Arial"/>
              </a:endParaRPr>
            </a:p>
          </p:txBody>
        </p:sp>
        <p:sp>
          <p:nvSpPr>
            <p:cNvPr id="316" name="Rectangle 9"/>
            <p:cNvSpPr/>
            <p:nvPr/>
          </p:nvSpPr>
          <p:spPr>
            <a:xfrm>
              <a:off x="3751560" y="13860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t>
              </a:r>
              <a:endParaRPr b="0" lang="en-US" sz="2400" spc="-1" strike="noStrike">
                <a:solidFill>
                  <a:srgbClr val="eaeaea"/>
                </a:solidFill>
                <a:latin typeface="Arial"/>
              </a:endParaRPr>
            </a:p>
          </p:txBody>
        </p:sp>
      </p:grpSp>
      <p:pic>
        <p:nvPicPr>
          <p:cNvPr id="317" name="Picture 44" descr="Grid 2"/>
          <p:cNvPicPr/>
          <p:nvPr/>
        </p:nvPicPr>
        <p:blipFill>
          <a:blip r:embed="rId5"/>
          <a:stretch/>
        </p:blipFill>
        <p:spPr>
          <a:xfrm>
            <a:off x="4495680" y="2286000"/>
            <a:ext cx="3962520" cy="3849840"/>
          </a:xfrm>
          <a:prstGeom prst="rect">
            <a:avLst/>
          </a:prstGeom>
          <a:ln w="0">
            <a:noFill/>
          </a:ln>
        </p:spPr>
      </p:pic>
      <p:sp>
        <p:nvSpPr>
          <p:cNvPr id="318" name=""/>
          <p:cNvSpPr/>
          <p:nvPr/>
        </p:nvSpPr>
        <p:spPr>
          <a:xfrm>
            <a:off x="1224000" y="2786040"/>
            <a:ext cx="1741320" cy="428760"/>
          </a:xfrm>
          <a:custGeom>
            <a:avLst/>
            <a:gdLst/>
            <a:ahLst/>
            <a:rect l="l" t="t" r="r" b="b"/>
            <a:pathLst>
              <a:path w="4838" h="1192">
                <a:moveTo>
                  <a:pt x="3398" y="8731"/>
                </a:moveTo>
                <a:cubicBezTo>
                  <a:pt x="3420" y="8796"/>
                  <a:pt x="3428" y="8811"/>
                  <a:pt x="3423" y="8855"/>
                </a:cubicBezTo>
              </a:path>
              <a:path w="4838" h="1192">
                <a:moveTo>
                  <a:pt x="4043" y="8037"/>
                </a:moveTo>
                <a:cubicBezTo>
                  <a:pt x="4254" y="8177"/>
                  <a:pt x="4419" y="8400"/>
                  <a:pt x="4366" y="8682"/>
                </a:cubicBezTo>
                <a:cubicBezTo>
                  <a:pt x="4304" y="8784"/>
                  <a:pt x="4297" y="8808"/>
                  <a:pt x="4242" y="8855"/>
                </a:cubicBezTo>
              </a:path>
              <a:path w="4838" h="1192">
                <a:moveTo>
                  <a:pt x="6102" y="8483"/>
                </a:moveTo>
                <a:cubicBezTo>
                  <a:pt x="6218" y="8443"/>
                  <a:pt x="6333" y="8401"/>
                  <a:pt x="6449" y="8359"/>
                </a:cubicBezTo>
              </a:path>
              <a:path w="4838" h="1192">
                <a:moveTo>
                  <a:pt x="6995" y="7739"/>
                </a:moveTo>
                <a:cubicBezTo>
                  <a:pt x="6979" y="7858"/>
                  <a:pt x="6970" y="7971"/>
                  <a:pt x="6945" y="8086"/>
                </a:cubicBezTo>
              </a:path>
              <a:path w="4838" h="1192">
                <a:moveTo>
                  <a:pt x="7888" y="7863"/>
                </a:moveTo>
                <a:cubicBezTo>
                  <a:pt x="7796" y="8139"/>
                  <a:pt x="7676" y="8352"/>
                  <a:pt x="7665" y="8657"/>
                </a:cubicBezTo>
                <a:cubicBezTo>
                  <a:pt x="7660" y="8783"/>
                  <a:pt x="7685" y="8904"/>
                  <a:pt x="7813" y="8930"/>
                </a:cubicBezTo>
              </a:path>
              <a:path w="4838" h="1192">
                <a:moveTo>
                  <a:pt x="7938" y="8434"/>
                </a:moveTo>
                <a:cubicBezTo>
                  <a:pt x="8036" y="8406"/>
                  <a:pt x="8136" y="8376"/>
                  <a:pt x="8235" y="835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19" name=""/>
          <p:cNvSpPr/>
          <p:nvPr/>
        </p:nvSpPr>
        <p:spPr>
          <a:xfrm>
            <a:off x="2133720" y="2830680"/>
            <a:ext cx="241200" cy="331560"/>
          </a:xfrm>
          <a:custGeom>
            <a:avLst/>
            <a:gdLst/>
            <a:ahLst/>
            <a:rect l="l" t="t" r="r" b="b"/>
            <a:pathLst>
              <a:path w="671" h="919">
                <a:moveTo>
                  <a:pt x="6028" y="8062"/>
                </a:moveTo>
                <a:cubicBezTo>
                  <a:pt x="6028" y="8286"/>
                  <a:pt x="6004" y="8512"/>
                  <a:pt x="5953" y="8731"/>
                </a:cubicBezTo>
                <a:cubicBezTo>
                  <a:pt x="5929" y="8779"/>
                  <a:pt x="5921" y="8798"/>
                  <a:pt x="5928" y="8731"/>
                </a:cubicBezTo>
                <a:cubicBezTo>
                  <a:pt x="5989" y="8450"/>
                  <a:pt x="6045" y="8113"/>
                  <a:pt x="6276" y="7913"/>
                </a:cubicBezTo>
                <a:cubicBezTo>
                  <a:pt x="6317" y="7896"/>
                  <a:pt x="6359" y="7880"/>
                  <a:pt x="6400" y="7863"/>
                </a:cubicBezTo>
                <a:cubicBezTo>
                  <a:pt x="6599" y="8103"/>
                  <a:pt x="6587" y="8296"/>
                  <a:pt x="6573" y="8607"/>
                </a:cubicBezTo>
                <a:cubicBezTo>
                  <a:pt x="6569" y="8700"/>
                  <a:pt x="6564" y="8679"/>
                  <a:pt x="6499" y="863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0" name=""/>
          <p:cNvSpPr/>
          <p:nvPr/>
        </p:nvSpPr>
        <p:spPr>
          <a:xfrm>
            <a:off x="2982960" y="2867040"/>
            <a:ext cx="696960" cy="330120"/>
          </a:xfrm>
          <a:custGeom>
            <a:avLst/>
            <a:gdLst/>
            <a:ahLst/>
            <a:rect l="l" t="t" r="r" b="b"/>
            <a:pathLst>
              <a:path w="1936" h="919">
                <a:moveTo>
                  <a:pt x="8508" y="8086"/>
                </a:moveTo>
                <a:cubicBezTo>
                  <a:pt x="8519" y="8056"/>
                  <a:pt x="8636" y="7975"/>
                  <a:pt x="8682" y="8012"/>
                </a:cubicBezTo>
                <a:cubicBezTo>
                  <a:pt x="8751" y="8067"/>
                  <a:pt x="8585" y="8226"/>
                  <a:pt x="8558" y="8260"/>
                </a:cubicBezTo>
                <a:cubicBezTo>
                  <a:pt x="8657" y="8234"/>
                  <a:pt x="8777" y="8216"/>
                  <a:pt x="8781" y="8384"/>
                </a:cubicBezTo>
                <a:cubicBezTo>
                  <a:pt x="8786" y="8620"/>
                  <a:pt x="8486" y="8698"/>
                  <a:pt x="8310" y="8657"/>
                </a:cubicBezTo>
                <a:cubicBezTo>
                  <a:pt x="8302" y="8649"/>
                  <a:pt x="8293" y="8640"/>
                  <a:pt x="8285" y="8632"/>
                </a:cubicBezTo>
              </a:path>
              <a:path w="1936" h="919">
                <a:moveTo>
                  <a:pt x="9029" y="8582"/>
                </a:moveTo>
                <a:cubicBezTo>
                  <a:pt x="9025" y="8658"/>
                  <a:pt x="9053" y="8929"/>
                  <a:pt x="8979" y="8830"/>
                </a:cubicBezTo>
              </a:path>
              <a:path w="1936" h="919">
                <a:moveTo>
                  <a:pt x="9277" y="8359"/>
                </a:moveTo>
                <a:cubicBezTo>
                  <a:pt x="9386" y="8349"/>
                  <a:pt x="9488" y="8334"/>
                  <a:pt x="9599" y="8334"/>
                </a:cubicBezTo>
              </a:path>
              <a:path w="1936" h="919">
                <a:moveTo>
                  <a:pt x="9847" y="8037"/>
                </a:moveTo>
                <a:cubicBezTo>
                  <a:pt x="9874" y="7955"/>
                  <a:pt x="10040" y="7970"/>
                  <a:pt x="10120" y="7962"/>
                </a:cubicBezTo>
                <a:cubicBezTo>
                  <a:pt x="10134" y="8100"/>
                  <a:pt x="10066" y="8151"/>
                  <a:pt x="9947" y="8235"/>
                </a:cubicBezTo>
                <a:cubicBezTo>
                  <a:pt x="10052" y="8195"/>
                  <a:pt x="10268" y="8202"/>
                  <a:pt x="10220" y="8384"/>
                </a:cubicBezTo>
                <a:cubicBezTo>
                  <a:pt x="10169" y="8578"/>
                  <a:pt x="9931" y="8607"/>
                  <a:pt x="9773" y="860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1" name=""/>
          <p:cNvSpPr/>
          <p:nvPr/>
        </p:nvSpPr>
        <p:spPr>
          <a:xfrm>
            <a:off x="5491080" y="3268800"/>
            <a:ext cx="2332080" cy="884160"/>
          </a:xfrm>
          <a:custGeom>
            <a:avLst/>
            <a:gdLst/>
            <a:ahLst/>
            <a:rect l="l" t="t" r="r" b="b"/>
            <a:pathLst>
              <a:path w="6475" h="2456">
                <a:moveTo>
                  <a:pt x="15304" y="9128"/>
                </a:moveTo>
                <a:cubicBezTo>
                  <a:pt x="15285" y="9135"/>
                  <a:pt x="15222" y="9196"/>
                  <a:pt x="15280" y="9203"/>
                </a:cubicBezTo>
                <a:cubicBezTo>
                  <a:pt x="15354" y="9212"/>
                  <a:pt x="15450" y="9056"/>
                  <a:pt x="15379" y="9079"/>
                </a:cubicBezTo>
                <a:cubicBezTo>
                  <a:pt x="15340" y="9117"/>
                  <a:pt x="15323" y="9119"/>
                  <a:pt x="15329" y="9153"/>
                </a:cubicBezTo>
                <a:cubicBezTo>
                  <a:pt x="15430" y="9214"/>
                  <a:pt x="15427" y="9214"/>
                  <a:pt x="15528" y="9153"/>
                </a:cubicBezTo>
                <a:cubicBezTo>
                  <a:pt x="15428" y="9036"/>
                  <a:pt x="15376" y="9090"/>
                  <a:pt x="15304" y="9203"/>
                </a:cubicBezTo>
                <a:cubicBezTo>
                  <a:pt x="15335" y="9213"/>
                  <a:pt x="15561" y="9243"/>
                  <a:pt x="15478" y="9128"/>
                </a:cubicBezTo>
                <a:cubicBezTo>
                  <a:pt x="15421" y="9048"/>
                  <a:pt x="15409" y="9124"/>
                  <a:pt x="15404" y="9153"/>
                </a:cubicBezTo>
              </a:path>
              <a:path w="6475" h="2456">
                <a:moveTo>
                  <a:pt x="15577" y="9451"/>
                </a:moveTo>
                <a:cubicBezTo>
                  <a:pt x="15568" y="9559"/>
                  <a:pt x="15553" y="9615"/>
                  <a:pt x="15553" y="9723"/>
                </a:cubicBezTo>
                <a:cubicBezTo>
                  <a:pt x="15553" y="9552"/>
                  <a:pt x="15539" y="9489"/>
                  <a:pt x="15652" y="9376"/>
                </a:cubicBezTo>
                <a:cubicBezTo>
                  <a:pt x="15668" y="9360"/>
                  <a:pt x="15685" y="9343"/>
                  <a:pt x="15701" y="9327"/>
                </a:cubicBezTo>
                <a:cubicBezTo>
                  <a:pt x="15807" y="9431"/>
                  <a:pt x="15817" y="9517"/>
                  <a:pt x="15825" y="9674"/>
                </a:cubicBezTo>
                <a:cubicBezTo>
                  <a:pt x="15825" y="9699"/>
                  <a:pt x="15825" y="9707"/>
                  <a:pt x="15801" y="9699"/>
                </a:cubicBezTo>
              </a:path>
              <a:path w="6475" h="2456">
                <a:moveTo>
                  <a:pt x="15553" y="9674"/>
                </a:moveTo>
                <a:cubicBezTo>
                  <a:pt x="15628" y="9651"/>
                  <a:pt x="15707" y="9616"/>
                  <a:pt x="15776" y="9599"/>
                </a:cubicBezTo>
              </a:path>
              <a:path w="6475" h="2456">
                <a:moveTo>
                  <a:pt x="21183" y="10790"/>
                </a:moveTo>
                <a:cubicBezTo>
                  <a:pt x="21131" y="10773"/>
                  <a:pt x="21137" y="10715"/>
                  <a:pt x="21059" y="10840"/>
                </a:cubicBezTo>
                <a:cubicBezTo>
                  <a:pt x="21051" y="10865"/>
                  <a:pt x="21042" y="10889"/>
                  <a:pt x="21034" y="10914"/>
                </a:cubicBezTo>
                <a:cubicBezTo>
                  <a:pt x="21124" y="10922"/>
                  <a:pt x="21247" y="10915"/>
                  <a:pt x="21158" y="10790"/>
                </a:cubicBezTo>
                <a:cubicBezTo>
                  <a:pt x="21078" y="10678"/>
                  <a:pt x="21023" y="10829"/>
                  <a:pt x="21010" y="10889"/>
                </a:cubicBezTo>
                <a:cubicBezTo>
                  <a:pt x="21052" y="10911"/>
                  <a:pt x="21080" y="10914"/>
                  <a:pt x="21134" y="10914"/>
                </a:cubicBezTo>
                <a:cubicBezTo>
                  <a:pt x="21100" y="10711"/>
                  <a:pt x="21004" y="10875"/>
                  <a:pt x="21010" y="10889"/>
                </a:cubicBezTo>
                <a:cubicBezTo>
                  <a:pt x="21028" y="10932"/>
                  <a:pt x="21110" y="10928"/>
                  <a:pt x="21084" y="10889"/>
                </a:cubicBezTo>
              </a:path>
              <a:path w="6475" h="2456">
                <a:moveTo>
                  <a:pt x="17041" y="10864"/>
                </a:moveTo>
                <a:cubicBezTo>
                  <a:pt x="17074" y="10864"/>
                  <a:pt x="17082" y="10856"/>
                  <a:pt x="17066" y="10815"/>
                </a:cubicBezTo>
                <a:cubicBezTo>
                  <a:pt x="17146" y="10787"/>
                  <a:pt x="17038" y="10819"/>
                  <a:pt x="17041" y="10864"/>
                </a:cubicBezTo>
                <a:cubicBezTo>
                  <a:pt x="17048" y="10969"/>
                  <a:pt x="17161" y="10868"/>
                  <a:pt x="17140" y="10790"/>
                </a:cubicBezTo>
                <a:cubicBezTo>
                  <a:pt x="17112" y="10686"/>
                  <a:pt x="16930" y="10824"/>
                  <a:pt x="16991" y="10889"/>
                </a:cubicBezTo>
                <a:cubicBezTo>
                  <a:pt x="17084" y="10936"/>
                  <a:pt x="17111" y="10956"/>
                  <a:pt x="17165" y="10889"/>
                </a:cubicBezTo>
                <a:cubicBezTo>
                  <a:pt x="17177" y="10766"/>
                  <a:pt x="17074" y="10749"/>
                  <a:pt x="17115" y="10889"/>
                </a:cubicBezTo>
              </a:path>
              <a:path w="6475" h="2456">
                <a:moveTo>
                  <a:pt x="21605" y="10914"/>
                </a:moveTo>
                <a:cubicBezTo>
                  <a:pt x="21605" y="10868"/>
                  <a:pt x="21542" y="10784"/>
                  <a:pt x="21481" y="10815"/>
                </a:cubicBezTo>
                <a:cubicBezTo>
                  <a:pt x="21341" y="10931"/>
                  <a:pt x="21299" y="10964"/>
                  <a:pt x="21233" y="11063"/>
                </a:cubicBezTo>
                <a:cubicBezTo>
                  <a:pt x="21395" y="11154"/>
                  <a:pt x="21650" y="11285"/>
                  <a:pt x="21704" y="11038"/>
                </a:cubicBezTo>
              </a:path>
              <a:path w="6475" h="2456">
                <a:moveTo>
                  <a:pt x="17165" y="11187"/>
                </a:moveTo>
                <a:cubicBezTo>
                  <a:pt x="17165" y="11088"/>
                  <a:pt x="17165" y="11336"/>
                  <a:pt x="17165" y="11435"/>
                </a:cubicBezTo>
                <a:cubicBezTo>
                  <a:pt x="17165" y="11493"/>
                  <a:pt x="17165" y="11501"/>
                  <a:pt x="17165" y="11534"/>
                </a:cubicBezTo>
              </a:path>
              <a:path w="6475" h="2456">
                <a:moveTo>
                  <a:pt x="15354" y="9302"/>
                </a:moveTo>
                <a:cubicBezTo>
                  <a:pt x="15368" y="9295"/>
                  <a:pt x="15362" y="9246"/>
                  <a:pt x="15404" y="9227"/>
                </a:cubicBezTo>
                <a:cubicBezTo>
                  <a:pt x="15483" y="9192"/>
                  <a:pt x="15614" y="9197"/>
                  <a:pt x="15701" y="9203"/>
                </a:cubicBezTo>
                <a:cubicBezTo>
                  <a:pt x="15819" y="9211"/>
                  <a:pt x="15928" y="9225"/>
                  <a:pt x="16049" y="9227"/>
                </a:cubicBezTo>
                <a:cubicBezTo>
                  <a:pt x="16401" y="9232"/>
                  <a:pt x="16769" y="9249"/>
                  <a:pt x="17115" y="9203"/>
                </a:cubicBezTo>
                <a:cubicBezTo>
                  <a:pt x="17232" y="9187"/>
                  <a:pt x="17343" y="9180"/>
                  <a:pt x="17462" y="9178"/>
                </a:cubicBezTo>
                <a:cubicBezTo>
                  <a:pt x="17679" y="9175"/>
                  <a:pt x="17896" y="9167"/>
                  <a:pt x="18107" y="9153"/>
                </a:cubicBezTo>
                <a:cubicBezTo>
                  <a:pt x="18287" y="9141"/>
                  <a:pt x="18477" y="9137"/>
                  <a:pt x="18653" y="9128"/>
                </a:cubicBezTo>
                <a:cubicBezTo>
                  <a:pt x="18910" y="9115"/>
                  <a:pt x="19175" y="9138"/>
                  <a:pt x="19422" y="9153"/>
                </a:cubicBezTo>
                <a:cubicBezTo>
                  <a:pt x="19508" y="9158"/>
                  <a:pt x="19596" y="9147"/>
                  <a:pt x="19645" y="9178"/>
                </a:cubicBezTo>
                <a:cubicBezTo>
                  <a:pt x="19680" y="9200"/>
                  <a:pt x="19685" y="9230"/>
                  <a:pt x="19720" y="9277"/>
                </a:cubicBezTo>
                <a:cubicBezTo>
                  <a:pt x="19731" y="9292"/>
                  <a:pt x="19770" y="9347"/>
                  <a:pt x="19794" y="9376"/>
                </a:cubicBezTo>
                <a:cubicBezTo>
                  <a:pt x="19829" y="9418"/>
                  <a:pt x="19885" y="9471"/>
                  <a:pt x="19918" y="9525"/>
                </a:cubicBezTo>
                <a:cubicBezTo>
                  <a:pt x="19965" y="9602"/>
                  <a:pt x="20014" y="9701"/>
                  <a:pt x="20067" y="9773"/>
                </a:cubicBezTo>
                <a:cubicBezTo>
                  <a:pt x="20141" y="9873"/>
                  <a:pt x="20215" y="9971"/>
                  <a:pt x="20290" y="10071"/>
                </a:cubicBezTo>
                <a:cubicBezTo>
                  <a:pt x="20355" y="10158"/>
                  <a:pt x="20437" y="10259"/>
                  <a:pt x="20513" y="10319"/>
                </a:cubicBezTo>
                <a:cubicBezTo>
                  <a:pt x="20578" y="10370"/>
                  <a:pt x="20613" y="10389"/>
                  <a:pt x="20662" y="10443"/>
                </a:cubicBezTo>
                <a:cubicBezTo>
                  <a:pt x="20724" y="10511"/>
                  <a:pt x="20781" y="10575"/>
                  <a:pt x="20836" y="10641"/>
                </a:cubicBezTo>
                <a:cubicBezTo>
                  <a:pt x="20884" y="10699"/>
                  <a:pt x="20933" y="10775"/>
                  <a:pt x="20985" y="10840"/>
                </a:cubicBezTo>
                <a:cubicBezTo>
                  <a:pt x="21019" y="10882"/>
                  <a:pt x="21024" y="10875"/>
                  <a:pt x="21059" y="10914"/>
                </a:cubicBezTo>
                <a:cubicBezTo>
                  <a:pt x="21067" y="10922"/>
                  <a:pt x="21076" y="10931"/>
                  <a:pt x="21084" y="10939"/>
                </a:cubicBezTo>
                <a:cubicBezTo>
                  <a:pt x="21062" y="10938"/>
                  <a:pt x="20905" y="10949"/>
                  <a:pt x="20836" y="10939"/>
                </a:cubicBezTo>
                <a:cubicBezTo>
                  <a:pt x="20693" y="10919"/>
                  <a:pt x="20555" y="10908"/>
                  <a:pt x="20414" y="10889"/>
                </a:cubicBezTo>
                <a:cubicBezTo>
                  <a:pt x="20295" y="10873"/>
                  <a:pt x="20187" y="10849"/>
                  <a:pt x="20067" y="10840"/>
                </a:cubicBezTo>
                <a:cubicBezTo>
                  <a:pt x="19966" y="10833"/>
                  <a:pt x="19869" y="10820"/>
                  <a:pt x="19769" y="10815"/>
                </a:cubicBezTo>
                <a:cubicBezTo>
                  <a:pt x="19642" y="10809"/>
                  <a:pt x="19523" y="10797"/>
                  <a:pt x="19397" y="10790"/>
                </a:cubicBezTo>
                <a:cubicBezTo>
                  <a:pt x="19135" y="10776"/>
                  <a:pt x="18836" y="10747"/>
                  <a:pt x="18579" y="10765"/>
                </a:cubicBezTo>
                <a:cubicBezTo>
                  <a:pt x="18441" y="10775"/>
                  <a:pt x="18298" y="10807"/>
                  <a:pt x="18157" y="10815"/>
                </a:cubicBezTo>
                <a:cubicBezTo>
                  <a:pt x="18038" y="10822"/>
                  <a:pt x="17927" y="10824"/>
                  <a:pt x="17810" y="10840"/>
                </a:cubicBezTo>
                <a:cubicBezTo>
                  <a:pt x="17686" y="10857"/>
                  <a:pt x="17563" y="10852"/>
                  <a:pt x="17438" y="10864"/>
                </a:cubicBezTo>
                <a:cubicBezTo>
                  <a:pt x="17366" y="10871"/>
                  <a:pt x="17308" y="10898"/>
                  <a:pt x="17239" y="10914"/>
                </a:cubicBezTo>
                <a:cubicBezTo>
                  <a:pt x="17203" y="10922"/>
                  <a:pt x="17145" y="10939"/>
                  <a:pt x="17115" y="10939"/>
                </a:cubicBezTo>
                <a:cubicBezTo>
                  <a:pt x="17076" y="10939"/>
                  <a:pt x="17047" y="10930"/>
                  <a:pt x="17016" y="10914"/>
                </a:cubicBezTo>
                <a:cubicBezTo>
                  <a:pt x="16981" y="10896"/>
                  <a:pt x="16967" y="10878"/>
                  <a:pt x="16942" y="10864"/>
                </a:cubicBezTo>
                <a:cubicBezTo>
                  <a:pt x="16904" y="10843"/>
                  <a:pt x="16832" y="10773"/>
                  <a:pt x="16793" y="10740"/>
                </a:cubicBezTo>
                <a:cubicBezTo>
                  <a:pt x="16766" y="10718"/>
                  <a:pt x="16725" y="10679"/>
                  <a:pt x="16694" y="10641"/>
                </a:cubicBezTo>
                <a:cubicBezTo>
                  <a:pt x="16660" y="10599"/>
                  <a:pt x="16630" y="10556"/>
                  <a:pt x="16594" y="10517"/>
                </a:cubicBezTo>
                <a:cubicBezTo>
                  <a:pt x="16555" y="10474"/>
                  <a:pt x="16471" y="10338"/>
                  <a:pt x="16446" y="10319"/>
                </a:cubicBezTo>
                <a:cubicBezTo>
                  <a:pt x="16407" y="10289"/>
                  <a:pt x="16319" y="10289"/>
                  <a:pt x="16272" y="10244"/>
                </a:cubicBezTo>
                <a:cubicBezTo>
                  <a:pt x="16208" y="10182"/>
                  <a:pt x="16167" y="10126"/>
                  <a:pt x="16098" y="10071"/>
                </a:cubicBezTo>
                <a:cubicBezTo>
                  <a:pt x="16029" y="10016"/>
                  <a:pt x="15969" y="9954"/>
                  <a:pt x="15900" y="9897"/>
                </a:cubicBezTo>
                <a:cubicBezTo>
                  <a:pt x="15836" y="9844"/>
                  <a:pt x="15780" y="9809"/>
                  <a:pt x="15726" y="9748"/>
                </a:cubicBezTo>
                <a:cubicBezTo>
                  <a:pt x="15685" y="9701"/>
                  <a:pt x="15580" y="9633"/>
                  <a:pt x="15553" y="9599"/>
                </a:cubicBezTo>
                <a:cubicBezTo>
                  <a:pt x="15497" y="9528"/>
                  <a:pt x="15452" y="9428"/>
                  <a:pt x="15404" y="9351"/>
                </a:cubicBezTo>
                <a:cubicBezTo>
                  <a:pt x="15375" y="9304"/>
                  <a:pt x="15317" y="9227"/>
                  <a:pt x="15304" y="9203"/>
                </a:cubicBezTo>
                <a:cubicBezTo>
                  <a:pt x="15304" y="9195"/>
                  <a:pt x="15304" y="9186"/>
                  <a:pt x="15304" y="917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2" name=""/>
          <p:cNvSpPr/>
          <p:nvPr/>
        </p:nvSpPr>
        <p:spPr>
          <a:xfrm>
            <a:off x="812880" y="3321000"/>
            <a:ext cx="2911320" cy="1073160"/>
          </a:xfrm>
          <a:custGeom>
            <a:avLst/>
            <a:gdLst/>
            <a:ahLst/>
            <a:rect l="l" t="t" r="r" b="b"/>
            <a:pathLst>
              <a:path w="8088" h="2978">
                <a:moveTo>
                  <a:pt x="2381" y="9872"/>
                </a:moveTo>
                <a:cubicBezTo>
                  <a:pt x="2300" y="10070"/>
                  <a:pt x="2139" y="10411"/>
                  <a:pt x="2307" y="10616"/>
                </a:cubicBezTo>
                <a:cubicBezTo>
                  <a:pt x="2420" y="10662"/>
                  <a:pt x="2450" y="10678"/>
                  <a:pt x="2530" y="10666"/>
                </a:cubicBezTo>
              </a:path>
              <a:path w="8088" h="2978">
                <a:moveTo>
                  <a:pt x="4018" y="9773"/>
                </a:moveTo>
                <a:cubicBezTo>
                  <a:pt x="4204" y="9935"/>
                  <a:pt x="4439" y="10154"/>
                  <a:pt x="4316" y="10443"/>
                </a:cubicBezTo>
                <a:cubicBezTo>
                  <a:pt x="4229" y="10530"/>
                  <a:pt x="4210" y="10554"/>
                  <a:pt x="4142" y="10592"/>
                </a:cubicBezTo>
              </a:path>
              <a:path w="8088" h="2978">
                <a:moveTo>
                  <a:pt x="3646" y="11906"/>
                </a:moveTo>
                <a:cubicBezTo>
                  <a:pt x="3629" y="12004"/>
                  <a:pt x="3609" y="12105"/>
                  <a:pt x="3597" y="12204"/>
                </a:cubicBezTo>
              </a:path>
              <a:path w="8088" h="2978">
                <a:moveTo>
                  <a:pt x="8880" y="10269"/>
                </a:moveTo>
                <a:lnTo>
                  <a:pt x="8880" y="10269"/>
                </a:lnTo>
              </a:path>
              <a:path w="8088" h="2978">
                <a:moveTo>
                  <a:pt x="9227" y="9699"/>
                </a:moveTo>
                <a:cubicBezTo>
                  <a:pt x="9295" y="9708"/>
                  <a:pt x="9358" y="9718"/>
                  <a:pt x="9426" y="9723"/>
                </a:cubicBezTo>
              </a:path>
              <a:path w="8088" h="2978">
                <a:moveTo>
                  <a:pt x="9996" y="9227"/>
                </a:moveTo>
                <a:cubicBezTo>
                  <a:pt x="10244" y="9500"/>
                  <a:pt x="10442" y="9713"/>
                  <a:pt x="10269" y="10096"/>
                </a:cubicBezTo>
                <a:cubicBezTo>
                  <a:pt x="10215" y="10169"/>
                  <a:pt x="10223" y="10202"/>
                  <a:pt x="10170" y="1019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3" name=""/>
          <p:cNvSpPr/>
          <p:nvPr/>
        </p:nvSpPr>
        <p:spPr>
          <a:xfrm>
            <a:off x="482760" y="3581280"/>
            <a:ext cx="179280" cy="268560"/>
          </a:xfrm>
          <a:custGeom>
            <a:avLst/>
            <a:gdLst/>
            <a:ahLst/>
            <a:rect l="l" t="t" r="r" b="b"/>
            <a:pathLst>
              <a:path w="498" h="745">
                <a:moveTo>
                  <a:pt x="1364" y="10120"/>
                </a:moveTo>
                <a:cubicBezTo>
                  <a:pt x="1398" y="10308"/>
                  <a:pt x="1439" y="10505"/>
                  <a:pt x="1488" y="10691"/>
                </a:cubicBezTo>
                <a:cubicBezTo>
                  <a:pt x="1488" y="10683"/>
                  <a:pt x="1488" y="10674"/>
                  <a:pt x="1488" y="10666"/>
                </a:cubicBezTo>
              </a:path>
              <a:path w="498" h="745">
                <a:moveTo>
                  <a:pt x="1339" y="9971"/>
                </a:moveTo>
                <a:cubicBezTo>
                  <a:pt x="1578" y="9957"/>
                  <a:pt x="1824" y="9927"/>
                  <a:pt x="1588" y="10220"/>
                </a:cubicBezTo>
                <a:cubicBezTo>
                  <a:pt x="1571" y="10228"/>
                  <a:pt x="1555" y="10236"/>
                  <a:pt x="1538" y="10244"/>
                </a:cubicBezTo>
                <a:cubicBezTo>
                  <a:pt x="1605" y="10212"/>
                  <a:pt x="1638" y="10196"/>
                  <a:pt x="1687" y="10170"/>
                </a:cubicBezTo>
                <a:cubicBezTo>
                  <a:pt x="1862" y="10312"/>
                  <a:pt x="1908" y="10520"/>
                  <a:pt x="1612" y="10616"/>
                </a:cubicBezTo>
                <a:cubicBezTo>
                  <a:pt x="1481" y="10616"/>
                  <a:pt x="1436" y="10610"/>
                  <a:pt x="1414" y="1049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4" name=""/>
          <p:cNvSpPr/>
          <p:nvPr/>
        </p:nvSpPr>
        <p:spPr>
          <a:xfrm>
            <a:off x="946080" y="3581280"/>
            <a:ext cx="492120" cy="268560"/>
          </a:xfrm>
          <a:custGeom>
            <a:avLst/>
            <a:gdLst/>
            <a:ahLst/>
            <a:rect l="l" t="t" r="r" b="b"/>
            <a:pathLst>
              <a:path w="1366" h="745">
                <a:moveTo>
                  <a:pt x="2654" y="10071"/>
                </a:moveTo>
                <a:cubicBezTo>
                  <a:pt x="2819" y="10112"/>
                  <a:pt x="3068" y="10254"/>
                  <a:pt x="2927" y="10492"/>
                </a:cubicBezTo>
                <a:cubicBezTo>
                  <a:pt x="2812" y="10585"/>
                  <a:pt x="2783" y="10618"/>
                  <a:pt x="2679" y="10592"/>
                </a:cubicBezTo>
                <a:cubicBezTo>
                  <a:pt x="2643" y="10438"/>
                  <a:pt x="2676" y="10248"/>
                  <a:pt x="2902" y="10368"/>
                </a:cubicBezTo>
                <a:cubicBezTo>
                  <a:pt x="2966" y="10402"/>
                  <a:pt x="2994" y="10477"/>
                  <a:pt x="3051" y="10517"/>
                </a:cubicBezTo>
              </a:path>
              <a:path w="1366" h="745">
                <a:moveTo>
                  <a:pt x="3299" y="10368"/>
                </a:moveTo>
                <a:cubicBezTo>
                  <a:pt x="3337" y="10476"/>
                  <a:pt x="3378" y="10581"/>
                  <a:pt x="3398" y="10691"/>
                </a:cubicBezTo>
              </a:path>
              <a:path w="1366" h="745">
                <a:moveTo>
                  <a:pt x="3572" y="9996"/>
                </a:moveTo>
                <a:cubicBezTo>
                  <a:pt x="3679" y="9971"/>
                  <a:pt x="3868" y="9870"/>
                  <a:pt x="3820" y="10071"/>
                </a:cubicBezTo>
                <a:cubicBezTo>
                  <a:pt x="3803" y="10112"/>
                  <a:pt x="3787" y="10154"/>
                  <a:pt x="3770" y="10195"/>
                </a:cubicBezTo>
                <a:cubicBezTo>
                  <a:pt x="3754" y="10203"/>
                  <a:pt x="3737" y="10212"/>
                  <a:pt x="3721" y="10220"/>
                </a:cubicBezTo>
                <a:cubicBezTo>
                  <a:pt x="3750" y="10102"/>
                  <a:pt x="3878" y="10148"/>
                  <a:pt x="3944" y="10220"/>
                </a:cubicBezTo>
                <a:cubicBezTo>
                  <a:pt x="4091" y="10378"/>
                  <a:pt x="3847" y="10542"/>
                  <a:pt x="3696" y="10517"/>
                </a:cubicBezTo>
                <a:cubicBezTo>
                  <a:pt x="3671" y="10501"/>
                  <a:pt x="3646" y="10484"/>
                  <a:pt x="3621" y="1046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5" name=""/>
          <p:cNvSpPr/>
          <p:nvPr/>
        </p:nvSpPr>
        <p:spPr>
          <a:xfrm>
            <a:off x="2259000" y="3384720"/>
            <a:ext cx="277920" cy="339480"/>
          </a:xfrm>
          <a:custGeom>
            <a:avLst/>
            <a:gdLst/>
            <a:ahLst/>
            <a:rect l="l" t="t" r="r" b="b"/>
            <a:pathLst>
              <a:path w="770" h="944">
                <a:moveTo>
                  <a:pt x="6325" y="9922"/>
                </a:moveTo>
                <a:cubicBezTo>
                  <a:pt x="6325" y="10113"/>
                  <a:pt x="6326" y="10171"/>
                  <a:pt x="6300" y="10294"/>
                </a:cubicBezTo>
                <a:cubicBezTo>
                  <a:pt x="6300" y="10420"/>
                  <a:pt x="6257" y="10145"/>
                  <a:pt x="6276" y="10021"/>
                </a:cubicBezTo>
                <a:cubicBezTo>
                  <a:pt x="6313" y="9779"/>
                  <a:pt x="6352" y="9657"/>
                  <a:pt x="6524" y="9525"/>
                </a:cubicBezTo>
                <a:cubicBezTo>
                  <a:pt x="6536" y="9644"/>
                  <a:pt x="6425" y="9913"/>
                  <a:pt x="6524" y="9847"/>
                </a:cubicBezTo>
                <a:cubicBezTo>
                  <a:pt x="6705" y="9727"/>
                  <a:pt x="6709" y="10026"/>
                  <a:pt x="6623" y="10145"/>
                </a:cubicBezTo>
                <a:cubicBezTo>
                  <a:pt x="6590" y="10191"/>
                  <a:pt x="6229" y="10365"/>
                  <a:pt x="6276" y="10195"/>
                </a:cubicBezTo>
                <a:cubicBezTo>
                  <a:pt x="6292" y="10162"/>
                  <a:pt x="6309" y="10129"/>
                  <a:pt x="6325" y="10096"/>
                </a:cubicBezTo>
              </a:path>
              <a:path w="770" h="944">
                <a:moveTo>
                  <a:pt x="7045" y="9401"/>
                </a:moveTo>
                <a:cubicBezTo>
                  <a:pt x="7026" y="9508"/>
                  <a:pt x="7005" y="9615"/>
                  <a:pt x="6995" y="9723"/>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6" name=""/>
          <p:cNvSpPr/>
          <p:nvPr/>
        </p:nvSpPr>
        <p:spPr>
          <a:xfrm>
            <a:off x="2803680" y="3348000"/>
            <a:ext cx="393480" cy="349200"/>
          </a:xfrm>
          <a:custGeom>
            <a:avLst/>
            <a:gdLst/>
            <a:ahLst/>
            <a:rect l="l" t="t" r="r" b="b"/>
            <a:pathLst>
              <a:path w="1092" h="968">
                <a:moveTo>
                  <a:pt x="7987" y="9302"/>
                </a:moveTo>
                <a:cubicBezTo>
                  <a:pt x="7832" y="9552"/>
                  <a:pt x="7708" y="9831"/>
                  <a:pt x="7863" y="10120"/>
                </a:cubicBezTo>
                <a:cubicBezTo>
                  <a:pt x="7885" y="10161"/>
                  <a:pt x="8037" y="10293"/>
                  <a:pt x="8037" y="10244"/>
                </a:cubicBezTo>
              </a:path>
              <a:path w="1092" h="968">
                <a:moveTo>
                  <a:pt x="8384" y="9624"/>
                </a:moveTo>
                <a:cubicBezTo>
                  <a:pt x="8376" y="9641"/>
                  <a:pt x="8367" y="9657"/>
                  <a:pt x="8359" y="9674"/>
                </a:cubicBezTo>
                <a:cubicBezTo>
                  <a:pt x="8299" y="9654"/>
                  <a:pt x="8393" y="9564"/>
                  <a:pt x="8434" y="9550"/>
                </a:cubicBezTo>
                <a:cubicBezTo>
                  <a:pt x="8733" y="9451"/>
                  <a:pt x="8484" y="10001"/>
                  <a:pt x="8409" y="10071"/>
                </a:cubicBezTo>
                <a:cubicBezTo>
                  <a:pt x="8302" y="10113"/>
                  <a:pt x="8267" y="10147"/>
                  <a:pt x="8260" y="10046"/>
                </a:cubicBezTo>
                <a:cubicBezTo>
                  <a:pt x="8277" y="9879"/>
                  <a:pt x="8395" y="9936"/>
                  <a:pt x="8508" y="10021"/>
                </a:cubicBezTo>
                <a:cubicBezTo>
                  <a:pt x="8604" y="10094"/>
                  <a:pt x="8582" y="10211"/>
                  <a:pt x="8632" y="10145"/>
                </a:cubicBezTo>
              </a:path>
              <a:path w="1092" h="968">
                <a:moveTo>
                  <a:pt x="8880" y="10120"/>
                </a:moveTo>
                <a:cubicBezTo>
                  <a:pt x="8880" y="10203"/>
                  <a:pt x="8880" y="10219"/>
                  <a:pt x="8880" y="1026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7" name=""/>
          <p:cNvSpPr/>
          <p:nvPr/>
        </p:nvSpPr>
        <p:spPr>
          <a:xfrm>
            <a:off x="3446640" y="3357720"/>
            <a:ext cx="161640" cy="268200"/>
          </a:xfrm>
          <a:custGeom>
            <a:avLst/>
            <a:gdLst/>
            <a:ahLst/>
            <a:rect l="l" t="t" r="r" b="b"/>
            <a:pathLst>
              <a:path w="447" h="745">
                <a:moveTo>
                  <a:pt x="9723" y="9451"/>
                </a:moveTo>
                <a:cubicBezTo>
                  <a:pt x="9641" y="9422"/>
                  <a:pt x="9829" y="9356"/>
                  <a:pt x="9847" y="9351"/>
                </a:cubicBezTo>
                <a:cubicBezTo>
                  <a:pt x="9888" y="9343"/>
                  <a:pt x="9930" y="9335"/>
                  <a:pt x="9971" y="9327"/>
                </a:cubicBezTo>
                <a:cubicBezTo>
                  <a:pt x="10016" y="9517"/>
                  <a:pt x="9915" y="9580"/>
                  <a:pt x="9748" y="9699"/>
                </a:cubicBezTo>
                <a:cubicBezTo>
                  <a:pt x="9856" y="9677"/>
                  <a:pt x="9936" y="9581"/>
                  <a:pt x="9996" y="9748"/>
                </a:cubicBezTo>
                <a:cubicBezTo>
                  <a:pt x="10068" y="9949"/>
                  <a:pt x="9767" y="10141"/>
                  <a:pt x="9599" y="10046"/>
                </a:cubicBezTo>
                <a:cubicBezTo>
                  <a:pt x="9572" y="9963"/>
                  <a:pt x="9570" y="9932"/>
                  <a:pt x="9649" y="989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8" name=""/>
          <p:cNvSpPr/>
          <p:nvPr/>
        </p:nvSpPr>
        <p:spPr>
          <a:xfrm>
            <a:off x="6983280" y="3276720"/>
            <a:ext cx="187560" cy="339480"/>
          </a:xfrm>
          <a:custGeom>
            <a:avLst/>
            <a:gdLst/>
            <a:ahLst/>
            <a:rect l="l" t="t" r="r" b="b"/>
            <a:pathLst>
              <a:path w="522" h="944">
                <a:moveTo>
                  <a:pt x="19496" y="9153"/>
                </a:moveTo>
                <a:cubicBezTo>
                  <a:pt x="19524" y="9116"/>
                  <a:pt x="19538" y="9117"/>
                  <a:pt x="19496" y="9103"/>
                </a:cubicBezTo>
                <a:cubicBezTo>
                  <a:pt x="19441" y="9205"/>
                  <a:pt x="19483" y="9344"/>
                  <a:pt x="19596" y="9203"/>
                </a:cubicBezTo>
                <a:cubicBezTo>
                  <a:pt x="19640" y="9148"/>
                  <a:pt x="19413" y="9062"/>
                  <a:pt x="19397" y="9227"/>
                </a:cubicBezTo>
                <a:cubicBezTo>
                  <a:pt x="19390" y="9296"/>
                  <a:pt x="19480" y="9295"/>
                  <a:pt x="19521" y="9302"/>
                </a:cubicBezTo>
              </a:path>
              <a:path w="522" h="944">
                <a:moveTo>
                  <a:pt x="19621" y="9723"/>
                </a:moveTo>
                <a:cubicBezTo>
                  <a:pt x="19639" y="9831"/>
                  <a:pt x="19660" y="9938"/>
                  <a:pt x="19670" y="10046"/>
                </a:cubicBezTo>
              </a:path>
              <a:path w="522" h="944">
                <a:moveTo>
                  <a:pt x="19521" y="9575"/>
                </a:moveTo>
                <a:cubicBezTo>
                  <a:pt x="19594" y="9569"/>
                  <a:pt x="20050" y="9531"/>
                  <a:pt x="19794" y="9723"/>
                </a:cubicBezTo>
                <a:cubicBezTo>
                  <a:pt x="19753" y="9740"/>
                  <a:pt x="19711" y="9756"/>
                  <a:pt x="19670" y="9773"/>
                </a:cubicBezTo>
                <a:cubicBezTo>
                  <a:pt x="19654" y="9781"/>
                  <a:pt x="19637" y="9790"/>
                  <a:pt x="19621" y="9798"/>
                </a:cubicBezTo>
                <a:cubicBezTo>
                  <a:pt x="19776" y="9775"/>
                  <a:pt x="19807" y="9770"/>
                  <a:pt x="19918" y="9872"/>
                </a:cubicBezTo>
                <a:cubicBezTo>
                  <a:pt x="19874" y="10050"/>
                  <a:pt x="19777" y="10057"/>
                  <a:pt x="19596" y="10021"/>
                </a:cubicBezTo>
                <a:cubicBezTo>
                  <a:pt x="19571" y="10013"/>
                  <a:pt x="19546" y="10004"/>
                  <a:pt x="19521" y="999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9" name=""/>
          <p:cNvSpPr/>
          <p:nvPr/>
        </p:nvSpPr>
        <p:spPr>
          <a:xfrm>
            <a:off x="7000920" y="5081760"/>
            <a:ext cx="268200" cy="268200"/>
          </a:xfrm>
          <a:custGeom>
            <a:avLst/>
            <a:gdLst/>
            <a:ahLst/>
            <a:rect l="l" t="t" r="r" b="b"/>
            <a:pathLst>
              <a:path w="745" h="745">
                <a:moveTo>
                  <a:pt x="19546" y="14163"/>
                </a:moveTo>
                <a:cubicBezTo>
                  <a:pt x="19588" y="14163"/>
                  <a:pt x="19584" y="14173"/>
                  <a:pt x="19596" y="14139"/>
                </a:cubicBezTo>
                <a:cubicBezTo>
                  <a:pt x="19554" y="14139"/>
                  <a:pt x="19418" y="14179"/>
                  <a:pt x="19447" y="14238"/>
                </a:cubicBezTo>
                <a:cubicBezTo>
                  <a:pt x="19513" y="14371"/>
                  <a:pt x="19667" y="14191"/>
                  <a:pt x="19621" y="14163"/>
                </a:cubicBezTo>
                <a:cubicBezTo>
                  <a:pt x="19504" y="14091"/>
                  <a:pt x="19522" y="14113"/>
                  <a:pt x="19447" y="14188"/>
                </a:cubicBezTo>
                <a:cubicBezTo>
                  <a:pt x="19546" y="14244"/>
                  <a:pt x="19650" y="14160"/>
                  <a:pt x="19546" y="14139"/>
                </a:cubicBezTo>
                <a:cubicBezTo>
                  <a:pt x="19529" y="14139"/>
                  <a:pt x="19513" y="14139"/>
                  <a:pt x="19496" y="14139"/>
                </a:cubicBezTo>
              </a:path>
              <a:path w="745" h="745">
                <a:moveTo>
                  <a:pt x="19893" y="14436"/>
                </a:moveTo>
                <a:cubicBezTo>
                  <a:pt x="19872" y="14531"/>
                  <a:pt x="19862" y="14768"/>
                  <a:pt x="19794" y="14833"/>
                </a:cubicBezTo>
                <a:cubicBezTo>
                  <a:pt x="19794" y="14825"/>
                  <a:pt x="19794" y="14816"/>
                  <a:pt x="19794" y="14808"/>
                </a:cubicBezTo>
              </a:path>
              <a:path w="745" h="745">
                <a:moveTo>
                  <a:pt x="19720" y="14337"/>
                </a:moveTo>
                <a:cubicBezTo>
                  <a:pt x="19789" y="14340"/>
                  <a:pt x="20232" y="14319"/>
                  <a:pt x="20042" y="14486"/>
                </a:cubicBezTo>
                <a:cubicBezTo>
                  <a:pt x="19966" y="14525"/>
                  <a:pt x="19951" y="14524"/>
                  <a:pt x="19918" y="14560"/>
                </a:cubicBezTo>
                <a:cubicBezTo>
                  <a:pt x="20084" y="14560"/>
                  <a:pt x="20116" y="14610"/>
                  <a:pt x="20191" y="14734"/>
                </a:cubicBezTo>
                <a:cubicBezTo>
                  <a:pt x="20009" y="14839"/>
                  <a:pt x="19888" y="14919"/>
                  <a:pt x="19745" y="1475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0" name=""/>
          <p:cNvSpPr/>
          <p:nvPr/>
        </p:nvSpPr>
        <p:spPr>
          <a:xfrm>
            <a:off x="3473280" y="3973680"/>
            <a:ext cx="2805120" cy="420480"/>
          </a:xfrm>
          <a:custGeom>
            <a:avLst/>
            <a:gdLst/>
            <a:ahLst/>
            <a:rect l="l" t="t" r="r" b="b"/>
            <a:pathLst>
              <a:path w="7790" h="1167">
                <a:moveTo>
                  <a:pt x="17016" y="11038"/>
                </a:moveTo>
                <a:cubicBezTo>
                  <a:pt x="17209" y="11063"/>
                  <a:pt x="17604" y="11124"/>
                  <a:pt x="17388" y="11435"/>
                </a:cubicBezTo>
                <a:cubicBezTo>
                  <a:pt x="17298" y="11564"/>
                  <a:pt x="17222" y="11567"/>
                  <a:pt x="17090" y="11584"/>
                </a:cubicBezTo>
              </a:path>
              <a:path w="7790" h="1167">
                <a:moveTo>
                  <a:pt x="9971" y="11311"/>
                </a:moveTo>
                <a:cubicBezTo>
                  <a:pt x="10153" y="11877"/>
                  <a:pt x="10231" y="12014"/>
                  <a:pt x="9649" y="1220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1" name=""/>
          <p:cNvSpPr/>
          <p:nvPr/>
        </p:nvSpPr>
        <p:spPr>
          <a:xfrm>
            <a:off x="554040" y="4170240"/>
            <a:ext cx="152280" cy="214560"/>
          </a:xfrm>
          <a:custGeom>
            <a:avLst/>
            <a:gdLst/>
            <a:ahLst/>
            <a:rect l="l" t="t" r="r" b="b"/>
            <a:pathLst>
              <a:path w="423" h="596">
                <a:moveTo>
                  <a:pt x="1811" y="11633"/>
                </a:moveTo>
                <a:cubicBezTo>
                  <a:pt x="1811" y="11707"/>
                  <a:pt x="1753" y="11465"/>
                  <a:pt x="1662" y="11584"/>
                </a:cubicBezTo>
                <a:cubicBezTo>
                  <a:pt x="1521" y="11770"/>
                  <a:pt x="1433" y="12257"/>
                  <a:pt x="1811" y="12179"/>
                </a:cubicBezTo>
                <a:cubicBezTo>
                  <a:pt x="2047" y="12130"/>
                  <a:pt x="1874" y="12109"/>
                  <a:pt x="1960" y="1208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2" name=""/>
          <p:cNvSpPr/>
          <p:nvPr/>
        </p:nvSpPr>
        <p:spPr>
          <a:xfrm>
            <a:off x="928800" y="4037040"/>
            <a:ext cx="268200" cy="374760"/>
          </a:xfrm>
          <a:custGeom>
            <a:avLst/>
            <a:gdLst/>
            <a:ahLst/>
            <a:rect l="l" t="t" r="r" b="b"/>
            <a:pathLst>
              <a:path w="745" h="1043">
                <a:moveTo>
                  <a:pt x="2679" y="11212"/>
                </a:moveTo>
                <a:cubicBezTo>
                  <a:pt x="2573" y="11388"/>
                  <a:pt x="2550" y="11743"/>
                  <a:pt x="2580" y="11956"/>
                </a:cubicBezTo>
                <a:cubicBezTo>
                  <a:pt x="2595" y="12063"/>
                  <a:pt x="2694" y="12227"/>
                  <a:pt x="2803" y="12254"/>
                </a:cubicBezTo>
              </a:path>
              <a:path w="745" h="1043">
                <a:moveTo>
                  <a:pt x="2927" y="11410"/>
                </a:moveTo>
                <a:cubicBezTo>
                  <a:pt x="2908" y="11502"/>
                  <a:pt x="2886" y="11591"/>
                  <a:pt x="2877" y="11683"/>
                </a:cubicBezTo>
                <a:cubicBezTo>
                  <a:pt x="3004" y="11669"/>
                  <a:pt x="3121" y="11658"/>
                  <a:pt x="3249" y="11658"/>
                </a:cubicBezTo>
              </a:path>
              <a:path w="745" h="1043">
                <a:moveTo>
                  <a:pt x="3200" y="11261"/>
                </a:moveTo>
                <a:cubicBezTo>
                  <a:pt x="3257" y="11478"/>
                  <a:pt x="3246" y="11710"/>
                  <a:pt x="3299" y="11931"/>
                </a:cubicBezTo>
                <a:cubicBezTo>
                  <a:pt x="3307" y="11948"/>
                  <a:pt x="3316" y="11964"/>
                  <a:pt x="3324" y="1198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3" name=""/>
          <p:cNvSpPr/>
          <p:nvPr/>
        </p:nvSpPr>
        <p:spPr>
          <a:xfrm>
            <a:off x="1401840" y="4037040"/>
            <a:ext cx="162000" cy="338040"/>
          </a:xfrm>
          <a:custGeom>
            <a:avLst/>
            <a:gdLst/>
            <a:ahLst/>
            <a:rect l="l" t="t" r="r" b="b"/>
            <a:pathLst>
              <a:path w="448" h="943">
                <a:moveTo>
                  <a:pt x="3894" y="11509"/>
                </a:moveTo>
                <a:cubicBezTo>
                  <a:pt x="3894" y="11670"/>
                  <a:pt x="3902" y="11824"/>
                  <a:pt x="3944" y="11981"/>
                </a:cubicBezTo>
                <a:cubicBezTo>
                  <a:pt x="3944" y="11973"/>
                  <a:pt x="3944" y="11964"/>
                  <a:pt x="3944" y="11956"/>
                </a:cubicBezTo>
              </a:path>
              <a:path w="448" h="943">
                <a:moveTo>
                  <a:pt x="3994" y="11212"/>
                </a:moveTo>
                <a:cubicBezTo>
                  <a:pt x="4197" y="11466"/>
                  <a:pt x="4504" y="11736"/>
                  <a:pt x="4266" y="12080"/>
                </a:cubicBezTo>
                <a:cubicBezTo>
                  <a:pt x="4174" y="12149"/>
                  <a:pt x="4141" y="12182"/>
                  <a:pt x="4167" y="1205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4" name=""/>
          <p:cNvSpPr/>
          <p:nvPr/>
        </p:nvSpPr>
        <p:spPr>
          <a:xfrm>
            <a:off x="2295360" y="4044960"/>
            <a:ext cx="339840" cy="339840"/>
          </a:xfrm>
          <a:custGeom>
            <a:avLst/>
            <a:gdLst/>
            <a:ahLst/>
            <a:rect l="l" t="t" r="r" b="b"/>
            <a:pathLst>
              <a:path w="943" h="943">
                <a:moveTo>
                  <a:pt x="6846" y="11559"/>
                </a:moveTo>
                <a:cubicBezTo>
                  <a:pt x="6827" y="11446"/>
                  <a:pt x="6807" y="11459"/>
                  <a:pt x="6722" y="11361"/>
                </a:cubicBezTo>
                <a:cubicBezTo>
                  <a:pt x="6623" y="11446"/>
                  <a:pt x="6087" y="12067"/>
                  <a:pt x="6499" y="12179"/>
                </a:cubicBezTo>
                <a:cubicBezTo>
                  <a:pt x="6688" y="12231"/>
                  <a:pt x="6951" y="12076"/>
                  <a:pt x="7094" y="11981"/>
                </a:cubicBezTo>
              </a:path>
              <a:path w="943" h="943">
                <a:moveTo>
                  <a:pt x="7317" y="11237"/>
                </a:moveTo>
                <a:cubicBezTo>
                  <a:pt x="7299" y="11388"/>
                  <a:pt x="7293" y="11530"/>
                  <a:pt x="7293" y="11683"/>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5" name=""/>
          <p:cNvSpPr/>
          <p:nvPr/>
        </p:nvSpPr>
        <p:spPr>
          <a:xfrm>
            <a:off x="2795760" y="4017960"/>
            <a:ext cx="276120" cy="403200"/>
          </a:xfrm>
          <a:custGeom>
            <a:avLst/>
            <a:gdLst/>
            <a:ahLst/>
            <a:rect l="l" t="t" r="r" b="b"/>
            <a:pathLst>
              <a:path w="770" h="1117">
                <a:moveTo>
                  <a:pt x="8086" y="11162"/>
                </a:moveTo>
                <a:cubicBezTo>
                  <a:pt x="7880" y="11438"/>
                  <a:pt x="7708" y="11768"/>
                  <a:pt x="7813" y="12129"/>
                </a:cubicBezTo>
                <a:cubicBezTo>
                  <a:pt x="7882" y="12368"/>
                  <a:pt x="7959" y="12276"/>
                  <a:pt x="7987" y="12129"/>
                </a:cubicBezTo>
              </a:path>
              <a:path w="770" h="1117">
                <a:moveTo>
                  <a:pt x="8210" y="11683"/>
                </a:moveTo>
                <a:cubicBezTo>
                  <a:pt x="8187" y="11736"/>
                  <a:pt x="8149" y="11804"/>
                  <a:pt x="8136" y="11857"/>
                </a:cubicBezTo>
                <a:cubicBezTo>
                  <a:pt x="8284" y="11835"/>
                  <a:pt x="8385" y="11838"/>
                  <a:pt x="8533" y="11857"/>
                </a:cubicBezTo>
              </a:path>
              <a:path w="770" h="1117">
                <a:moveTo>
                  <a:pt x="8533" y="11336"/>
                </a:moveTo>
                <a:cubicBezTo>
                  <a:pt x="8525" y="11622"/>
                  <a:pt x="8486" y="11896"/>
                  <a:pt x="8458" y="12179"/>
                </a:cubicBezTo>
                <a:cubicBezTo>
                  <a:pt x="8458" y="12237"/>
                  <a:pt x="8458" y="12245"/>
                  <a:pt x="8458" y="1227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6" name=""/>
          <p:cNvSpPr/>
          <p:nvPr/>
        </p:nvSpPr>
        <p:spPr>
          <a:xfrm>
            <a:off x="3276720" y="4062240"/>
            <a:ext cx="233280" cy="250920"/>
          </a:xfrm>
          <a:custGeom>
            <a:avLst/>
            <a:gdLst/>
            <a:ahLst/>
            <a:rect l="l" t="t" r="r" b="b"/>
            <a:pathLst>
              <a:path w="646" h="696">
                <a:moveTo>
                  <a:pt x="9103" y="11683"/>
                </a:moveTo>
                <a:cubicBezTo>
                  <a:pt x="9216" y="11683"/>
                  <a:pt x="9315" y="11691"/>
                  <a:pt x="9426" y="11683"/>
                </a:cubicBezTo>
                <a:cubicBezTo>
                  <a:pt x="9485" y="11683"/>
                  <a:pt x="9511" y="11680"/>
                  <a:pt x="9550" y="11658"/>
                </a:cubicBezTo>
              </a:path>
              <a:path w="646" h="696">
                <a:moveTo>
                  <a:pt x="9723" y="11286"/>
                </a:moveTo>
                <a:cubicBezTo>
                  <a:pt x="9697" y="11518"/>
                  <a:pt x="9504" y="12108"/>
                  <a:pt x="9699" y="11981"/>
                </a:cubicBezTo>
                <a:cubicBezTo>
                  <a:pt x="9715" y="11948"/>
                  <a:pt x="9732" y="11914"/>
                  <a:pt x="9748" y="1188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7" name=""/>
          <p:cNvSpPr/>
          <p:nvPr/>
        </p:nvSpPr>
        <p:spPr>
          <a:xfrm>
            <a:off x="3178080" y="4348080"/>
            <a:ext cx="4662720" cy="930240"/>
          </a:xfrm>
          <a:custGeom>
            <a:avLst/>
            <a:gdLst/>
            <a:ahLst/>
            <a:rect l="l" t="t" r="r" b="b"/>
            <a:pathLst>
              <a:path w="12950" h="2581">
                <a:moveTo>
                  <a:pt x="14684" y="14660"/>
                </a:moveTo>
                <a:cubicBezTo>
                  <a:pt x="14802" y="14640"/>
                  <a:pt x="14823" y="14646"/>
                  <a:pt x="14883" y="14610"/>
                </a:cubicBezTo>
              </a:path>
              <a:path w="12950" h="2581">
                <a:moveTo>
                  <a:pt x="15056" y="14263"/>
                </a:moveTo>
                <a:cubicBezTo>
                  <a:pt x="15056" y="14388"/>
                  <a:pt x="15056" y="14430"/>
                  <a:pt x="15032" y="14511"/>
                </a:cubicBezTo>
              </a:path>
              <a:path w="12950" h="2581">
                <a:moveTo>
                  <a:pt x="8905" y="12080"/>
                </a:moveTo>
                <a:cubicBezTo>
                  <a:pt x="8890" y="12161"/>
                  <a:pt x="8861" y="12312"/>
                  <a:pt x="8830" y="12353"/>
                </a:cubicBezTo>
              </a:path>
              <a:path w="12950" h="2581">
                <a:moveTo>
                  <a:pt x="18802" y="12626"/>
                </a:moveTo>
                <a:lnTo>
                  <a:pt x="18802" y="12626"/>
                </a:lnTo>
              </a:path>
              <a:path w="12950" h="2581">
                <a:moveTo>
                  <a:pt x="18802" y="12626"/>
                </a:moveTo>
                <a:lnTo>
                  <a:pt x="18802" y="12626"/>
                </a:lnTo>
              </a:path>
              <a:path w="12950" h="2581">
                <a:moveTo>
                  <a:pt x="21779" y="12750"/>
                </a:moveTo>
                <a:cubicBezTo>
                  <a:pt x="21774" y="12841"/>
                  <a:pt x="21767" y="12909"/>
                  <a:pt x="21754" y="12998"/>
                </a:cubicBezTo>
              </a:path>
              <a:path w="12950" h="2581">
                <a:moveTo>
                  <a:pt x="9227" y="13543"/>
                </a:moveTo>
                <a:cubicBezTo>
                  <a:pt x="9255" y="13787"/>
                  <a:pt x="9281" y="13912"/>
                  <a:pt x="9103" y="14089"/>
                </a:cubicBezTo>
              </a:path>
              <a:path w="12950" h="2581">
                <a:moveTo>
                  <a:pt x="10096" y="12874"/>
                </a:moveTo>
                <a:cubicBezTo>
                  <a:pt x="10355" y="13305"/>
                  <a:pt x="10500" y="13490"/>
                  <a:pt x="10195" y="13915"/>
                </a:cubicBezTo>
              </a:path>
              <a:path w="12950" h="2581">
                <a:moveTo>
                  <a:pt x="17041" y="12923"/>
                </a:moveTo>
                <a:cubicBezTo>
                  <a:pt x="17243" y="13037"/>
                  <a:pt x="17465" y="13192"/>
                  <a:pt x="17140" y="13370"/>
                </a:cubicBezTo>
                <a:cubicBezTo>
                  <a:pt x="17028" y="13393"/>
                  <a:pt x="16997" y="13408"/>
                  <a:pt x="16942" y="13345"/>
                </a:cubicBezTo>
              </a:path>
              <a:path w="12950" h="2581">
                <a:moveTo>
                  <a:pt x="16966" y="12700"/>
                </a:moveTo>
                <a:cubicBezTo>
                  <a:pt x="16958" y="12700"/>
                  <a:pt x="16950" y="12700"/>
                  <a:pt x="16942" y="12700"/>
                </a:cubicBezTo>
              </a:path>
              <a:path w="12950" h="2581">
                <a:moveTo>
                  <a:pt x="16942" y="12700"/>
                </a:moveTo>
                <a:lnTo>
                  <a:pt x="16942" y="12700"/>
                </a:ln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8" name=""/>
          <p:cNvSpPr/>
          <p:nvPr/>
        </p:nvSpPr>
        <p:spPr>
          <a:xfrm>
            <a:off x="561960" y="4606920"/>
            <a:ext cx="3009960" cy="430200"/>
          </a:xfrm>
          <a:custGeom>
            <a:avLst/>
            <a:gdLst/>
            <a:ahLst/>
            <a:rect l="l" t="t" r="r" b="b"/>
            <a:pathLst>
              <a:path w="8360" h="1192">
                <a:moveTo>
                  <a:pt x="1761" y="13122"/>
                </a:moveTo>
                <a:cubicBezTo>
                  <a:pt x="1809" y="13382"/>
                  <a:pt x="1831" y="13652"/>
                  <a:pt x="1860" y="13915"/>
                </a:cubicBezTo>
                <a:cubicBezTo>
                  <a:pt x="1860" y="13899"/>
                  <a:pt x="1860" y="13882"/>
                  <a:pt x="1860" y="13866"/>
                </a:cubicBezTo>
              </a:path>
              <a:path w="8360" h="1192">
                <a:moveTo>
                  <a:pt x="1563" y="13097"/>
                </a:moveTo>
                <a:cubicBezTo>
                  <a:pt x="1918" y="13188"/>
                  <a:pt x="2428" y="13326"/>
                  <a:pt x="2183" y="13816"/>
                </a:cubicBezTo>
                <a:cubicBezTo>
                  <a:pt x="2085" y="14012"/>
                  <a:pt x="1976" y="14007"/>
                  <a:pt x="1885" y="13915"/>
                </a:cubicBezTo>
              </a:path>
              <a:path w="8360" h="1192">
                <a:moveTo>
                  <a:pt x="2952" y="13047"/>
                </a:moveTo>
                <a:cubicBezTo>
                  <a:pt x="2930" y="13303"/>
                  <a:pt x="2827" y="13647"/>
                  <a:pt x="2977" y="13891"/>
                </a:cubicBezTo>
                <a:cubicBezTo>
                  <a:pt x="3075" y="14051"/>
                  <a:pt x="3118" y="13969"/>
                  <a:pt x="3175" y="13891"/>
                </a:cubicBezTo>
              </a:path>
              <a:path w="8360" h="1192">
                <a:moveTo>
                  <a:pt x="3274" y="13469"/>
                </a:moveTo>
                <a:cubicBezTo>
                  <a:pt x="3374" y="13462"/>
                  <a:pt x="3471" y="13444"/>
                  <a:pt x="3572" y="13444"/>
                </a:cubicBezTo>
              </a:path>
              <a:path w="8360" h="1192">
                <a:moveTo>
                  <a:pt x="3770" y="13072"/>
                </a:moveTo>
                <a:cubicBezTo>
                  <a:pt x="3770" y="13252"/>
                  <a:pt x="3830" y="13442"/>
                  <a:pt x="3870" y="13618"/>
                </a:cubicBezTo>
                <a:cubicBezTo>
                  <a:pt x="3878" y="13643"/>
                  <a:pt x="3886" y="13667"/>
                  <a:pt x="3894" y="13692"/>
                </a:cubicBezTo>
              </a:path>
              <a:path w="8360" h="1192">
                <a:moveTo>
                  <a:pt x="4242" y="13717"/>
                </a:moveTo>
                <a:cubicBezTo>
                  <a:pt x="4242" y="13800"/>
                  <a:pt x="4242" y="13998"/>
                  <a:pt x="4242" y="13915"/>
                </a:cubicBezTo>
              </a:path>
              <a:path w="8360" h="1192">
                <a:moveTo>
                  <a:pt x="4390" y="13072"/>
                </a:moveTo>
                <a:cubicBezTo>
                  <a:pt x="4399" y="13110"/>
                  <a:pt x="4536" y="13724"/>
                  <a:pt x="4564" y="13717"/>
                </a:cubicBezTo>
                <a:cubicBezTo>
                  <a:pt x="4564" y="13700"/>
                  <a:pt x="4564" y="13684"/>
                  <a:pt x="4564" y="13667"/>
                </a:cubicBezTo>
              </a:path>
              <a:path w="8360" h="1192">
                <a:moveTo>
                  <a:pt x="4589" y="12898"/>
                </a:moveTo>
                <a:cubicBezTo>
                  <a:pt x="4824" y="13151"/>
                  <a:pt x="5046" y="13410"/>
                  <a:pt x="4936" y="13791"/>
                </a:cubicBezTo>
                <a:cubicBezTo>
                  <a:pt x="4918" y="13853"/>
                  <a:pt x="4856" y="13927"/>
                  <a:pt x="4837" y="13891"/>
                </a:cubicBezTo>
              </a:path>
              <a:path w="8360" h="1192">
                <a:moveTo>
                  <a:pt x="6623" y="13146"/>
                </a:moveTo>
                <a:cubicBezTo>
                  <a:pt x="6634" y="13254"/>
                  <a:pt x="6726" y="13695"/>
                  <a:pt x="6648" y="13643"/>
                </a:cubicBezTo>
              </a:path>
              <a:path w="8360" h="1192">
                <a:moveTo>
                  <a:pt x="6176" y="12973"/>
                </a:moveTo>
                <a:cubicBezTo>
                  <a:pt x="6439" y="12868"/>
                  <a:pt x="6885" y="12765"/>
                  <a:pt x="6995" y="13171"/>
                </a:cubicBezTo>
                <a:cubicBezTo>
                  <a:pt x="7041" y="13341"/>
                  <a:pt x="6874" y="13649"/>
                  <a:pt x="6672" y="13643"/>
                </a:cubicBezTo>
                <a:cubicBezTo>
                  <a:pt x="6567" y="13572"/>
                  <a:pt x="6561" y="13524"/>
                  <a:pt x="6697" y="13419"/>
                </a:cubicBezTo>
              </a:path>
              <a:path w="8360" h="1192">
                <a:moveTo>
                  <a:pt x="7268" y="12799"/>
                </a:moveTo>
                <a:cubicBezTo>
                  <a:pt x="7268" y="12905"/>
                  <a:pt x="7271" y="12995"/>
                  <a:pt x="7293" y="13097"/>
                </a:cubicBezTo>
              </a:path>
              <a:path w="8360" h="1192">
                <a:moveTo>
                  <a:pt x="8037" y="13196"/>
                </a:moveTo>
                <a:cubicBezTo>
                  <a:pt x="8056" y="13439"/>
                  <a:pt x="7992" y="13708"/>
                  <a:pt x="8260" y="13841"/>
                </a:cubicBezTo>
                <a:cubicBezTo>
                  <a:pt x="8268" y="13841"/>
                  <a:pt x="8277" y="13841"/>
                  <a:pt x="8285" y="13841"/>
                </a:cubicBezTo>
              </a:path>
              <a:path w="8360" h="1192">
                <a:moveTo>
                  <a:pt x="8458" y="13444"/>
                </a:moveTo>
                <a:cubicBezTo>
                  <a:pt x="8552" y="13444"/>
                  <a:pt x="8620" y="13451"/>
                  <a:pt x="8706" y="13469"/>
                </a:cubicBezTo>
              </a:path>
              <a:path w="8360" h="1192">
                <a:moveTo>
                  <a:pt x="8905" y="13097"/>
                </a:moveTo>
                <a:cubicBezTo>
                  <a:pt x="8905" y="13233"/>
                  <a:pt x="8922" y="13360"/>
                  <a:pt x="8930" y="13494"/>
                </a:cubicBezTo>
                <a:cubicBezTo>
                  <a:pt x="8930" y="13577"/>
                  <a:pt x="8930" y="13593"/>
                  <a:pt x="8930" y="13643"/>
                </a:cubicBezTo>
              </a:path>
              <a:path w="8360" h="1192">
                <a:moveTo>
                  <a:pt x="9525" y="13370"/>
                </a:moveTo>
                <a:cubicBezTo>
                  <a:pt x="9634" y="13370"/>
                  <a:pt x="9706" y="13373"/>
                  <a:pt x="9798" y="13320"/>
                </a:cubicBezTo>
              </a:path>
              <a:path w="8360" h="1192">
                <a:moveTo>
                  <a:pt x="9847" y="13022"/>
                </a:moveTo>
                <a:cubicBezTo>
                  <a:pt x="9880" y="13236"/>
                  <a:pt x="9908" y="13451"/>
                  <a:pt x="9922" y="1366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9" name=""/>
          <p:cNvSpPr/>
          <p:nvPr/>
        </p:nvSpPr>
        <p:spPr>
          <a:xfrm>
            <a:off x="5510160" y="4510080"/>
            <a:ext cx="2268720" cy="642960"/>
          </a:xfrm>
          <a:custGeom>
            <a:avLst/>
            <a:gdLst/>
            <a:ahLst/>
            <a:rect l="l" t="t" r="r" b="b"/>
            <a:pathLst>
              <a:path w="6302" h="1787">
                <a:moveTo>
                  <a:pt x="18777" y="12576"/>
                </a:moveTo>
                <a:cubicBezTo>
                  <a:pt x="18777" y="12619"/>
                  <a:pt x="18767" y="12614"/>
                  <a:pt x="18802" y="12626"/>
                </a:cubicBezTo>
              </a:path>
              <a:path w="6302" h="1787">
                <a:moveTo>
                  <a:pt x="21233" y="12551"/>
                </a:moveTo>
                <a:cubicBezTo>
                  <a:pt x="21260" y="12510"/>
                  <a:pt x="21182" y="12497"/>
                  <a:pt x="21134" y="12526"/>
                </a:cubicBezTo>
                <a:cubicBezTo>
                  <a:pt x="21028" y="12590"/>
                  <a:pt x="21030" y="12621"/>
                  <a:pt x="21084" y="12675"/>
                </a:cubicBezTo>
                <a:cubicBezTo>
                  <a:pt x="21124" y="12668"/>
                  <a:pt x="21299" y="12627"/>
                  <a:pt x="21208" y="12551"/>
                </a:cubicBezTo>
                <a:cubicBezTo>
                  <a:pt x="21106" y="12466"/>
                  <a:pt x="21058" y="12662"/>
                  <a:pt x="21084" y="12675"/>
                </a:cubicBezTo>
                <a:cubicBezTo>
                  <a:pt x="21109" y="12675"/>
                  <a:pt x="21133" y="12675"/>
                  <a:pt x="21158" y="12675"/>
                </a:cubicBezTo>
                <a:cubicBezTo>
                  <a:pt x="21178" y="12622"/>
                  <a:pt x="21188" y="12518"/>
                  <a:pt x="21134" y="12601"/>
                </a:cubicBezTo>
              </a:path>
              <a:path w="6302" h="1787">
                <a:moveTo>
                  <a:pt x="21357" y="13072"/>
                </a:moveTo>
                <a:cubicBezTo>
                  <a:pt x="21425" y="13072"/>
                  <a:pt x="21396" y="13086"/>
                  <a:pt x="21406" y="12998"/>
                </a:cubicBezTo>
                <a:cubicBezTo>
                  <a:pt x="21291" y="13031"/>
                  <a:pt x="21110" y="13171"/>
                  <a:pt x="21158" y="13320"/>
                </a:cubicBezTo>
                <a:cubicBezTo>
                  <a:pt x="21234" y="13556"/>
                  <a:pt x="21507" y="13418"/>
                  <a:pt x="21605" y="13320"/>
                </a:cubicBezTo>
              </a:path>
              <a:path w="6302" h="1787">
                <a:moveTo>
                  <a:pt x="15379" y="14213"/>
                </a:moveTo>
                <a:cubicBezTo>
                  <a:pt x="15379" y="14238"/>
                  <a:pt x="15379" y="14263"/>
                  <a:pt x="15379" y="14288"/>
                </a:cubicBezTo>
                <a:cubicBezTo>
                  <a:pt x="15529" y="14293"/>
                  <a:pt x="15625" y="14288"/>
                  <a:pt x="15776" y="14263"/>
                </a:cubicBezTo>
                <a:cubicBezTo>
                  <a:pt x="15957" y="14233"/>
                  <a:pt x="16139" y="14200"/>
                  <a:pt x="16321" y="14188"/>
                </a:cubicBezTo>
                <a:cubicBezTo>
                  <a:pt x="16482" y="14177"/>
                  <a:pt x="16637" y="14205"/>
                  <a:pt x="16793" y="14213"/>
                </a:cubicBezTo>
                <a:cubicBezTo>
                  <a:pt x="17506" y="14251"/>
                  <a:pt x="18242" y="14221"/>
                  <a:pt x="18951" y="14188"/>
                </a:cubicBezTo>
                <a:cubicBezTo>
                  <a:pt x="19085" y="14182"/>
                  <a:pt x="19215" y="14170"/>
                  <a:pt x="19348" y="14163"/>
                </a:cubicBezTo>
                <a:cubicBezTo>
                  <a:pt x="19445" y="14158"/>
                  <a:pt x="19495" y="14179"/>
                  <a:pt x="19571" y="14114"/>
                </a:cubicBezTo>
                <a:cubicBezTo>
                  <a:pt x="19664" y="14034"/>
                  <a:pt x="19689" y="13925"/>
                  <a:pt x="19769" y="13841"/>
                </a:cubicBezTo>
                <a:cubicBezTo>
                  <a:pt x="19860" y="13745"/>
                  <a:pt x="19982" y="13675"/>
                  <a:pt x="20067" y="13568"/>
                </a:cubicBezTo>
                <a:cubicBezTo>
                  <a:pt x="20150" y="13463"/>
                  <a:pt x="20219" y="13389"/>
                  <a:pt x="20315" y="13295"/>
                </a:cubicBezTo>
                <a:cubicBezTo>
                  <a:pt x="20384" y="13228"/>
                  <a:pt x="20453" y="13165"/>
                  <a:pt x="20513" y="13097"/>
                </a:cubicBezTo>
                <a:cubicBezTo>
                  <a:pt x="20570" y="13032"/>
                  <a:pt x="20622" y="12947"/>
                  <a:pt x="20687" y="12898"/>
                </a:cubicBezTo>
                <a:cubicBezTo>
                  <a:pt x="20734" y="12862"/>
                  <a:pt x="20788" y="12836"/>
                  <a:pt x="20836" y="12799"/>
                </a:cubicBezTo>
                <a:cubicBezTo>
                  <a:pt x="20906" y="12745"/>
                  <a:pt x="20990" y="12704"/>
                  <a:pt x="21059" y="12650"/>
                </a:cubicBezTo>
                <a:cubicBezTo>
                  <a:pt x="21082" y="12632"/>
                  <a:pt x="21118" y="12616"/>
                  <a:pt x="21134" y="12601"/>
                </a:cubicBezTo>
                <a:cubicBezTo>
                  <a:pt x="21148" y="12588"/>
                  <a:pt x="21171" y="12564"/>
                  <a:pt x="21183" y="12551"/>
                </a:cubicBezTo>
                <a:cubicBezTo>
                  <a:pt x="21205" y="12527"/>
                  <a:pt x="21127" y="12554"/>
                  <a:pt x="21109" y="12526"/>
                </a:cubicBezTo>
              </a:path>
              <a:path w="6302" h="1787">
                <a:moveTo>
                  <a:pt x="16966" y="12675"/>
                </a:moveTo>
                <a:cubicBezTo>
                  <a:pt x="17002" y="12666"/>
                  <a:pt x="17012" y="12654"/>
                  <a:pt x="17041" y="12626"/>
                </a:cubicBezTo>
                <a:cubicBezTo>
                  <a:pt x="17006" y="12640"/>
                  <a:pt x="16859" y="12735"/>
                  <a:pt x="17016" y="12700"/>
                </a:cubicBezTo>
                <a:cubicBezTo>
                  <a:pt x="17071" y="12672"/>
                  <a:pt x="17088" y="12658"/>
                  <a:pt x="17066" y="12601"/>
                </a:cubicBezTo>
                <a:cubicBezTo>
                  <a:pt x="17012" y="12601"/>
                  <a:pt x="16984" y="12604"/>
                  <a:pt x="16942" y="12626"/>
                </a:cubicBezTo>
              </a:path>
              <a:path w="6302" h="1787">
                <a:moveTo>
                  <a:pt x="17041" y="13022"/>
                </a:moveTo>
                <a:cubicBezTo>
                  <a:pt x="17041" y="13081"/>
                  <a:pt x="17041" y="13569"/>
                  <a:pt x="17041" y="13370"/>
                </a:cubicBezTo>
              </a:path>
              <a:path w="6302" h="1787">
                <a:moveTo>
                  <a:pt x="16942" y="12700"/>
                </a:moveTo>
                <a:cubicBezTo>
                  <a:pt x="16926" y="12716"/>
                  <a:pt x="16901" y="12750"/>
                  <a:pt x="16867" y="12774"/>
                </a:cubicBezTo>
                <a:cubicBezTo>
                  <a:pt x="16827" y="12802"/>
                  <a:pt x="16785" y="12817"/>
                  <a:pt x="16743" y="12849"/>
                </a:cubicBezTo>
                <a:cubicBezTo>
                  <a:pt x="16695" y="12886"/>
                  <a:pt x="16681" y="12906"/>
                  <a:pt x="16644" y="12948"/>
                </a:cubicBezTo>
                <a:cubicBezTo>
                  <a:pt x="16597" y="13001"/>
                  <a:pt x="16548" y="13072"/>
                  <a:pt x="16495" y="13122"/>
                </a:cubicBezTo>
                <a:cubicBezTo>
                  <a:pt x="16430" y="13183"/>
                  <a:pt x="16364" y="13253"/>
                  <a:pt x="16297" y="13320"/>
                </a:cubicBezTo>
                <a:cubicBezTo>
                  <a:pt x="16226" y="13391"/>
                  <a:pt x="16148" y="13432"/>
                  <a:pt x="16073" y="13494"/>
                </a:cubicBezTo>
                <a:cubicBezTo>
                  <a:pt x="15990" y="13563"/>
                  <a:pt x="15895" y="13591"/>
                  <a:pt x="15801" y="13643"/>
                </a:cubicBezTo>
                <a:cubicBezTo>
                  <a:pt x="15733" y="13681"/>
                  <a:pt x="15690" y="13746"/>
                  <a:pt x="15627" y="13791"/>
                </a:cubicBezTo>
                <a:cubicBezTo>
                  <a:pt x="15567" y="13834"/>
                  <a:pt x="15557" y="13835"/>
                  <a:pt x="15503" y="13891"/>
                </a:cubicBezTo>
                <a:cubicBezTo>
                  <a:pt x="15468" y="13928"/>
                  <a:pt x="15416" y="13983"/>
                  <a:pt x="15379" y="14039"/>
                </a:cubicBezTo>
                <a:cubicBezTo>
                  <a:pt x="15354" y="14077"/>
                  <a:pt x="15319" y="14121"/>
                  <a:pt x="15304" y="14139"/>
                </a:cubicBezTo>
                <a:cubicBezTo>
                  <a:pt x="15342" y="14070"/>
                  <a:pt x="15353" y="14039"/>
                  <a:pt x="15379" y="1396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40" name=""/>
          <p:cNvSpPr/>
          <p:nvPr/>
        </p:nvSpPr>
        <p:spPr>
          <a:xfrm>
            <a:off x="5249880" y="4500720"/>
            <a:ext cx="2403360" cy="849240"/>
          </a:xfrm>
          <a:custGeom>
            <a:avLst/>
            <a:gdLst/>
            <a:ahLst/>
            <a:rect l="l" t="t" r="r" b="b"/>
            <a:pathLst>
              <a:path w="6674" h="2357">
                <a:moveTo>
                  <a:pt x="15354" y="14139"/>
                </a:moveTo>
                <a:cubicBezTo>
                  <a:pt x="15318" y="14066"/>
                  <a:pt x="15301" y="14252"/>
                  <a:pt x="15304" y="14288"/>
                </a:cubicBezTo>
                <a:cubicBezTo>
                  <a:pt x="15359" y="14288"/>
                  <a:pt x="15627" y="14191"/>
                  <a:pt x="15453" y="14139"/>
                </a:cubicBezTo>
                <a:cubicBezTo>
                  <a:pt x="15361" y="14112"/>
                  <a:pt x="15360" y="14176"/>
                  <a:pt x="15329" y="14238"/>
                </a:cubicBezTo>
                <a:cubicBezTo>
                  <a:pt x="15448" y="14238"/>
                  <a:pt x="15472" y="14202"/>
                  <a:pt x="15354" y="14163"/>
                </a:cubicBezTo>
              </a:path>
              <a:path w="6674" h="2357">
                <a:moveTo>
                  <a:pt x="14709" y="14461"/>
                </a:moveTo>
                <a:cubicBezTo>
                  <a:pt x="14664" y="14602"/>
                  <a:pt x="14631" y="14973"/>
                  <a:pt x="14585" y="14833"/>
                </a:cubicBezTo>
                <a:cubicBezTo>
                  <a:pt x="14585" y="14825"/>
                  <a:pt x="14585" y="14816"/>
                  <a:pt x="14585" y="14808"/>
                </a:cubicBezTo>
                <a:cubicBezTo>
                  <a:pt x="14643" y="14619"/>
                  <a:pt x="14684" y="14387"/>
                  <a:pt x="14833" y="14263"/>
                </a:cubicBezTo>
                <a:cubicBezTo>
                  <a:pt x="14909" y="14463"/>
                  <a:pt x="14930" y="14595"/>
                  <a:pt x="14858" y="14808"/>
                </a:cubicBezTo>
              </a:path>
              <a:path w="6674" h="2357">
                <a:moveTo>
                  <a:pt x="17512" y="12774"/>
                </a:moveTo>
                <a:cubicBezTo>
                  <a:pt x="17526" y="12875"/>
                  <a:pt x="17528" y="12879"/>
                  <a:pt x="17512" y="12973"/>
                </a:cubicBezTo>
              </a:path>
              <a:path w="6674" h="2357">
                <a:moveTo>
                  <a:pt x="17066" y="12650"/>
                </a:moveTo>
                <a:cubicBezTo>
                  <a:pt x="17175" y="12638"/>
                  <a:pt x="17277" y="12628"/>
                  <a:pt x="17388" y="12626"/>
                </a:cubicBezTo>
                <a:cubicBezTo>
                  <a:pt x="17637" y="12622"/>
                  <a:pt x="17881" y="12601"/>
                  <a:pt x="18132" y="12601"/>
                </a:cubicBezTo>
                <a:cubicBezTo>
                  <a:pt x="18358" y="12601"/>
                  <a:pt x="18578" y="12590"/>
                  <a:pt x="18802" y="12576"/>
                </a:cubicBezTo>
                <a:cubicBezTo>
                  <a:pt x="18993" y="12564"/>
                  <a:pt x="19183" y="12565"/>
                  <a:pt x="19372" y="12551"/>
                </a:cubicBezTo>
                <a:cubicBezTo>
                  <a:pt x="19573" y="12536"/>
                  <a:pt x="19772" y="12562"/>
                  <a:pt x="19968" y="12576"/>
                </a:cubicBezTo>
                <a:cubicBezTo>
                  <a:pt x="20129" y="12588"/>
                  <a:pt x="20284" y="12568"/>
                  <a:pt x="20439" y="12551"/>
                </a:cubicBezTo>
                <a:cubicBezTo>
                  <a:pt x="20570" y="12537"/>
                  <a:pt x="20706" y="12539"/>
                  <a:pt x="20836" y="12526"/>
                </a:cubicBezTo>
                <a:cubicBezTo>
                  <a:pt x="20931" y="12516"/>
                  <a:pt x="21236" y="12527"/>
                  <a:pt x="21233" y="12526"/>
                </a:cubicBezTo>
                <a:cubicBezTo>
                  <a:pt x="21192" y="12518"/>
                  <a:pt x="21150" y="12510"/>
                  <a:pt x="21109" y="1250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41" name=""/>
          <p:cNvSpPr/>
          <p:nvPr/>
        </p:nvSpPr>
        <p:spPr>
          <a:xfrm>
            <a:off x="500040" y="2911320"/>
            <a:ext cx="349200" cy="330480"/>
          </a:xfrm>
          <a:custGeom>
            <a:avLst/>
            <a:gdLst/>
            <a:ahLst/>
            <a:rect l="l" t="t" r="r" b="b"/>
            <a:pathLst>
              <a:path w="968" h="919">
                <a:moveTo>
                  <a:pt x="1513" y="8384"/>
                </a:moveTo>
                <a:cubicBezTo>
                  <a:pt x="1495" y="8598"/>
                  <a:pt x="1445" y="8776"/>
                  <a:pt x="1389" y="8979"/>
                </a:cubicBezTo>
                <a:cubicBezTo>
                  <a:pt x="1389" y="8987"/>
                  <a:pt x="1389" y="8996"/>
                  <a:pt x="1389" y="9004"/>
                </a:cubicBezTo>
                <a:cubicBezTo>
                  <a:pt x="1389" y="8773"/>
                  <a:pt x="1403" y="8512"/>
                  <a:pt x="1538" y="8310"/>
                </a:cubicBezTo>
                <a:cubicBezTo>
                  <a:pt x="1571" y="8285"/>
                  <a:pt x="1604" y="8260"/>
                  <a:pt x="1637" y="8235"/>
                </a:cubicBezTo>
                <a:cubicBezTo>
                  <a:pt x="1812" y="8330"/>
                  <a:pt x="1802" y="8609"/>
                  <a:pt x="1786" y="8830"/>
                </a:cubicBezTo>
                <a:cubicBezTo>
                  <a:pt x="1782" y="8887"/>
                  <a:pt x="1757" y="9009"/>
                  <a:pt x="1736" y="8905"/>
                </a:cubicBezTo>
              </a:path>
              <a:path w="968" h="919">
                <a:moveTo>
                  <a:pt x="1414" y="8756"/>
                </a:moveTo>
                <a:cubicBezTo>
                  <a:pt x="1555" y="8690"/>
                  <a:pt x="1704" y="8665"/>
                  <a:pt x="1860" y="8632"/>
                </a:cubicBezTo>
              </a:path>
              <a:path w="968" h="919">
                <a:moveTo>
                  <a:pt x="2356" y="8086"/>
                </a:moveTo>
                <a:cubicBezTo>
                  <a:pt x="2178" y="8325"/>
                  <a:pt x="2102" y="8596"/>
                  <a:pt x="2183" y="8905"/>
                </a:cubicBezTo>
                <a:cubicBezTo>
                  <a:pt x="2212" y="9017"/>
                  <a:pt x="2212" y="9004"/>
                  <a:pt x="2282" y="900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42" name=""/>
          <p:cNvSpPr/>
          <p:nvPr/>
        </p:nvSpPr>
        <p:spPr>
          <a:xfrm>
            <a:off x="1017720" y="2938320"/>
            <a:ext cx="152280" cy="231840"/>
          </a:xfrm>
          <a:custGeom>
            <a:avLst/>
            <a:gdLst/>
            <a:ahLst/>
            <a:rect l="l" t="t" r="r" b="b"/>
            <a:pathLst>
              <a:path w="422" h="646">
                <a:moveTo>
                  <a:pt x="2927" y="8235"/>
                </a:moveTo>
                <a:cubicBezTo>
                  <a:pt x="2934" y="8230"/>
                  <a:pt x="3204" y="8099"/>
                  <a:pt x="3175" y="8235"/>
                </a:cubicBezTo>
                <a:cubicBezTo>
                  <a:pt x="3104" y="8353"/>
                  <a:pt x="3084" y="8389"/>
                  <a:pt x="3026" y="8458"/>
                </a:cubicBezTo>
                <a:cubicBezTo>
                  <a:pt x="3018" y="8466"/>
                  <a:pt x="3009" y="8475"/>
                  <a:pt x="3001" y="8483"/>
                </a:cubicBezTo>
                <a:cubicBezTo>
                  <a:pt x="3048" y="8374"/>
                  <a:pt x="3263" y="8403"/>
                  <a:pt x="3249" y="8558"/>
                </a:cubicBezTo>
                <a:cubicBezTo>
                  <a:pt x="3233" y="8735"/>
                  <a:pt x="2971" y="8883"/>
                  <a:pt x="2828" y="8756"/>
                </a:cubicBezTo>
                <a:cubicBezTo>
                  <a:pt x="2828" y="8739"/>
                  <a:pt x="2828" y="8723"/>
                  <a:pt x="2828" y="870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43" name=""/>
          <p:cNvSpPr/>
          <p:nvPr/>
        </p:nvSpPr>
        <p:spPr>
          <a:xfrm>
            <a:off x="1320840" y="2955960"/>
            <a:ext cx="135000" cy="206280"/>
          </a:xfrm>
          <a:custGeom>
            <a:avLst/>
            <a:gdLst/>
            <a:ahLst/>
            <a:rect l="l" t="t" r="r" b="b"/>
            <a:pathLst>
              <a:path w="373" h="572">
                <a:moveTo>
                  <a:pt x="3746" y="8285"/>
                </a:moveTo>
                <a:cubicBezTo>
                  <a:pt x="3808" y="8222"/>
                  <a:pt x="3983" y="8161"/>
                  <a:pt x="3944" y="8334"/>
                </a:cubicBezTo>
                <a:cubicBezTo>
                  <a:pt x="3903" y="8417"/>
                  <a:pt x="3903" y="8442"/>
                  <a:pt x="3845" y="8458"/>
                </a:cubicBezTo>
                <a:cubicBezTo>
                  <a:pt x="3926" y="8474"/>
                  <a:pt x="4037" y="8505"/>
                  <a:pt x="4043" y="8607"/>
                </a:cubicBezTo>
                <a:cubicBezTo>
                  <a:pt x="4053" y="8765"/>
                  <a:pt x="3720" y="8880"/>
                  <a:pt x="3671" y="8731"/>
                </a:cubicBezTo>
                <a:cubicBezTo>
                  <a:pt x="3679" y="8681"/>
                  <a:pt x="3688" y="8632"/>
                  <a:pt x="3696" y="858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44" name=""/>
          <p:cNvSpPr/>
          <p:nvPr/>
        </p:nvSpPr>
        <p:spPr>
          <a:xfrm>
            <a:off x="892080" y="3044880"/>
            <a:ext cx="100080" cy="19080"/>
          </a:xfrm>
          <a:custGeom>
            <a:avLst/>
            <a:gdLst/>
            <a:ahLst/>
            <a:rect l="l" t="t" r="r" b="b"/>
            <a:pathLst>
              <a:path w="274" h="51">
                <a:moveTo>
                  <a:pt x="2480" y="8508"/>
                </a:moveTo>
                <a:cubicBezTo>
                  <a:pt x="2573" y="8488"/>
                  <a:pt x="2661" y="8478"/>
                  <a:pt x="2753" y="8458"/>
                </a:cubicBezTo>
              </a:path>
            </a:pathLst>
          </a:custGeom>
          <a:noFill/>
          <a:ln cap="rnd" w="34920">
            <a:solidFill>
              <a:srgbClr val="ff0000"/>
            </a:solidFill>
            <a:round/>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345" name=""/>
          <p:cNvSpPr/>
          <p:nvPr/>
        </p:nvSpPr>
        <p:spPr>
          <a:xfrm>
            <a:off x="5786280" y="2187720"/>
            <a:ext cx="2330640" cy="44280"/>
          </a:xfrm>
          <a:custGeom>
            <a:avLst/>
            <a:gdLst/>
            <a:ahLst/>
            <a:rect l="l" t="t" r="r" b="b"/>
            <a:pathLst>
              <a:path w="6475" h="125">
                <a:moveTo>
                  <a:pt x="16073" y="6127"/>
                </a:moveTo>
                <a:cubicBezTo>
                  <a:pt x="16266" y="6127"/>
                  <a:pt x="16452" y="6105"/>
                  <a:pt x="16644" y="6102"/>
                </a:cubicBezTo>
                <a:cubicBezTo>
                  <a:pt x="16927" y="6097"/>
                  <a:pt x="17206" y="6112"/>
                  <a:pt x="17487" y="6127"/>
                </a:cubicBezTo>
                <a:cubicBezTo>
                  <a:pt x="17684" y="6138"/>
                  <a:pt x="17884" y="6102"/>
                  <a:pt x="18083" y="6102"/>
                </a:cubicBezTo>
                <a:cubicBezTo>
                  <a:pt x="18321" y="6102"/>
                  <a:pt x="18566" y="6061"/>
                  <a:pt x="18802" y="6077"/>
                </a:cubicBezTo>
                <a:cubicBezTo>
                  <a:pt x="19010" y="6091"/>
                  <a:pt x="19216" y="6060"/>
                  <a:pt x="19422" y="6077"/>
                </a:cubicBezTo>
                <a:cubicBezTo>
                  <a:pt x="19584" y="6090"/>
                  <a:pt x="19756" y="6084"/>
                  <a:pt x="19918" y="6102"/>
                </a:cubicBezTo>
                <a:cubicBezTo>
                  <a:pt x="20048" y="6117"/>
                  <a:pt x="20187" y="6109"/>
                  <a:pt x="20315" y="6127"/>
                </a:cubicBezTo>
                <a:cubicBezTo>
                  <a:pt x="20458" y="6147"/>
                  <a:pt x="20592" y="6152"/>
                  <a:pt x="20737" y="6152"/>
                </a:cubicBezTo>
                <a:cubicBezTo>
                  <a:pt x="20889" y="6152"/>
                  <a:pt x="21032" y="6172"/>
                  <a:pt x="21183" y="6176"/>
                </a:cubicBezTo>
                <a:cubicBezTo>
                  <a:pt x="21466" y="6183"/>
                  <a:pt x="21746" y="6181"/>
                  <a:pt x="22027" y="6201"/>
                </a:cubicBezTo>
                <a:cubicBezTo>
                  <a:pt x="22189" y="6213"/>
                  <a:pt x="22342" y="6192"/>
                  <a:pt x="22498" y="6176"/>
                </a:cubicBezTo>
                <a:cubicBezTo>
                  <a:pt x="22523" y="6176"/>
                  <a:pt x="22531" y="6176"/>
                  <a:pt x="22547" y="6176"/>
                </a:cubicBezTo>
              </a:path>
            </a:pathLst>
          </a:custGeom>
          <a:noFill/>
          <a:ln cap="rnd" w="34920">
            <a:solidFill>
              <a:srgbClr val="ff0000"/>
            </a:solidFill>
            <a:round/>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499"/>
                                          </p:stCondLst>
                                        </p:cTn>
                                        <p:tgtEl>
                                          <p:spTgt spid="3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omework:</a:t>
            </a:r>
            <a:endParaRPr b="0" lang="en-US" sz="4400" spc="-1" strike="noStrike">
              <a:solidFill>
                <a:srgbClr val="ccecff"/>
              </a:solidFill>
              <a:latin typeface="Arial"/>
            </a:endParaRPr>
          </a:p>
        </p:txBody>
      </p:sp>
      <p:sp>
        <p:nvSpPr>
          <p:cNvPr id="347"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Arial"/>
              </a:rPr>
              <a:t>Practice With Reflections Worksheet</a:t>
            </a:r>
            <a:endParaRPr b="0" lang="en-US" sz="36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3T21:00:23Z</dcterms:created>
  <dc:creator>ccps</dc:creator>
  <dc:description/>
  <dc:language>en-US</dc:language>
  <cp:lastModifiedBy>demcgra</cp:lastModifiedBy>
  <dcterms:modified xsi:type="dcterms:W3CDTF">2012-04-16T19:23:49Z</dcterms:modified>
  <cp:revision>9</cp:revision>
  <dc:subject/>
  <dc:title>Slide 1</dc:title>
</cp:coreProperties>
</file>